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3BCE16-7A05-4DA9-9684-6C0DBA46F5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47DBB5-E49D-458B-87C6-1F14B31D6E4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059EC8-548D-453E-A6DC-5AB10A5AAA0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220605-84E0-4DDC-A7D1-E50CEBDB0C1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CA-D08E-41A7-9D69-D9003319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66C-3B7A-4AAB-9E9E-F5B808A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D6B-D978-4E9D-8D3E-7D1E512A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2A3-9B56-4A62-9B2C-A33F9D25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CAB-BB8C-4992-90BE-044BD9AA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CDA-E305-4FC1-8C3C-F79B48D4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627-4B40-4FC7-A1DB-9B3BFA3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7B6-922B-4C8F-8A1A-F6299A7D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2EE-453F-470C-BBE7-0237DA6E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851-5300-471D-93CF-4F62B26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C85-0489-4774-83FA-4A04479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94E-7BDF-46A7-95AC-F474369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ept 29 – Oct 3 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26920" y="640044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ahoma"/>
              </a:rPr>
              <a:t>7th FLUKA Course - NEA Par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517C-B7F6-45B3-A84D-066DDDE4C90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rn.ch/fluka-course/nea2008" TargetMode="External"/><Relationship Id="rId2" Type="http://schemas.openxmlformats.org/officeDocument/2006/relationships/hyperlink" Target="http://www.cern.ch/fluka-course/nea2008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ercise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132000" y="4436640"/>
            <a:ext cx="5112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1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Proton beam impinging on a cylinder of pre-def material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et the source example files from the course website </a:t>
            </a:r>
            <a:br>
              <a:rPr sz="1800"/>
            </a:br>
            <a:br>
              <a:rPr sz="12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cern.ch/fluka-course/nea2008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wnload all the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x1*.in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iles to ~/work/ex1 directory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ifferent input forma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80000"/>
              <a:buFont typeface="Tahoma"/>
              <a:buChar char="•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1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xed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rd form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ree geometry format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(RECOMMENDED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•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1free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ree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rd form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ree geometry format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obsolete (but supported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•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1fix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xed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rd form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xed geometry format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(DEFAULT)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•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1double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xed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rd form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high-accuracy fixed geometry format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Tahoma"/>
              <a:buChar char="•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1fixfree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ree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rd form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xed geometry format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39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un ex1.inp in the ex1 d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$FLUPRO/flutil/rfluka –N0 –M4 ex1 &amp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ok at the .out fi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mac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or any editor]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ex1001.out &amp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the inelastic scattering length for beam particles in the targ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the beam momentum spread into energy spread (in MeV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rmine how many primaries are needed to have a run (with 4 cycles) lasting in total as many minutes as the number of neutrons of the 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’s isotop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the fraction of energy leaving the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lculate the power leaving the system for a beam current of 4mA (in S.I. unit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13T12:12:22Z</dcterms:modified>
  <cp:revision>889</cp:revision>
  <dc:subject/>
  <dc:title>PowerPoint Presentation</dc:title>
</cp:coreProperties>
</file>