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5.xml.rels" ContentType="application/vnd.openxmlformats-package.relationships+xml"/>
  <Override PartName="/ppt/notesSlides/notesSlide35.xml" ContentType="application/vnd.openxmlformats-officedocument.presentationml.notesSlide+xml"/>
  <Override PartName="/ppt/_rels/presentation.xml.rels" ContentType="application/vnd.openxmlformats-package.relationships+xml"/>
  <Override PartName="/ppt/media/image24.jpeg" ContentType="image/jpeg"/>
  <Override PartName="/ppt/media/image23.jpeg" ContentType="image/jpeg"/>
  <Override PartName="/ppt/media/image22.jpeg" ContentType="image/jpeg"/>
  <Override PartName="/ppt/media/image21.jpeg" ContentType="image/jpeg"/>
  <Override PartName="/ppt/media/image32.wmf" ContentType="image/x-wmf"/>
  <Override PartName="/ppt/media/image20.jpeg" ContentType="image/jpeg"/>
  <Override PartName="/ppt/media/image19.jpeg" ContentType="image/jpeg"/>
  <Override PartName="/ppt/media/image7.jpeg" ContentType="image/jpeg"/>
  <Override PartName="/ppt/media/image28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35.jpeg" ContentType="image/jpeg"/>
  <Override PartName="/ppt/media/image13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12.jpeg" ContentType="image/jpeg"/>
  <Override PartName="/ppt/media/image34.png" ContentType="image/png"/>
  <Override PartName="/ppt/media/image36.jpeg" ContentType="image/jpeg"/>
  <Override PartName="/ppt/media/image11.jpeg" ContentType="image/jpeg"/>
  <Override PartName="/ppt/media/image9.jpeg" ContentType="image/jpeg"/>
  <Override PartName="/ppt/media/image5.jpeg" ContentType="image/jpeg"/>
  <Override PartName="/ppt/media/image26.jpeg" ContentType="image/jpeg"/>
  <Override PartName="/ppt/media/image3.png" ContentType="image/png"/>
  <Override PartName="/ppt/media/image17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</p:sldIdLst>
  <p:sldSz cx="9144000" cy="6858000"/>
  <p:notesSz cx="6732588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732000" cy="985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89360" cy="530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00160" y="-360"/>
            <a:ext cx="2965320" cy="530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909360" y="757080"/>
            <a:ext cx="4949640" cy="3711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912600" y="4695840"/>
            <a:ext cx="4941720" cy="4395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0" y="9394560"/>
            <a:ext cx="2889360" cy="45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00160" y="9394560"/>
            <a:ext cx="2965320" cy="45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E4BFB77-8717-421F-8633-BF222BB1C2A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 txBox="1"/>
          <p:nvPr/>
        </p:nvSpPr>
        <p:spPr>
          <a:xfrm>
            <a:off x="3800160" y="9394560"/>
            <a:ext cx="2965320" cy="45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3B77AFA-2597-4F6F-BB9A-A3F8627B830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0" y="9394560"/>
            <a:ext cx="2889360" cy="45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0" y="-360"/>
            <a:ext cx="2889360" cy="530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800160" y="-360"/>
            <a:ext cx="2965320" cy="530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901800" y="738360"/>
            <a:ext cx="4927680" cy="36954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73200" y="4679640"/>
            <a:ext cx="53848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ED059-58B4-45EC-8DC8-D57BA5BFC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27288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10920" y="1125360"/>
            <a:ext cx="792468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10920" y="3831840"/>
            <a:ext cx="792468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B37E8-0ADB-4CBF-99D5-B31014A4F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27288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0920" y="1125360"/>
            <a:ext cx="386712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1720" y="1125360"/>
            <a:ext cx="386712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0920" y="3831840"/>
            <a:ext cx="386712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1720" y="3831840"/>
            <a:ext cx="386712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58453-6CA8-483C-B8C1-7E957CEE3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7288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10920" y="1125360"/>
            <a:ext cx="255168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90400" y="1125360"/>
            <a:ext cx="255168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70240" y="1125360"/>
            <a:ext cx="255168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10920" y="3831840"/>
            <a:ext cx="255168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90400" y="3831840"/>
            <a:ext cx="255168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70240" y="3831840"/>
            <a:ext cx="255168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9A836-297A-4E83-8258-5C27453CC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BD78A-0E04-4EE6-9CDB-0B96C9B2D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7288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10920" y="1125360"/>
            <a:ext cx="792468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BF6A7-6CA1-4AC6-80E3-A982DEA62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7288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10920" y="1125360"/>
            <a:ext cx="7924680" cy="518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29553-5AB0-4F15-BA83-FE6A19D98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7288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10920" y="1125360"/>
            <a:ext cx="3867120" cy="518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1720" y="1125360"/>
            <a:ext cx="3867120" cy="518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0F079-EADF-4126-932C-0F55768A3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7288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9ECA2-9106-459F-AB2F-E889EF1C7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6EB32-73AA-4251-BB9E-4BB933B6F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7288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10920" y="1125360"/>
            <a:ext cx="386712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1720" y="1125360"/>
            <a:ext cx="3867120" cy="518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10920" y="3831840"/>
            <a:ext cx="386712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EA93C-A526-4F42-807A-574546747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7288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10920" y="1125360"/>
            <a:ext cx="792468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5DF2B-C520-49DA-BF0C-9E05F3854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7288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10920" y="1125360"/>
            <a:ext cx="3867120" cy="518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1720" y="1125360"/>
            <a:ext cx="386712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1720" y="3831840"/>
            <a:ext cx="386712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CB754-ABAA-40C8-9392-210F0CF47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7288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10920" y="1125360"/>
            <a:ext cx="386712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720" y="1125360"/>
            <a:ext cx="386712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0920" y="3831840"/>
            <a:ext cx="792468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C8285-D1FF-499B-8DAF-0470BD208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7288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10920" y="1125360"/>
            <a:ext cx="792468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10920" y="3831840"/>
            <a:ext cx="792468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E7B69-C95F-4DE1-8D85-DF298BADD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7288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10920" y="1125360"/>
            <a:ext cx="386712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1720" y="1125360"/>
            <a:ext cx="386712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10920" y="3831840"/>
            <a:ext cx="386712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1720" y="3831840"/>
            <a:ext cx="386712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73230-1C31-45B4-9142-F266B04DD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7288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10920" y="1125360"/>
            <a:ext cx="255168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90400" y="1125360"/>
            <a:ext cx="255168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970240" y="1125360"/>
            <a:ext cx="255168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10920" y="3831840"/>
            <a:ext cx="255168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90400" y="3831840"/>
            <a:ext cx="255168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970240" y="3831840"/>
            <a:ext cx="255168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FBF57-8ECA-4DBD-99ED-88041B780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7288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10920" y="1125360"/>
            <a:ext cx="7924680" cy="518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5DEB1-EA4D-4980-98D2-C8B0D86CA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27288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0920" y="1125360"/>
            <a:ext cx="3867120" cy="518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1720" y="1125360"/>
            <a:ext cx="3867120" cy="518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7702C-F34F-4901-AC96-6B21F0FFD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7288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0B1C0-107F-481F-8EB5-5B3492504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C6239-1E22-4A05-918A-717AE1F46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27288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0920" y="1125360"/>
            <a:ext cx="386712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1720" y="1125360"/>
            <a:ext cx="3867120" cy="518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10920" y="3831840"/>
            <a:ext cx="386712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E13B5-0533-4BF3-9855-EEE72E130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27288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0920" y="1125360"/>
            <a:ext cx="3867120" cy="518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1720" y="1125360"/>
            <a:ext cx="386712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1720" y="3831840"/>
            <a:ext cx="386712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CE5EA-5573-4C93-A656-97A4642D7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7288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0920" y="1125360"/>
            <a:ext cx="386712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125360"/>
            <a:ext cx="386712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10920" y="3831840"/>
            <a:ext cx="792468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A4E72-A0DA-4A20-97FF-713589F82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1768320"/>
            <a:ext cx="9144000" cy="332136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3352680" y="0"/>
            <a:ext cx="5791320" cy="152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8839080" y="0"/>
            <a:ext cx="0" cy="236232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04920" y="533520"/>
            <a:ext cx="1893600" cy="2590560"/>
            <a:chOff x="304920" y="533520"/>
            <a:chExt cx="1893600" cy="2590560"/>
          </a:xfrm>
        </p:grpSpPr>
        <p:sp>
          <p:nvSpPr>
            <p:cNvPr id="4" name=""/>
            <p:cNvSpPr/>
            <p:nvPr/>
          </p:nvSpPr>
          <p:spPr>
            <a:xfrm flipH="1">
              <a:off x="304920" y="898560"/>
              <a:ext cx="1893600" cy="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8040" y="533520"/>
              <a:ext cx="0" cy="259056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15880" y="803160"/>
              <a:ext cx="191880" cy="193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162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16200000"/>
                </a:path>
              </a:pathLst>
            </a:custGeom>
            <a:noFill/>
            <a:ln cap="rnd"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610920" y="1125360"/>
            <a:ext cx="7924680" cy="518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6f89f7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68580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2626920" y="6400440"/>
            <a:ext cx="44658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933960" y="6400440"/>
            <a:ext cx="1600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8C780-8CF3-4F20-9634-2BBA8F2315C4}" type="slidenum">
              <a:rPr b="0" lang="en-US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440" y="887400"/>
            <a:ext cx="6654600" cy="2851200"/>
            <a:chOff x="1440" y="887400"/>
            <a:chExt cx="6654600" cy="2851200"/>
          </a:xfrm>
        </p:grpSpPr>
        <p:sp>
          <p:nvSpPr>
            <p:cNvPr id="49" name=""/>
            <p:cNvSpPr/>
            <p:nvPr/>
          </p:nvSpPr>
          <p:spPr>
            <a:xfrm>
              <a:off x="803160" y="887400"/>
              <a:ext cx="0" cy="285120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 flipV="1">
              <a:off x="1440" y="3050640"/>
              <a:ext cx="5097600" cy="180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606240" y="1486080"/>
              <a:ext cx="6049800" cy="144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rot="16200000">
              <a:off x="675360" y="1372680"/>
              <a:ext cx="247320" cy="248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9" y="10939"/>
                  </a:moveTo>
                  <a:arcTo wR="10800" hR="10800" stAng="44359" swAng="16199433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9" y="10939"/>
                  </a:moveTo>
                  <a:arcTo wR="10800" hR="10800" stAng="44359" swAng="16199433"/>
                </a:path>
              </a:pathLst>
            </a:custGeom>
            <a:noFill/>
            <a:ln cap="rnd"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2349360" y="3098880"/>
            <a:ext cx="6045480" cy="2876400"/>
            <a:chOff x="2349360" y="3098880"/>
            <a:chExt cx="6045480" cy="2876400"/>
          </a:xfrm>
        </p:grpSpPr>
        <p:sp>
          <p:nvSpPr>
            <p:cNvPr id="54" name=""/>
            <p:cNvSpPr/>
            <p:nvPr/>
          </p:nvSpPr>
          <p:spPr>
            <a:xfrm>
              <a:off x="2349360" y="5464080"/>
              <a:ext cx="6045480" cy="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10520" y="3098880"/>
              <a:ext cx="0" cy="287640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rot="5400000">
              <a:off x="8092080" y="5318640"/>
              <a:ext cx="247320" cy="249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25" y="4"/>
                  </a:moveTo>
                  <a:arcTo wR="10800" hR="10800" stAng="-5487570" swAng="1628757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25" y="4"/>
                  </a:moveTo>
                  <a:arcTo wR="10800" hR="10800" stAng="-5487570" swAng="16287570"/>
                </a:path>
              </a:pathLst>
            </a:custGeom>
            <a:noFill/>
            <a:ln cap="rnd"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53A8B-FAF6-4BFE-9CA2-8CE14A87B8C8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400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34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34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34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34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71280" y="1915920"/>
            <a:ext cx="7916760" cy="64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Nuclear effects in FLUKA</a:t>
            </a:r>
            <a:r>
              <a:rPr b="0" lang="en-GB" sz="3200" spc="-1" strike="noStrike">
                <a:solidFill>
                  <a:srgbClr val="660066"/>
                </a:solidFill>
                <a:latin typeface="Tahoma"/>
                <a:ea typeface="Tahoma"/>
              </a:rPr>
              <a:t>. 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2195280" y="4581000"/>
            <a:ext cx="604836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45th Karpacz Winter School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Feb. 2-8, 2009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6242040" y="0"/>
            <a:ext cx="2901960" cy="10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617220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Tahoma"/>
              </a:rPr>
              <a:t>Formation zone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1295280"/>
            <a:ext cx="84740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Naively: “materialization time”. Qualitative estimate: in the frame where p</a:t>
            </a:r>
            <a:r>
              <a:rPr b="0" lang="en-US" sz="2400" spc="-1" strike="noStrike" baseline="-25000">
                <a:solidFill>
                  <a:srgbClr val="40458c"/>
                </a:solidFill>
                <a:latin typeface="Arial"/>
              </a:rPr>
              <a:t>||</a:t>
            </a: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=0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3505320" y="1752480"/>
                <a:ext cx="3352680" cy="105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t</m:t>
                        </m:r>
                      </m:e>
                      <m:lim/>
                    </m:limUpp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Δt</m:t>
                    </m:r>
                    <m:r>
                      <m:t xml:space="preserve">≈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h</m:t>
                        </m:r>
                      </m:num>
                      <m:den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h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sSubSup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M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3505320" y="2895480"/>
                <a:ext cx="2727360" cy="9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τ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den>
                    </m:f>
                    <m:limUpp>
                      <m:e>
                        <m:r>
                          <m:t xml:space="preserve">t</m:t>
                        </m:r>
                      </m:e>
                      <m:lim/>
                    </m:limUpp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h</m:t>
                        </m:r>
                        <m:r>
                          <m:t xml:space="preserve"> </m:t>
                        </m:r>
                        <m:r>
                          <m:t xml:space="preserve">M</m:t>
                        </m:r>
                      </m:num>
                      <m:den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M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1" name=""/>
          <p:cNvSpPr/>
          <p:nvPr/>
        </p:nvSpPr>
        <p:spPr>
          <a:xfrm>
            <a:off x="383040" y="3124080"/>
            <a:ext cx="287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particle proper time: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58280" y="4191120"/>
            <a:ext cx="297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going to lab system: 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3429000" y="3962520"/>
                <a:ext cx="4119480" cy="9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ab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ab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den>
                    </m:f>
                    <m:limUpp>
                      <m:e>
                        <m:r>
                          <m:t xml:space="preserve">t</m:t>
                        </m:r>
                      </m:e>
                      <m:lim/>
                    </m:limUpp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ab</m:t>
                            </m:r>
                          </m:sub>
                        </m:sSub>
                      </m:num>
                      <m:den>
                        <m:r>
                          <m:t xml:space="preserve">M</m:t>
                        </m:r>
                      </m:den>
                    </m:f>
                    <m:r>
                      <m:t xml:space="preserve">τ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h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ab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M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4" name=""/>
          <p:cNvSpPr/>
          <p:nvPr/>
        </p:nvSpPr>
        <p:spPr>
          <a:xfrm>
            <a:off x="478080" y="5105520"/>
            <a:ext cx="818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ondition for possible reinteraction inside a nucleus: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3352680" y="5562720"/>
                <a:ext cx="2471760" cy="76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ab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≤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≈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 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sup>
                    </m:sSup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6" name=""/>
          <p:cNvSpPr/>
          <p:nvPr/>
        </p:nvSpPr>
        <p:spPr>
          <a:xfrm flipV="1">
            <a:off x="4648320" y="1828440"/>
            <a:ext cx="30456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5881680" y="1828440"/>
            <a:ext cx="30492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5195880" y="2971440"/>
            <a:ext cx="30492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39F6A-1CA5-4BA8-A4F8-6751D35703E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371600" y="457200"/>
            <a:ext cx="58672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Tahoma"/>
              </a:rPr>
              <a:t>Coherence Length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1258920"/>
            <a:ext cx="8915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oherence length = formation time for elastic or quasi-elastic interactions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13480" y="2209680"/>
            <a:ext cx="650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Given a 2-body interaction with momentum transfer: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6877080" y="2133720"/>
                <a:ext cx="173340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63" name=""/>
          <p:cNvSpPr/>
          <p:nvPr/>
        </p:nvSpPr>
        <p:spPr>
          <a:xfrm>
            <a:off x="217080" y="2819520"/>
            <a:ext cx="797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the energy seen in a frame where particle 2 is at rest is given by: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2514600" y="3200400"/>
                <a:ext cx="2471760" cy="96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E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ν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q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5" name=""/>
          <p:cNvSpPr/>
          <p:nvPr/>
        </p:nvSpPr>
        <p:spPr>
          <a:xfrm>
            <a:off x="304920" y="3962520"/>
            <a:ext cx="794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From uncertainty principle there is an indetermination in proper time given by: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2438280" y="4343400"/>
                <a:ext cx="170496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τ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ΔE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7" name=""/>
          <p:cNvSpPr/>
          <p:nvPr/>
        </p:nvSpPr>
        <p:spPr>
          <a:xfrm>
            <a:off x="302400" y="5105520"/>
            <a:ext cx="295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Boosting to lab frame: 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3298680" y="4848120"/>
                <a:ext cx="386424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ab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ab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⋅</m:t>
                    </m:r>
                    <m:r>
                      <m:t xml:space="preserve">Δτ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ab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h</m:t>
                        </m:r>
                      </m:num>
                      <m:den>
                        <m:sSub>
                          <m:e>
                            <m:r>
                              <m:t xml:space="preserve">ν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9" name=""/>
          <p:cNvSpPr/>
          <p:nvPr/>
        </p:nvSpPr>
        <p:spPr>
          <a:xfrm>
            <a:off x="1518120" y="5915160"/>
            <a:ext cx="565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40458c"/>
                </a:solidFill>
                <a:latin typeface="Arial"/>
              </a:rPr>
              <a:t>there is an analogue expression for particle 1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6753240" y="4924080"/>
            <a:ext cx="30492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3838680" y="4447800"/>
            <a:ext cx="30456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BFB56-0FED-4ACE-BD4B-AB229C968C5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6868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Tahoma"/>
              </a:rPr>
              <a:t>Effects on neutrino interactions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1676520"/>
            <a:ext cx="4572000" cy="432108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4419720" y="1676520"/>
            <a:ext cx="4724280" cy="4552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766440" y="1447920"/>
            <a:ext cx="26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Hadron multiplcity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412960" y="1447920"/>
            <a:ext cx="251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Hadron spectrum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841320" y="6095880"/>
            <a:ext cx="702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Presented @NUINT02: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FLUKA+NUX</a:t>
            </a: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40458c"/>
                </a:solidFill>
                <a:latin typeface="Arial"/>
              </a:rPr>
              <a:t>(with A.Rubbia)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C4C8C-CCDF-42B2-AF9B-A799B2A31F1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99840" y="228600"/>
            <a:ext cx="609588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Tahoma"/>
              </a:rPr>
              <a:t>Pions inside nuclear matter 1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3962520" y="1066680"/>
            <a:ext cx="4836960" cy="467064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380880" y="1523880"/>
            <a:ext cx="3429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Pion trajectories inside the nucleus are calculated using a complex nuclear potential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33520" y="3200400"/>
            <a:ext cx="3429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This is both Energy and position dependent, with a resonant structure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33520" y="4800600"/>
            <a:ext cx="3673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Real part of potential for </a:t>
            </a:r>
            <a:r>
              <a:rPr b="1" lang="en-US" sz="2000" spc="-1" strike="noStrike">
                <a:solidFill>
                  <a:srgbClr val="cc0000"/>
                </a:solidFill>
                <a:latin typeface="Symbol"/>
                <a:ea typeface="Symbol"/>
              </a:rPr>
              <a:t></a:t>
            </a:r>
            <a:r>
              <a:rPr b="1" lang="en-US" sz="2000" spc="-1" strike="noStrike" baseline="30000">
                <a:solidFill>
                  <a:srgbClr val="cc0000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 on </a:t>
            </a:r>
            <a:r>
              <a:rPr b="1" lang="en-US" sz="2000" spc="-1" strike="noStrike" baseline="30000">
                <a:solidFill>
                  <a:srgbClr val="cc0000"/>
                </a:solidFill>
                <a:latin typeface="Arial"/>
              </a:rPr>
              <a:t>16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O as a function of radius for different </a:t>
            </a:r>
            <a:r>
              <a:rPr b="1" lang="en-US" sz="2000" spc="-1" strike="noStrike">
                <a:solidFill>
                  <a:srgbClr val="cc0000"/>
                </a:solidFill>
                <a:latin typeface="Symbol"/>
                <a:ea typeface="Symbol"/>
              </a:rPr>
              <a:t>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 energies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3581280" y="4419720"/>
            <a:ext cx="685800" cy="38088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9B51A-E208-4529-A10B-D724C5D4671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6095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Tahoma"/>
              </a:rPr>
              <a:t>Pions inside nuclear matter 2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5" name=""/>
          <p:cNvSpPr/>
          <p:nvPr/>
        </p:nvSpPr>
        <p:spPr>
          <a:xfrm>
            <a:off x="445680" y="1101600"/>
            <a:ext cx="82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-nucleon interactions: non resonant + p-wave resonant </a:t>
            </a:r>
            <a:r>
              <a:rPr b="0" lang="en-US" sz="2400" spc="-1" strike="noStrike">
                <a:solidFill>
                  <a:srgbClr val="40458c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’s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801360" y="1676520"/>
            <a:ext cx="748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Symbol"/>
                <a:ea typeface="Symbol"/>
              </a:rPr>
              <a:t></a:t>
            </a: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in nuclear medium: width different from the free one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17680" y="2244600"/>
            <a:ext cx="8092800" cy="26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250"/>
              </a:spcBef>
              <a:buClr>
                <a:srgbClr val="cc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assume a Breit-Wigner for the free resonant cross section with width </a:t>
            </a:r>
            <a:r>
              <a:rPr b="1" lang="en-US" sz="2000" spc="-1" strike="noStrike">
                <a:solidFill>
                  <a:srgbClr val="cc0000"/>
                </a:solidFill>
                <a:latin typeface="Symbol"/>
                <a:ea typeface="Symbol"/>
              </a:rPr>
              <a:t></a:t>
            </a:r>
            <a:r>
              <a:rPr b="1" lang="en-US" sz="2000" spc="-1" strike="noStrike" baseline="-25000">
                <a:solidFill>
                  <a:srgbClr val="cc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 marL="457200" indent="-457200">
              <a:spcBef>
                <a:spcPts val="1250"/>
              </a:spcBef>
              <a:buClr>
                <a:srgbClr val="40458c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 marL="457200" indent="-457200">
              <a:spcBef>
                <a:spcPts val="1250"/>
              </a:spcBef>
              <a:buClr>
                <a:srgbClr val="40458c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 marL="457200" indent="-457200">
              <a:spcBef>
                <a:spcPts val="1250"/>
              </a:spcBef>
              <a:buClr>
                <a:srgbClr val="40458c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 marL="457200" indent="-457200">
              <a:spcBef>
                <a:spcPts val="1250"/>
              </a:spcBef>
              <a:buClr>
                <a:srgbClr val="cc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Add “in medium” width (Oset et al, NPA 468, 631):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1828800" y="2666880"/>
                <a:ext cx="5638680" cy="113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es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Free</m:t>
                        </m:r>
                      </m:sup>
                    </m:sSubSup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8</m:t>
                        </m:r>
                        <m:r>
                          <m:t xml:space="preserve">π</m:t>
                        </m:r>
                      </m:num>
                      <m:den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m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  <m:r>
                      <m:t xml:space="preserve"> </m:t>
                    </m:r>
                    <m:f>
                      <m:num>
                        <m:sSubSup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Δ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sSub>
                          <m:e>
                            <m:r>
                              <m:t xml:space="preserve">Γ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m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Δ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sSubSup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Δ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 </m:t>
                        </m:r>
                        <m:sSub>
                          <m:e>
                            <m:r>
                              <m:t xml:space="preserve">Γ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m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1371600" y="4495680"/>
                <a:ext cx="6019920" cy="96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t xml:space="preserve">Γ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t xml:space="preserve">Γ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Im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Δ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Δ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qe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0" name=""/>
          <p:cNvSpPr/>
          <p:nvPr/>
        </p:nvSpPr>
        <p:spPr>
          <a:xfrm>
            <a:off x="0" y="5562720"/>
            <a:ext cx="813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widths for quasielastic scattering, 2- and 3-body absorption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>
            <a:off x="5562360" y="5181480"/>
            <a:ext cx="609480" cy="457200"/>
          </a:xfrm>
          <a:prstGeom prst="line">
            <a:avLst/>
          </a:prstGeom>
          <a:ln w="2844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4440" y="6019920"/>
            <a:ext cx="90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Added 2-body s-wave absorption cross section from optical model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7E5F9-E57F-4F58-B0CF-48726A0C515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ahoma"/>
              </a:rPr>
              <a:t>Benchmark on pion absorption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3429000" y="914400"/>
            <a:ext cx="5487840" cy="513864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380880" y="1981080"/>
            <a:ext cx="3124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Computed and exp. pion absorption cross section on Al as a function of energy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28600" y="4191120"/>
            <a:ext cx="358128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Arial"/>
              </a:rPr>
              <a:t>D.Ashery et al, PRC 23 (1981) 2173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Arial"/>
              </a:rPr>
              <a:t>K.Nakai et al. PRL44 (1979) 1446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827280" y="5754600"/>
            <a:ext cx="70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this process in an example of multibody interaction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EAE54-2E6E-48A5-B894-5C082ED24A1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219320" y="228600"/>
            <a:ext cx="761976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Tahoma"/>
              </a:rPr>
              <a:t>Pion-nucleus interaction example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228600" y="1371600"/>
            <a:ext cx="4925880" cy="49528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5089680" y="2097000"/>
            <a:ext cx="3673440" cy="19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Computed and exp. </a:t>
            </a:r>
            <a:r>
              <a:rPr b="0" lang="en-US" sz="2400" spc="-1" strike="noStrike">
                <a:solidFill>
                  <a:srgbClr val="40458c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 angular distr. for </a:t>
            </a:r>
            <a:r>
              <a:rPr b="0" lang="en-US" sz="2400" spc="-1" strike="noStrike" baseline="30000">
                <a:solidFill>
                  <a:srgbClr val="40458c"/>
                </a:solidFill>
                <a:latin typeface="Arial"/>
              </a:rPr>
              <a:t>58</a:t>
            </a: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Ni(</a:t>
            </a:r>
            <a:r>
              <a:rPr b="0" lang="en-US" sz="2400" spc="-1" strike="noStrike">
                <a:solidFill>
                  <a:srgbClr val="40458c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 baseline="30000">
                <a:solidFill>
                  <a:srgbClr val="40458c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40458c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 baseline="30000">
                <a:solidFill>
                  <a:srgbClr val="40458c"/>
                </a:solidFill>
                <a:latin typeface="Arial"/>
              </a:rPr>
              <a:t>+’</a:t>
            </a: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) at 160 MeV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40458c"/>
                </a:solidFill>
                <a:latin typeface="Arial"/>
              </a:rPr>
              <a:t>Data from R.D. McKeown et al., PRC 24 (1981) 211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DFAF2-9903-44B3-A81E-93750DE0DC4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676160" y="0"/>
            <a:ext cx="57150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Symbol"/>
                <a:ea typeface="Symbol"/>
              </a:rPr>
              <a:t></a:t>
            </a:r>
            <a:r>
              <a:rPr b="1" lang="en-US" sz="2400" spc="-1" strike="noStrike">
                <a:solidFill>
                  <a:srgbClr val="0066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6600"/>
                </a:solidFill>
                <a:latin typeface="Tahoma"/>
              </a:rPr>
              <a:t>in </a:t>
            </a:r>
            <a:r>
              <a:rPr b="1" lang="en-US" sz="2400" spc="-1" strike="noStrike">
                <a:solidFill>
                  <a:srgbClr val="006600"/>
                </a:solidFill>
                <a:latin typeface="Symbol"/>
                <a:ea typeface="Symbol"/>
              </a:rPr>
              <a:t></a:t>
            </a:r>
            <a:r>
              <a:rPr b="1" lang="en-US" sz="2400" spc="-1" strike="noStrike">
                <a:solidFill>
                  <a:srgbClr val="006600"/>
                </a:solidFill>
                <a:latin typeface="Tahoma"/>
              </a:rPr>
              <a:t>-Nucleus interactions 1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"/>
          <p:cNvSpPr/>
          <p:nvPr/>
        </p:nvSpPr>
        <p:spPr>
          <a:xfrm>
            <a:off x="2353320" y="990720"/>
            <a:ext cx="5874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 state = particles still inside the nucleus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Final state = particles outside the nucleus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33"/>
                </a:solidFill>
                <a:latin typeface="Arial"/>
              </a:rPr>
              <a:t>No reinteractions = only the effect of potentials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39600" y="1957320"/>
            <a:ext cx="4532400" cy="4572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4495680" y="1905120"/>
            <a:ext cx="4648320" cy="4622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EF603-1D54-4C9B-B53B-600B1731A08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828440" y="304920"/>
            <a:ext cx="609588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Symbol"/>
                <a:ea typeface="Symbol"/>
              </a:rPr>
              <a:t></a:t>
            </a:r>
            <a:r>
              <a:rPr b="1" lang="en-US" sz="2400" spc="-1" strike="noStrike">
                <a:solidFill>
                  <a:srgbClr val="0066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6600"/>
                </a:solidFill>
                <a:latin typeface="Tahoma"/>
              </a:rPr>
              <a:t>in </a:t>
            </a:r>
            <a:r>
              <a:rPr b="1" lang="en-US" sz="2400" spc="-1" strike="noStrike">
                <a:solidFill>
                  <a:srgbClr val="006600"/>
                </a:solidFill>
                <a:latin typeface="Symbol"/>
                <a:ea typeface="Symbol"/>
              </a:rPr>
              <a:t></a:t>
            </a:r>
            <a:r>
              <a:rPr b="1" lang="en-US" sz="2400" spc="-1" strike="noStrike">
                <a:solidFill>
                  <a:srgbClr val="006600"/>
                </a:solidFill>
                <a:latin typeface="Tahoma"/>
              </a:rPr>
              <a:t>-Nucleus interactions 2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228600" y="1676520"/>
            <a:ext cx="4876920" cy="47466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4878720" y="2514600"/>
            <a:ext cx="396036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in Ar nuclei: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58%</a:t>
            </a: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 escape at E</a:t>
            </a:r>
            <a:r>
              <a:rPr b="0" lang="en-US" sz="2400" spc="-1" strike="noStrike" baseline="-25000">
                <a:solidFill>
                  <a:srgbClr val="40458c"/>
                </a:solidFill>
                <a:latin typeface="Symbol"/>
                <a:ea typeface="Symbol"/>
              </a:rPr>
              <a:t></a:t>
            </a: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 = 1 GeV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75%</a:t>
            </a: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 in the case of oxygen)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8CFB4-0256-40BA-AAFA-7B205FBBEC2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523880" y="228240"/>
            <a:ext cx="5943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Tahoma"/>
              </a:rPr>
              <a:t>Effects on observables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9" name=""/>
          <p:cNvSpPr/>
          <p:nvPr/>
        </p:nvSpPr>
        <p:spPr>
          <a:xfrm>
            <a:off x="2514600" y="1066680"/>
            <a:ext cx="5425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Arial"/>
              </a:rPr>
              <a:t>Identification of QE events (1 charged lepton, no </a:t>
            </a:r>
            <a:r>
              <a:rPr b="0" lang="en-US" sz="2000" spc="-1" strike="noStrike">
                <a:solidFill>
                  <a:srgbClr val="40458c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40458c"/>
                </a:solidFill>
                <a:latin typeface="Arial"/>
              </a:rPr>
              <a:t>’s above cut, </a:t>
            </a:r>
            <a:r>
              <a:rPr b="0" lang="en-US" sz="2000" spc="-1" strike="noStrike">
                <a:solidFill>
                  <a:srgbClr val="40458c"/>
                </a:solidFill>
                <a:latin typeface="Symbol"/>
                <a:ea typeface="Symbol"/>
              </a:rPr>
              <a:t></a:t>
            </a:r>
            <a:r>
              <a:rPr b="0" lang="en-US" sz="2000" spc="-1" strike="noStrike">
                <a:solidFill>
                  <a:srgbClr val="40458c"/>
                </a:solidFill>
                <a:latin typeface="Arial"/>
              </a:rPr>
              <a:t>1 p above cut)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76320" y="1828800"/>
            <a:ext cx="4572000" cy="455760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2059560" y="2362320"/>
            <a:ext cx="226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QE acceptance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4419720" y="1828800"/>
            <a:ext cx="4647960" cy="45086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5412240" y="304812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40458c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 acceptance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CA513-05E4-4426-A0A4-552954C55CF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The FLUKA nuclear module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618480" y="1219320"/>
            <a:ext cx="73573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EANUT</a:t>
            </a: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re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quilibrium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pproach to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NU</a:t>
            </a: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clear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hermalization)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911240" y="2362320"/>
            <a:ext cx="4853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Generalized IntraNuclear Cascade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+ PreEquilibrium stage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+ Equilibrium stage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227240" y="3886200"/>
            <a:ext cx="5957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In FLUKA applies to: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  <a:p>
            <a:pPr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Nucleon, pion and kaon induced reactions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  <a:p>
            <a:pPr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Photonuclear reactions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  <a:p>
            <a:pPr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Stopping </a:t>
            </a:r>
            <a:r>
              <a:rPr b="0" lang="en-US" sz="2400" spc="-1" strike="noStrike">
                <a:solidFill>
                  <a:srgbClr val="8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 baseline="30000">
                <a:solidFill>
                  <a:srgbClr val="8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 absorption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  <a:p>
            <a:pPr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Proton decay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  <a:p>
            <a:pPr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Neutrino interactions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E4CCE-525C-423E-93F3-56C2CFBD8A7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600200" y="304560"/>
            <a:ext cx="556272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Tahoma"/>
              </a:rPr>
              <a:t>Kinematics recostruction 1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1676520"/>
            <a:ext cx="4572000" cy="4437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4800600" y="1752480"/>
            <a:ext cx="4124160" cy="426744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1050840" y="5754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211040" y="5867280"/>
            <a:ext cx="2477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E</a:t>
            </a:r>
            <a:r>
              <a:rPr b="0" lang="en-US" sz="2400" spc="-1" strike="noStrike" baseline="-25000">
                <a:solidFill>
                  <a:srgbClr val="40458c"/>
                </a:solidFill>
                <a:latin typeface="Symbol"/>
                <a:ea typeface="Symbol"/>
              </a:rPr>
              <a:t></a:t>
            </a: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reconstruction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318640" y="5943600"/>
            <a:ext cx="3588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missing P </a:t>
            </a:r>
            <a:r>
              <a:rPr b="0" lang="en-US" sz="2400" spc="-1" strike="noStrike" baseline="-25000">
                <a:solidFill>
                  <a:srgbClr val="40458c"/>
                </a:solidFill>
                <a:latin typeface="Symbol"/>
                <a:ea typeface="Symbol"/>
              </a:rPr>
              <a:t></a:t>
            </a: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reconstruction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3B0EA-5664-41ED-8B3C-BF768B25F8A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828800" y="380520"/>
            <a:ext cx="59436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Tahoma"/>
              </a:rPr>
              <a:t>Kinematics recostruction 2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1987560"/>
            <a:ext cx="4419720" cy="421308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2"/>
          <a:stretch/>
        </p:blipFill>
        <p:spPr>
          <a:xfrm>
            <a:off x="4343400" y="1523880"/>
            <a:ext cx="4800600" cy="4703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3EE47-C155-42CA-B265-8BFE0D5C75D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723888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Tahoma"/>
              </a:rPr>
              <a:t>A connected topic:</a:t>
            </a:r>
            <a:br>
              <a:rPr sz="2400"/>
            </a:br>
            <a:r>
              <a:rPr b="1" lang="en-US" sz="2400" spc="-1" strike="noStrike">
                <a:solidFill>
                  <a:srgbClr val="006600"/>
                </a:solidFill>
                <a:latin typeface="Tahoma"/>
              </a:rPr>
              <a:t>the search for p-decay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76320" y="1371600"/>
            <a:ext cx="5105160" cy="51055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648320" y="1676520"/>
            <a:ext cx="4495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Simulation of nucleon decay is very sensitive to the nuclear model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The case of ICARUS: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p-decay in Ar nuclei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B0286-0E28-41DA-AEB6-4784BF8547E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01028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Tahoma"/>
              </a:rPr>
              <a:t>After the fast INC phase:</a:t>
            </a:r>
            <a:br>
              <a:rPr sz="2400"/>
            </a:br>
            <a:r>
              <a:rPr b="1" lang="en-US" sz="2400" spc="-1" strike="noStrike">
                <a:solidFill>
                  <a:srgbClr val="006600"/>
                </a:solidFill>
                <a:latin typeface="Tahoma"/>
              </a:rPr>
              <a:t>“Preequilibrium”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1165320"/>
            <a:ext cx="8381880" cy="546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00"/>
              </a:spcBef>
              <a:buClr>
                <a:srgbClr val="6f89f7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2b2b2"/>
                </a:solidFill>
                <a:latin typeface="Tahoma"/>
              </a:rPr>
              <a:t>Preequilibrium (important for E&lt;p production threshold); in FLUKA a statistical “exciton” model has been developed.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400"/>
              </a:spcBef>
              <a:buClr>
                <a:srgbClr val="6f89f7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2b2b2"/>
                </a:solidFill>
                <a:latin typeface="Tahoma"/>
              </a:rPr>
              <a:t>Exciton model: an exciton is either a particle above or a hole below the Fermi surface. 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400"/>
              </a:spcBef>
              <a:buClr>
                <a:srgbClr val="6f89f7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2b2b2"/>
                </a:solidFill>
                <a:latin typeface="Tahoma"/>
              </a:rPr>
              <a:t>A chain of steps is followed, each (n</a:t>
            </a:r>
            <a:r>
              <a:rPr b="0" lang="en-US" sz="1600" spc="-1" strike="noStrike" baseline="-25000">
                <a:solidFill>
                  <a:srgbClr val="b2b2b2"/>
                </a:solidFill>
                <a:latin typeface="Tahoma"/>
              </a:rPr>
              <a:t>th</a:t>
            </a:r>
            <a:r>
              <a:rPr b="0" lang="en-US" sz="1600" spc="-1" strike="noStrike">
                <a:solidFill>
                  <a:srgbClr val="b2b2b2"/>
                </a:solidFill>
                <a:latin typeface="Tahoma"/>
              </a:rPr>
              <a:t>) step corresponding to Nn excitons.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400"/>
              </a:spcBef>
              <a:buClr>
                <a:srgbClr val="6f89f7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2b2b2"/>
                </a:solidFill>
                <a:latin typeface="Tahoma"/>
              </a:rPr>
              <a:t>A step is a nucleon-nucleon collision with N</a:t>
            </a:r>
            <a:r>
              <a:rPr b="0" lang="en-US" sz="1600" spc="-1" strike="noStrike" baseline="-25000">
                <a:solidFill>
                  <a:srgbClr val="b2b2b2"/>
                </a:solidFill>
                <a:latin typeface="Tahoma"/>
              </a:rPr>
              <a:t>n+1 </a:t>
            </a:r>
            <a:r>
              <a:rPr b="0" lang="en-US" sz="1600" spc="-1" strike="noStrike">
                <a:solidFill>
                  <a:srgbClr val="b2b2b2"/>
                </a:solidFill>
                <a:latin typeface="Tahoma"/>
              </a:rPr>
              <a:t>= N</a:t>
            </a:r>
            <a:r>
              <a:rPr b="0" lang="en-US" sz="1600" spc="-1" strike="noStrike" baseline="-25000">
                <a:solidFill>
                  <a:srgbClr val="b2b2b2"/>
                </a:solidFill>
                <a:latin typeface="Tahoma"/>
              </a:rPr>
              <a:t>n</a:t>
            </a:r>
            <a:r>
              <a:rPr b="0" lang="en-US" sz="1600" spc="-1" strike="noStrike">
                <a:solidFill>
                  <a:srgbClr val="b2b2b2"/>
                </a:solidFill>
                <a:latin typeface="Tahoma"/>
              </a:rPr>
              <a:t>+2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400"/>
              </a:spcBef>
              <a:buClr>
                <a:srgbClr val="6f89f7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2b2b2"/>
                </a:solidFill>
                <a:latin typeface="Tahoma"/>
              </a:rPr>
              <a:t>The excitation energy is partitioned among N=N</a:t>
            </a:r>
            <a:r>
              <a:rPr b="0" lang="en-US" sz="1600" spc="-1" strike="noStrike" baseline="-25000">
                <a:solidFill>
                  <a:srgbClr val="b2b2b2"/>
                </a:solidFill>
                <a:latin typeface="Tahoma"/>
              </a:rPr>
              <a:t>h</a:t>
            </a:r>
            <a:r>
              <a:rPr b="0" lang="en-US" sz="1600" spc="-1" strike="noStrike">
                <a:solidFill>
                  <a:srgbClr val="b2b2b2"/>
                </a:solidFill>
                <a:latin typeface="Tahoma"/>
              </a:rPr>
              <a:t>+N</a:t>
            </a:r>
            <a:r>
              <a:rPr b="0" lang="en-US" sz="1600" spc="-1" strike="noStrike" baseline="-25000">
                <a:solidFill>
                  <a:srgbClr val="b2b2b2"/>
                </a:solidFill>
                <a:latin typeface="Tahoma"/>
              </a:rPr>
              <a:t>p</a:t>
            </a:r>
            <a:r>
              <a:rPr b="0" lang="en-US" sz="1600" spc="-1" strike="noStrike">
                <a:solidFill>
                  <a:srgbClr val="b2b2b2"/>
                </a:solidFill>
                <a:latin typeface="Tahoma"/>
              </a:rPr>
              <a:t> excitons. Any partition has the same probability.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400"/>
              </a:spcBef>
              <a:buClr>
                <a:srgbClr val="6f89f7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2b2b2"/>
                </a:solidFill>
                <a:latin typeface="Tahoma"/>
              </a:rPr>
              <a:t>The chain ends when excitation is below threshold equilibrium 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400"/>
              </a:spcBef>
              <a:buClr>
                <a:srgbClr val="6f89f7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2b2b2"/>
                </a:solidFill>
                <a:latin typeface="Tahoma"/>
              </a:rPr>
              <a:t>In FLUKA a modified 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Geometric Dynamical Hybrid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b2b2b2"/>
                </a:solidFill>
                <a:latin typeface="Tahoma"/>
              </a:rPr>
              <a:t>Model  (M. Blann et al.) is realized. </a:t>
            </a:r>
            <a:r>
              <a:rPr b="0" lang="en-US" sz="1600" spc="-1" strike="noStrike">
                <a:solidFill>
                  <a:srgbClr val="cc0000"/>
                </a:solidFill>
                <a:latin typeface="Tahoma"/>
              </a:rPr>
              <a:t>This gives rise to a definite probability for particle emission at each step.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4A9C6-BA2E-4502-AC2A-01B112C10FA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676160" y="304560"/>
            <a:ext cx="601956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Equilibrium particle emission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164960"/>
            <a:ext cx="8381880" cy="523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00"/>
              </a:spcBef>
              <a:buClr>
                <a:srgbClr val="6f89f7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Evaporation: Weisskopf-Ewing approach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34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ahoma"/>
              </a:rPr>
              <a:t>~600</a:t>
            </a:r>
            <a:r>
              <a:rPr b="1" lang="en-US" sz="1400" spc="-1" strike="noStrike">
                <a:solidFill>
                  <a:srgbClr val="b2b2b2"/>
                </a:solidFill>
                <a:latin typeface="Tahoma"/>
              </a:rPr>
              <a:t> possible emitted particles/states (A&lt;25) with an extended evaporation/fragmentation formalism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34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ahoma"/>
              </a:rPr>
              <a:t>Full</a:t>
            </a:r>
            <a:r>
              <a:rPr b="1" lang="en-US" sz="1400" spc="-1" strike="noStrike">
                <a:solidFill>
                  <a:srgbClr val="b2b2b2"/>
                </a:solidFill>
                <a:latin typeface="Tahoma"/>
              </a:rPr>
              <a:t> level density formula with level density parameter </a:t>
            </a:r>
            <a:r>
              <a:rPr b="1" lang="en-US" sz="1400" spc="-1" strike="noStrike">
                <a:solidFill>
                  <a:srgbClr val="ff0000"/>
                </a:solidFill>
                <a:latin typeface="Tahoma"/>
              </a:rPr>
              <a:t>A,Z and excitation dependent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34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b2b2b2"/>
                </a:solidFill>
                <a:latin typeface="Tahoma"/>
              </a:rPr>
              <a:t>Inverse cross section with proper sub-barrier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34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ahoma"/>
              </a:rPr>
              <a:t>Analytic</a:t>
            </a:r>
            <a:r>
              <a:rPr b="1" lang="en-US" sz="1400" spc="-1" strike="noStrike">
                <a:solidFill>
                  <a:srgbClr val="b2b2b2"/>
                </a:solidFill>
                <a:latin typeface="Tahoma"/>
              </a:rPr>
              <a:t> solution for the emission widths 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34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b2b2b2"/>
                </a:solidFill>
                <a:latin typeface="Tahoma"/>
              </a:rPr>
              <a:t>Emission energies from the </a:t>
            </a:r>
            <a:r>
              <a:rPr b="1" lang="en-US" sz="1400" spc="-1" strike="noStrike">
                <a:solidFill>
                  <a:srgbClr val="ff0000"/>
                </a:solidFill>
                <a:latin typeface="Tahoma"/>
              </a:rPr>
              <a:t>width</a:t>
            </a:r>
            <a:r>
              <a:rPr b="1" lang="en-US" sz="1400" spc="-1" strike="noStrike">
                <a:solidFill>
                  <a:srgbClr val="b2b2b2"/>
                </a:solidFill>
                <a:latin typeface="Tahoma"/>
              </a:rPr>
              <a:t> expression with no. approx</a:t>
            </a:r>
            <a:r>
              <a:rPr b="0" lang="en-US" sz="1400" spc="-1" strike="noStrike">
                <a:solidFill>
                  <a:srgbClr val="b2b2b2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400"/>
              </a:spcBef>
              <a:buClr>
                <a:srgbClr val="6f89f7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Fission: </a:t>
            </a:r>
            <a:r>
              <a:rPr b="0" lang="en-US" sz="1600" spc="-1" strike="noStrike">
                <a:solidFill>
                  <a:srgbClr val="b2b2b2"/>
                </a:solidFill>
                <a:latin typeface="Tahoma"/>
              </a:rPr>
              <a:t>improved version of the 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Atchison</a:t>
            </a:r>
            <a:r>
              <a:rPr b="0" lang="en-US" sz="1600" spc="-1" strike="noStrike">
                <a:solidFill>
                  <a:srgbClr val="b2b2b2"/>
                </a:solidFill>
                <a:latin typeface="Tahoma"/>
              </a:rPr>
              <a:t> algorithm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34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b2b2b2"/>
                </a:solidFill>
                <a:latin typeface="Tahoma"/>
              </a:rPr>
              <a:t>Improved mass and charge widths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34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b2b2b2"/>
                </a:solidFill>
                <a:latin typeface="Tahoma"/>
              </a:rPr>
              <a:t>Full competition with evaporation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400"/>
              </a:spcBef>
              <a:buClr>
                <a:srgbClr val="6f89f7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Fermi Break-up </a:t>
            </a:r>
            <a:r>
              <a:rPr b="0" lang="en-US" sz="1600" spc="-1" strike="noStrike">
                <a:solidFill>
                  <a:srgbClr val="b2b2b2"/>
                </a:solidFill>
                <a:latin typeface="Tahoma"/>
              </a:rPr>
              <a:t>for A&lt;18 nuclei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34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ahoma"/>
              </a:rPr>
              <a:t>~ 50000</a:t>
            </a:r>
            <a:r>
              <a:rPr b="1" lang="en-US" sz="1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en-US" sz="1400" spc="-1" strike="noStrike">
                <a:solidFill>
                  <a:srgbClr val="b2b2b2"/>
                </a:solidFill>
                <a:latin typeface="Tahoma"/>
              </a:rPr>
              <a:t>combinations included with up to 6 ejectiles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400"/>
              </a:spcBef>
              <a:buClr>
                <a:srgbClr val="40458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de-excitation: </a:t>
            </a:r>
            <a:r>
              <a:rPr b="0" lang="en-US" sz="1600" spc="-1" strike="noStrike">
                <a:solidFill>
                  <a:srgbClr val="b2b2b2"/>
                </a:solidFill>
                <a:latin typeface="Tahoma"/>
              </a:rPr>
              <a:t>statistical + rotational + tabulated levels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8F892-7655-42C9-A582-C4FA63624F2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828800" y="228240"/>
            <a:ext cx="58672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Tahoma"/>
              </a:rPr>
              <a:t>Thin target example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rcRect l="9528" t="4545" r="9528" b="10637"/>
          <a:stretch/>
        </p:blipFill>
        <p:spPr>
          <a:xfrm>
            <a:off x="457200" y="1143000"/>
            <a:ext cx="3774960" cy="511956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4572000" y="1447920"/>
            <a:ext cx="381636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Angle-integrated</a:t>
            </a:r>
            <a:r>
              <a:rPr b="1" i="1" lang="en-US" sz="2000" spc="-1" strike="noStrike">
                <a:solidFill>
                  <a:srgbClr val="40458c"/>
                </a:solidFill>
                <a:latin typeface="Symbol"/>
                <a:ea typeface="Symbol"/>
              </a:rPr>
              <a:t></a:t>
            </a:r>
            <a:r>
              <a:rPr b="1" lang="en-US" sz="2000" spc="-1" strike="noStrike" baseline="30000">
                <a:solidFill>
                  <a:srgbClr val="333399"/>
                </a:solidFill>
                <a:latin typeface="Arial"/>
              </a:rPr>
              <a:t>90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Zr(p,xn) at 80.5 MeV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The various lines show the total, INC, preequilibrium and evaporation contributions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Experimental data from 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M. Trabandt et al., Phys. Rev. C39, 452 (1989)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A3742-ACAF-4835-9876-3CE8F4EBD3F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57150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Tahoma"/>
              </a:rPr>
              <a:t>Thick target example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rcRect l="8119" t="4545" r="9528" b="10637"/>
          <a:stretch/>
        </p:blipFill>
        <p:spPr>
          <a:xfrm>
            <a:off x="685800" y="1143000"/>
            <a:ext cx="3271680" cy="436104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rcRect l="8119" t="4545" r="9528" b="10637"/>
          <a:stretch/>
        </p:blipFill>
        <p:spPr>
          <a:xfrm>
            <a:off x="4876920" y="1143000"/>
            <a:ext cx="3271680" cy="436104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126000" y="5562720"/>
            <a:ext cx="8965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Neutron 2-differential distributions from protons</a:t>
            </a:r>
            <a:r>
              <a:rPr b="0" i="1" lang="en-US" sz="1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n stopping-length targets: 113 MeV on U (left) and 500 MeV</a:t>
            </a:r>
            <a:endParaRPr b="0" lang="en-US" sz="14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n Pb (right). Exp. data from Meier et al., Nucl. Sci. Eng. 110, 299 (1992) and Meigo et al., JAERI-Conf. 95-008</a:t>
            </a:r>
            <a:endParaRPr b="0" lang="en-US" sz="1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630DE-9794-41D1-9982-35A0DD020EF1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7" name=""/>
          <p:cNvGrpSpPr/>
          <p:nvPr/>
        </p:nvGrpSpPr>
        <p:grpSpPr>
          <a:xfrm>
            <a:off x="0" y="2819520"/>
            <a:ext cx="8686800" cy="4038480"/>
            <a:chOff x="0" y="2819520"/>
            <a:chExt cx="8686800" cy="4038480"/>
          </a:xfrm>
        </p:grpSpPr>
        <p:pic>
          <p:nvPicPr>
            <p:cNvPr id="238" name="" descr=""/>
            <p:cNvPicPr/>
            <p:nvPr/>
          </p:nvPicPr>
          <p:blipFill>
            <a:blip r:embed="rId1"/>
            <a:stretch/>
          </p:blipFill>
          <p:spPr>
            <a:xfrm>
              <a:off x="0" y="3116160"/>
              <a:ext cx="7045200" cy="374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9" name=""/>
            <p:cNvSpPr/>
            <p:nvPr/>
          </p:nvSpPr>
          <p:spPr>
            <a:xfrm>
              <a:off x="5215320" y="3429000"/>
              <a:ext cx="2967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0000"/>
                  </a:solidFill>
                  <a:latin typeface="Comic Sans MS"/>
                </a:rPr>
                <a:t>Invisibile in water </a:t>
              </a:r>
              <a:r>
                <a:rPr b="0" lang="en-US" sz="2400" spc="-1" strike="noStrike">
                  <a:solidFill>
                    <a:srgbClr val="cc0000"/>
                  </a:solidFill>
                  <a:latin typeface="Comic Sans MS"/>
                  <a:ea typeface="Times New Roman"/>
                </a:rPr>
                <a:t>Č</a:t>
              </a: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0000"/>
                  </a:solidFill>
                  <a:latin typeface="Comic Sans MS"/>
                  <a:ea typeface="Times New Roman"/>
                </a:rPr>
                <a:t>(</a:t>
              </a:r>
              <a:r>
                <a:rPr b="0" lang="en-US" sz="2400" spc="-1" strike="noStrike">
                  <a:solidFill>
                    <a:srgbClr val="cc0000"/>
                  </a:solidFill>
                  <a:latin typeface="Symbol"/>
                  <a:ea typeface="Symbol"/>
                </a:rPr>
                <a:t></a:t>
              </a:r>
              <a:r>
                <a:rPr b="0" lang="en-US" sz="2400" spc="-1" strike="noStrike">
                  <a:solidFill>
                    <a:srgbClr val="cc0000"/>
                  </a:solidFill>
                  <a:latin typeface="Comic Sans MS"/>
                  <a:ea typeface="Times New Roman"/>
                </a:rPr>
                <a:t> = 0.72)</a:t>
              </a:r>
              <a:r>
                <a:rPr b="0" lang="en-US" sz="2400" spc="-1" strike="noStrike">
                  <a:solidFill>
                    <a:srgbClr val="cc0000"/>
                  </a:solidFill>
                  <a:latin typeface="Comic Sans MS"/>
                </a:rPr>
                <a:t> </a:t>
              </a: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0" y="3200400"/>
              <a:ext cx="8686800" cy="3352680"/>
            </a:xfrm>
            <a:prstGeom prst="rect">
              <a:avLst/>
            </a:prstGeom>
            <a:noFill/>
            <a:ln w="284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832040" y="2819520"/>
              <a:ext cx="517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rial"/>
                </a:rPr>
                <a:t>The case of an ICARUS-like detector</a:t>
              </a: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242" name=""/>
          <p:cNvGrpSpPr/>
          <p:nvPr/>
        </p:nvGrpSpPr>
        <p:grpSpPr>
          <a:xfrm>
            <a:off x="763920" y="4114800"/>
            <a:ext cx="4312440" cy="1038960"/>
            <a:chOff x="763920" y="4114800"/>
            <a:chExt cx="4312440" cy="1038960"/>
          </a:xfrm>
        </p:grpSpPr>
        <p:sp>
          <p:nvSpPr>
            <p:cNvPr id="243" name=""/>
            <p:cNvSpPr/>
            <p:nvPr/>
          </p:nvSpPr>
          <p:spPr>
            <a:xfrm>
              <a:off x="1522800" y="4114800"/>
              <a:ext cx="3553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cc00"/>
                  </a:solidFill>
                  <a:latin typeface="Arial"/>
                </a:rPr>
                <a:t>proton</a:t>
              </a:r>
              <a:r>
                <a:rPr b="1" lang="en-US" sz="2400" spc="-1" strike="noStrike">
                  <a:solidFill>
                    <a:srgbClr val="00cc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cc00"/>
                  </a:solidFill>
                  <a:latin typeface="Arial"/>
                </a:rPr>
                <a:t>p = 0.977 GeV/c</a:t>
              </a:r>
              <a:r>
                <a:rPr b="0" lang="en-US" sz="2400" spc="-1" strike="noStrike">
                  <a:solidFill>
                    <a:srgbClr val="40458c"/>
                  </a:solidFill>
                  <a:latin typeface="Arial"/>
                </a:rPr>
                <a:t>.</a:t>
              </a: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 rot="2445000">
              <a:off x="990360" y="4343400"/>
              <a:ext cx="306360" cy="808200"/>
            </a:xfrm>
            <a:prstGeom prst="ellipse">
              <a:avLst/>
            </a:prstGeom>
            <a:noFill/>
            <a:ln w="93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990360" y="5181480"/>
            <a:ext cx="5907960" cy="827640"/>
            <a:chOff x="990360" y="5181480"/>
            <a:chExt cx="5907960" cy="827640"/>
          </a:xfrm>
        </p:grpSpPr>
        <p:sp>
          <p:nvSpPr>
            <p:cNvPr id="246" name=""/>
            <p:cNvSpPr/>
            <p:nvPr/>
          </p:nvSpPr>
          <p:spPr>
            <a:xfrm>
              <a:off x="1212840" y="5610240"/>
              <a:ext cx="5685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990033"/>
                  </a:solidFill>
                  <a:latin typeface="Arial"/>
                </a:rPr>
                <a:t>additional low p proton from nuclear reinteraction</a:t>
              </a: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 flipH="1" flipV="1">
              <a:off x="990360" y="5181480"/>
              <a:ext cx="533160" cy="457200"/>
            </a:xfrm>
            <a:prstGeom prst="line">
              <a:avLst/>
            </a:prstGeom>
            <a:ln w="9360">
              <a:solidFill>
                <a:srgbClr val="99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248" name=""/>
          <p:cNvGrpSpPr/>
          <p:nvPr/>
        </p:nvGrpSpPr>
        <p:grpSpPr>
          <a:xfrm>
            <a:off x="230040" y="3276720"/>
            <a:ext cx="1892160" cy="1800000"/>
            <a:chOff x="230040" y="3276720"/>
            <a:chExt cx="1892160" cy="1800000"/>
          </a:xfrm>
        </p:grpSpPr>
        <p:sp>
          <p:nvSpPr>
            <p:cNvPr id="249" name=""/>
            <p:cNvSpPr/>
            <p:nvPr/>
          </p:nvSpPr>
          <p:spPr>
            <a:xfrm>
              <a:off x="262080" y="5076720"/>
              <a:ext cx="6094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30040" y="3276720"/>
              <a:ext cx="189216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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0.944 GeV/c</a:t>
              </a: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1219320" y="0"/>
            <a:ext cx="69339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Example of </a:t>
            </a:r>
            <a:r>
              <a:rPr b="1" lang="en-US" sz="3200" spc="-1" strike="noStrike">
                <a:solidFill>
                  <a:srgbClr val="006600"/>
                </a:solidFill>
                <a:latin typeface="Symbol"/>
                <a:ea typeface="Symbol"/>
              </a:rPr>
              <a:t></a:t>
            </a:r>
            <a:r>
              <a:rPr b="1" lang="en-US" sz="3200" spc="-1" strike="noStrike" baseline="-25000">
                <a:solidFill>
                  <a:srgbClr val="006600"/>
                </a:solidFill>
                <a:latin typeface="Arial"/>
              </a:rPr>
              <a:t>e</a:t>
            </a: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 QE (NC) interaction simulated with FLUKA</a:t>
            </a: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609480" y="4495680"/>
            <a:ext cx="7500240" cy="990720"/>
            <a:chOff x="609480" y="4495680"/>
            <a:chExt cx="7500240" cy="990720"/>
          </a:xfrm>
        </p:grpSpPr>
        <p:sp>
          <p:nvSpPr>
            <p:cNvPr id="253" name=""/>
            <p:cNvSpPr/>
            <p:nvPr/>
          </p:nvSpPr>
          <p:spPr>
            <a:xfrm>
              <a:off x="1066680" y="4952880"/>
              <a:ext cx="228600" cy="228600"/>
            </a:xfrm>
            <a:prstGeom prst="ellipse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09480" y="5257800"/>
              <a:ext cx="228600" cy="228600"/>
            </a:xfrm>
            <a:prstGeom prst="ellipse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85800" y="4800600"/>
              <a:ext cx="228600" cy="228600"/>
            </a:xfrm>
            <a:prstGeom prst="ellipse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354040" y="4572000"/>
              <a:ext cx="57556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b2b2b2"/>
                  </a:solidFill>
                  <a:latin typeface="Arial"/>
                </a:rPr>
                <a:t>single hits due to neutrons/gammas from nuclear </a:t>
              </a: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b2b2b2"/>
                  </a:solidFill>
                  <a:latin typeface="Arial"/>
                </a:rPr>
                <a:t>de-excitation</a:t>
              </a: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 flipH="1">
              <a:off x="1295280" y="4800600"/>
              <a:ext cx="1067040" cy="152280"/>
            </a:xfrm>
            <a:prstGeom prst="line">
              <a:avLst/>
            </a:prstGeom>
            <a:ln w="9360">
              <a:solidFill>
                <a:srgbClr val="b2b2b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914400" y="4495680"/>
              <a:ext cx="228600" cy="228600"/>
            </a:xfrm>
            <a:prstGeom prst="ellipse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371600" y="5105520"/>
              <a:ext cx="228600" cy="228600"/>
            </a:xfrm>
            <a:prstGeom prst="ellipse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260" name=""/>
          <p:cNvSpPr/>
          <p:nvPr/>
        </p:nvSpPr>
        <p:spPr>
          <a:xfrm>
            <a:off x="228600" y="1295280"/>
            <a:ext cx="8610480" cy="15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principle:</a:t>
            </a: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 the study of NC vs CC QE interactions could produce an interesting measurement of form factors or very accurate measurement of </a:t>
            </a:r>
            <a:r>
              <a:rPr b="1" lang="en-US" sz="2000" spc="-1" strike="noStrike">
                <a:solidFill>
                  <a:srgbClr val="40458c"/>
                </a:solidFill>
                <a:latin typeface="Symbol"/>
                <a:ea typeface="Symbol"/>
              </a:rPr>
              <a:t></a:t>
            </a:r>
            <a:r>
              <a:rPr b="1" lang="en-US" sz="2000" spc="-1" strike="noStrike" baseline="-25000">
                <a:solidFill>
                  <a:srgbClr val="40458c"/>
                </a:solidFill>
                <a:latin typeface="Arial"/>
              </a:rPr>
              <a:t>W </a:t>
            </a: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(assuming a good knowledge of form factors)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 algn="just">
              <a:spcBef>
                <a:spcPts val="12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practice:</a:t>
            </a: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 nuclear effects partly make the measurement difficult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BFB86-FF0A-4432-9F38-2EC8C6C945FB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2209680" y="795240"/>
            <a:ext cx="6291360" cy="606276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/>
          <p:nvPr/>
        </p:nvSpPr>
        <p:spPr>
          <a:xfrm>
            <a:off x="762120" y="0"/>
            <a:ext cx="69339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Simulation results: Argon excitation after </a:t>
            </a:r>
            <a:r>
              <a:rPr b="1" lang="en-US" sz="3200" spc="-1" strike="noStrike">
                <a:solidFill>
                  <a:srgbClr val="006600"/>
                </a:solidFill>
                <a:latin typeface="Symbol"/>
                <a:ea typeface="Symbol"/>
              </a:rPr>
              <a:t></a:t>
            </a:r>
            <a:r>
              <a:rPr b="1" lang="en-US" sz="3200" spc="-1" strike="noStrike" baseline="-25000">
                <a:solidFill>
                  <a:srgbClr val="006600"/>
                </a:solidFill>
                <a:latin typeface="Arial"/>
              </a:rPr>
              <a:t>e</a:t>
            </a: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 interaction</a:t>
            </a: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C4ABD-6853-4C0C-859D-52F00FDEFE4B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Symbol"/>
                <a:ea typeface="Symbol"/>
              </a:rPr>
              <a:t></a:t>
            </a:r>
            <a:r>
              <a:rPr b="1" lang="en-US" sz="2800" spc="-1" strike="noStrike" baseline="-25000">
                <a:solidFill>
                  <a:srgbClr val="006600"/>
                </a:solidFill>
                <a:latin typeface="Symbol"/>
                <a:ea typeface="Symbol"/>
              </a:rPr>
              <a:t></a:t>
            </a:r>
            <a:r>
              <a:rPr b="1" lang="en-US" sz="2800" spc="-1" strike="noStrike">
                <a:solidFill>
                  <a:srgbClr val="0066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6600"/>
                </a:solidFill>
                <a:latin typeface="Tahoma"/>
              </a:rPr>
              <a:t>+ A </a:t>
            </a:r>
            <a:r>
              <a:rPr b="1" lang="en-US" sz="2800" spc="-1" strike="noStrike">
                <a:solidFill>
                  <a:srgbClr val="0066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0066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6600"/>
                </a:solidFill>
                <a:latin typeface="Symbol"/>
                <a:ea typeface="Symbol"/>
              </a:rPr>
              <a:t></a:t>
            </a:r>
            <a:r>
              <a:rPr b="1" lang="en-US" sz="2800" spc="-1" strike="noStrike" baseline="30000">
                <a:solidFill>
                  <a:srgbClr val="006600"/>
                </a:solidFill>
                <a:latin typeface="Tahoma"/>
              </a:rPr>
              <a:t>-</a:t>
            </a:r>
            <a:r>
              <a:rPr b="1" lang="en-US" sz="2800" spc="-1" strike="noStrike">
                <a:solidFill>
                  <a:srgbClr val="006600"/>
                </a:solidFill>
                <a:latin typeface="Tahoma"/>
              </a:rPr>
              <a:t> + X @ 800 MeV: T</a:t>
            </a:r>
            <a:r>
              <a:rPr b="1" lang="en-US" sz="2800" spc="-1" strike="noStrike" baseline="-25000">
                <a:solidFill>
                  <a:srgbClr val="006600"/>
                </a:solidFill>
                <a:latin typeface="Tahoma"/>
              </a:rPr>
              <a:t>lepton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1295280" y="2057400"/>
            <a:ext cx="6324840" cy="4245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A106E-A2FC-4EAD-8140-AF8F222576CA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Intra Nuclear Cascade in MC codes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228600" y="1295280"/>
            <a:ext cx="8702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The ancestor: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BERTINI model</a:t>
            </a: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 (~1970): no curvature, constant binding energy, no formation zone, no preequilibrium...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86640" y="2209680"/>
            <a:ext cx="7871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4045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Originally implemented in HETC (Oak Ridge)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  <a:p>
            <a:pPr>
              <a:buClr>
                <a:srgbClr val="4045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with improvements in LAHET and MCNPX (Los Alamos)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  <a:p>
            <a:pPr>
              <a:buClr>
                <a:srgbClr val="4045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in the CALOR version of GEANT3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  <a:p>
            <a:pPr>
              <a:buClr>
                <a:srgbClr val="4045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in GEANT4 (depending on physics list)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41360" y="4114800"/>
            <a:ext cx="8702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The DUBNA INC (~ 1972)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  <a:p>
            <a:pPr algn="just">
              <a:buClr>
                <a:srgbClr val="4045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in SHIELD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  <a:p>
            <a:pPr algn="just">
              <a:buClr>
                <a:srgbClr val="4045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in MARS (Fermilab) through the CEM generator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  <a:p>
            <a:pPr algn="just">
              <a:buClr>
                <a:srgbClr val="4045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in MCNPX through the CEM generator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83640" y="6019920"/>
            <a:ext cx="821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Very Important: huge progress from Bertini to FULL GINC !!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4A8DC-A56A-453B-8B38-01CC8859979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1219320" y="1981080"/>
            <a:ext cx="6476760" cy="434844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76212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Symbol"/>
                <a:ea typeface="Symbol"/>
              </a:rPr>
              <a:t></a:t>
            </a:r>
            <a:r>
              <a:rPr b="1" lang="en-US" sz="2800" spc="-1" strike="noStrike" baseline="-25000">
                <a:solidFill>
                  <a:srgbClr val="006600"/>
                </a:solidFill>
                <a:latin typeface="Symbol"/>
                <a:ea typeface="Symbol"/>
              </a:rPr>
              <a:t></a:t>
            </a:r>
            <a:r>
              <a:rPr b="1" lang="en-US" sz="2800" spc="-1" strike="noStrike">
                <a:solidFill>
                  <a:srgbClr val="0066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6600"/>
                </a:solidFill>
                <a:latin typeface="Tahoma"/>
              </a:rPr>
              <a:t>+ A </a:t>
            </a:r>
            <a:r>
              <a:rPr b="1" lang="en-US" sz="2800" spc="-1" strike="noStrike">
                <a:solidFill>
                  <a:srgbClr val="0066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0066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6600"/>
                </a:solidFill>
                <a:latin typeface="Symbol"/>
                <a:ea typeface="Symbol"/>
              </a:rPr>
              <a:t></a:t>
            </a:r>
            <a:r>
              <a:rPr b="1" lang="en-US" sz="2800" spc="-1" strike="noStrike" baseline="30000">
                <a:solidFill>
                  <a:srgbClr val="006600"/>
                </a:solidFill>
                <a:latin typeface="Tahoma"/>
              </a:rPr>
              <a:t>-</a:t>
            </a:r>
            <a:r>
              <a:rPr b="1" lang="en-US" sz="2800" spc="-1" strike="noStrike">
                <a:solidFill>
                  <a:srgbClr val="006600"/>
                </a:solidFill>
                <a:latin typeface="Tahoma"/>
              </a:rPr>
              <a:t> + X @ 800 MeV: T</a:t>
            </a:r>
            <a:r>
              <a:rPr b="1" lang="en-US" sz="2800" spc="-1" strike="noStrike" baseline="-25000">
                <a:solidFill>
                  <a:srgbClr val="006600"/>
                </a:solidFill>
                <a:latin typeface="Tahoma"/>
              </a:rPr>
              <a:t>proton</a:t>
            </a:r>
            <a:endParaRPr b="0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400040" y="2209680"/>
            <a:ext cx="1067040" cy="1600200"/>
          </a:xfrm>
          <a:prstGeom prst="ellipse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DC41D-E565-4513-A471-784DEDABCFF1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1447920" y="1981080"/>
            <a:ext cx="6705360" cy="449892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76212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Symbol"/>
                <a:ea typeface="Symbol"/>
              </a:rPr>
              <a:t></a:t>
            </a:r>
            <a:r>
              <a:rPr b="1" lang="en-US" sz="2800" spc="-1" strike="noStrike" baseline="-25000">
                <a:solidFill>
                  <a:srgbClr val="006600"/>
                </a:solidFill>
                <a:latin typeface="Tahoma"/>
              </a:rPr>
              <a:t>e</a:t>
            </a:r>
            <a:r>
              <a:rPr b="1" lang="en-US" sz="2800" spc="-1" strike="noStrike">
                <a:solidFill>
                  <a:srgbClr val="006600"/>
                </a:solidFill>
                <a:latin typeface="Tahoma"/>
              </a:rPr>
              <a:t> + A </a:t>
            </a:r>
            <a:r>
              <a:rPr b="1" lang="en-US" sz="2800" spc="-1" strike="noStrike">
                <a:solidFill>
                  <a:srgbClr val="0066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006600"/>
                </a:solidFill>
                <a:latin typeface="Tahoma"/>
              </a:rPr>
              <a:t> e</a:t>
            </a:r>
            <a:r>
              <a:rPr b="1" lang="en-US" sz="2800" spc="-1" strike="noStrike" baseline="30000">
                <a:solidFill>
                  <a:srgbClr val="006600"/>
                </a:solidFill>
                <a:latin typeface="Tahoma"/>
              </a:rPr>
              <a:t>-</a:t>
            </a:r>
            <a:r>
              <a:rPr b="1" lang="en-US" sz="2800" spc="-1" strike="noStrike">
                <a:solidFill>
                  <a:srgbClr val="006600"/>
                </a:solidFill>
                <a:latin typeface="Tahoma"/>
              </a:rPr>
              <a:t> + X @ 200 MeV: </a:t>
            </a:r>
            <a:br>
              <a:rPr sz="2800"/>
            </a:br>
            <a:r>
              <a:rPr b="1" lang="en-US" sz="2800" spc="-1" strike="noStrike">
                <a:solidFill>
                  <a:srgbClr val="006600"/>
                </a:solidFill>
                <a:latin typeface="Tahoma"/>
              </a:rPr>
              <a:t>T</a:t>
            </a:r>
            <a:r>
              <a:rPr b="1" lang="en-US" sz="2800" spc="-1" strike="noStrike" baseline="-25000">
                <a:solidFill>
                  <a:srgbClr val="006600"/>
                </a:solidFill>
                <a:latin typeface="Tahoma"/>
              </a:rPr>
              <a:t>e</a:t>
            </a:r>
            <a:r>
              <a:rPr b="1" lang="en-US" sz="2800" spc="-1" strike="noStrike">
                <a:solidFill>
                  <a:srgbClr val="006600"/>
                </a:solidFill>
                <a:latin typeface="Tahoma"/>
              </a:rPr>
              <a:t> vs T</a:t>
            </a:r>
            <a:r>
              <a:rPr b="1" lang="en-US" sz="2800" spc="-1" strike="noStrike" baseline="-25000">
                <a:solidFill>
                  <a:srgbClr val="006600"/>
                </a:solidFill>
                <a:latin typeface="Tahoma"/>
              </a:rPr>
              <a:t>proton</a:t>
            </a:r>
            <a:endParaRPr b="0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F755E-09CC-403C-BB2C-9207CD43C4E0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752120" y="151920"/>
            <a:ext cx="57150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Tahoma"/>
              </a:rPr>
              <a:t>A comparison with data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228600" y="1797120"/>
            <a:ext cx="8915400" cy="420696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/>
          <p:nvPr/>
        </p:nvSpPr>
        <p:spPr>
          <a:xfrm>
            <a:off x="1203480" y="3380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952560" y="990720"/>
            <a:ext cx="7238880" cy="233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Quasi elastic </a:t>
            </a:r>
            <a:r>
              <a:rPr b="0" lang="en-US" sz="2400" spc="-1" strike="noStrike">
                <a:solidFill>
                  <a:srgbClr val="40458c"/>
                </a:solidFill>
                <a:latin typeface="Symbol"/>
                <a:ea typeface="Symbol"/>
              </a:rPr>
              <a:t></a:t>
            </a:r>
            <a:r>
              <a:rPr b="0" lang="en-US" sz="2400" spc="-1" strike="noStrike" baseline="-25000">
                <a:solidFill>
                  <a:srgbClr val="40458c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interactions in the 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ICARUS 50 liter Liq. Ar. chamber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981720" y="5907240"/>
            <a:ext cx="645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Simulation FLUKA+NUX (NUX from A.Rubbia)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2CEBB-4843-419B-8600-BCEAC55C37EC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84872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Tahoma"/>
              </a:rPr>
              <a:t>Residual nuclei (before 2005)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4038480" y="1295280"/>
            <a:ext cx="4626000" cy="478476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291240" y="1560600"/>
            <a:ext cx="3596040" cy="21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xperimental and computed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residual nuclei mass distribution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for Ag(p,x)X at 300 GeV (top) and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Au(p,x)X at 800 GeV (bottom)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Arial"/>
              </a:rPr>
              <a:t>Data from 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Arial"/>
              </a:rPr>
              <a:t>Phys. Rev. C19 2388 (1979) and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Arial"/>
              </a:rPr>
              <a:t>Nucl. Phys. A543, 703 (1992)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326880" y="4183200"/>
            <a:ext cx="3559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The new fragmentation model has recently much improved the FLUKA predictions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6840" y="5638680"/>
            <a:ext cx="655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Production of residual unstable nuclei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might be considered in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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-emulsion experiments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780B6-E6A6-4E53-9690-61803615BEFF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781320" y="1600200"/>
            <a:ext cx="2057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00"/>
                </a:solidFill>
                <a:latin typeface="Tahoma"/>
              </a:rPr>
              <a:t>CERN-EU </a:t>
            </a:r>
            <a:br>
              <a:rPr sz="1800"/>
            </a:br>
            <a:r>
              <a:rPr b="1" lang="en-GB" sz="1800" spc="-1" strike="noStrike">
                <a:solidFill>
                  <a:srgbClr val="006600"/>
                </a:solidFill>
                <a:latin typeface="Tahoma"/>
              </a:rPr>
              <a:t>High-Energy Reference </a:t>
            </a:r>
            <a:br>
              <a:rPr sz="1800"/>
            </a:br>
            <a:r>
              <a:rPr b="1" lang="en-GB" sz="1800" spc="-1" strike="noStrike">
                <a:solidFill>
                  <a:srgbClr val="006600"/>
                </a:solidFill>
                <a:latin typeface="Tahoma"/>
              </a:rPr>
              <a:t>Field facility (CERF)</a:t>
            </a:r>
            <a:endParaRPr b="0" lang="en-US" sz="1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380880" y="1523880"/>
            <a:ext cx="6324840" cy="474840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6705720" y="3962520"/>
            <a:ext cx="2286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New Century Schoolbook"/>
              </a:rPr>
              <a:t>samples in contact with a 50 cm long, 7 cm diameter copper target, centred on the beam axis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048120" y="0"/>
            <a:ext cx="579096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Benchmark study of </a:t>
            </a: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radionuclide production with FLUKA</a:t>
            </a: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55990-8F86-4A93-AEB4-3158AD00ACB5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277920" y="2476440"/>
            <a:ext cx="7385040" cy="309600"/>
          </a:xfrm>
          <a:prstGeom prst="rect">
            <a:avLst/>
          </a:prstGeom>
          <a:solidFill>
            <a:srgbClr val="0000ff">
              <a:alpha val="49000"/>
            </a:srgbClr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447560" y="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8000"/>
                </a:solidFill>
                <a:latin typeface="Tahoma"/>
              </a:rPr>
              <a:t>Results for the Aluminum Sample</a:t>
            </a:r>
            <a:r>
              <a:rPr b="0" lang="en-GB" sz="36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6" name=""/>
          <p:cNvSpPr/>
          <p:nvPr/>
        </p:nvSpPr>
        <p:spPr>
          <a:xfrm>
            <a:off x="228600" y="990720"/>
            <a:ext cx="85345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Arial"/>
              </a:rPr>
              <a:t>Cooling Times: </a:t>
            </a:r>
            <a:br>
              <a:rPr sz="2000"/>
            </a:b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(4) 25m and (5) 1h 09m, (1) 1d 16h 55m, (2) 16d 8h 56m, (3) 51d 9h 47m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228600" y="1849320"/>
            <a:ext cx="7467480" cy="424656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/>
          <p:nvPr/>
        </p:nvSpPr>
        <p:spPr>
          <a:xfrm>
            <a:off x="291960" y="3076560"/>
            <a:ext cx="7383600" cy="276120"/>
          </a:xfrm>
          <a:prstGeom prst="rect">
            <a:avLst/>
          </a:prstGeom>
          <a:solidFill>
            <a:srgbClr val="33cc33">
              <a:alpha val="49000"/>
            </a:srgbClr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93760" y="3352680"/>
            <a:ext cx="7385040" cy="276480"/>
          </a:xfrm>
          <a:prstGeom prst="rect">
            <a:avLst/>
          </a:prstGeom>
          <a:solidFill>
            <a:srgbClr val="ffff00">
              <a:alpha val="49000"/>
            </a:srgbClr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82600" y="2471760"/>
            <a:ext cx="7385040" cy="309600"/>
          </a:xfrm>
          <a:prstGeom prst="rect">
            <a:avLst/>
          </a:prstGeom>
          <a:solidFill>
            <a:srgbClr val="008000">
              <a:alpha val="49000"/>
            </a:srgbClr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84040" y="2786040"/>
            <a:ext cx="7385040" cy="287280"/>
          </a:xfrm>
          <a:prstGeom prst="rect">
            <a:avLst/>
          </a:prstGeom>
          <a:solidFill>
            <a:srgbClr val="008000">
              <a:alpha val="49000"/>
            </a:srgbClr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91960" y="3632040"/>
            <a:ext cx="7385040" cy="255600"/>
          </a:xfrm>
          <a:prstGeom prst="rect">
            <a:avLst/>
          </a:prstGeom>
          <a:solidFill>
            <a:srgbClr val="33cc33">
              <a:alpha val="49000"/>
            </a:srgbClr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93760" y="3881520"/>
            <a:ext cx="7383240" cy="271440"/>
          </a:xfrm>
          <a:prstGeom prst="rect">
            <a:avLst/>
          </a:prstGeom>
          <a:solidFill>
            <a:srgbClr val="33cc33">
              <a:alpha val="49000"/>
            </a:srgbClr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293760" y="4146480"/>
            <a:ext cx="7383240" cy="271440"/>
          </a:xfrm>
          <a:prstGeom prst="rect">
            <a:avLst/>
          </a:prstGeom>
          <a:solidFill>
            <a:srgbClr val="33cc33">
              <a:alpha val="49000"/>
            </a:srgbClr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293760" y="4419720"/>
            <a:ext cx="7383240" cy="271440"/>
          </a:xfrm>
          <a:prstGeom prst="rect">
            <a:avLst/>
          </a:prstGeom>
          <a:solidFill>
            <a:srgbClr val="33cc33">
              <a:alpha val="49000"/>
            </a:srgbClr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284040" y="4681440"/>
            <a:ext cx="7383600" cy="271440"/>
          </a:xfrm>
          <a:prstGeom prst="rect">
            <a:avLst/>
          </a:prstGeom>
          <a:solidFill>
            <a:srgbClr val="33cc33">
              <a:alpha val="49000"/>
            </a:srgbClr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290520" y="4954680"/>
            <a:ext cx="7383600" cy="271440"/>
          </a:xfrm>
          <a:prstGeom prst="rect">
            <a:avLst/>
          </a:prstGeom>
          <a:solidFill>
            <a:srgbClr val="33cc33">
              <a:alpha val="49000"/>
            </a:srgbClr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82600" y="5769000"/>
            <a:ext cx="7383600" cy="293760"/>
          </a:xfrm>
          <a:prstGeom prst="rect">
            <a:avLst/>
          </a:prstGeom>
          <a:solidFill>
            <a:srgbClr val="33cc33">
              <a:alpha val="49000"/>
            </a:srgbClr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293760" y="5230800"/>
            <a:ext cx="7385040" cy="287280"/>
          </a:xfrm>
          <a:prstGeom prst="rect">
            <a:avLst/>
          </a:prstGeom>
          <a:solidFill>
            <a:srgbClr val="ffff00">
              <a:alpha val="49000"/>
            </a:srgbClr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82600" y="5508720"/>
            <a:ext cx="7385040" cy="264960"/>
          </a:xfrm>
          <a:prstGeom prst="rect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7848720" y="5334120"/>
            <a:ext cx="144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high </a:t>
            </a:r>
            <a:br>
              <a:rPr sz="1800"/>
            </a:b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Exp. Error!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 flipH="1">
            <a:off x="7695720" y="5638680"/>
            <a:ext cx="22860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7848720" y="3200400"/>
            <a:ext cx="1447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very short</a:t>
            </a:r>
            <a:br>
              <a:rPr sz="1800"/>
            </a:b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half-life, thus unc. </a:t>
            </a:r>
            <a:br>
              <a:rPr sz="1800"/>
            </a:b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in EOI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 flipH="1">
            <a:off x="7695720" y="3505320"/>
            <a:ext cx="22860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199200" y="2457360"/>
            <a:ext cx="1468440" cy="36291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7886880" y="511956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xSection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 flipH="1">
            <a:off x="7695720" y="5337000"/>
            <a:ext cx="22860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FFDE8-1CD0-4632-A3C8-DA86C39D6AEE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8000"/>
                </a:solidFill>
                <a:latin typeface="Tahoma"/>
              </a:rPr>
              <a:t>CNGS and emulsions (OPERA)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9" name=""/>
          <p:cNvSpPr/>
          <p:nvPr/>
        </p:nvSpPr>
        <p:spPr>
          <a:xfrm>
            <a:off x="843120" y="1447920"/>
            <a:ext cx="798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0458c"/>
                </a:solidFill>
                <a:latin typeface="Arial"/>
              </a:rPr>
              <a:t>Ag-Br mixture taken from CHORUS emulsion composition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650520" y="990720"/>
            <a:ext cx="84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Production of </a:t>
            </a:r>
            <a:r>
              <a:rPr b="0" lang="en-US" sz="2400" spc="-1" strike="noStrike">
                <a:solidFill>
                  <a:srgbClr val="40458c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 baseline="30000">
                <a:solidFill>
                  <a:srgbClr val="40458c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 and </a:t>
            </a:r>
            <a:r>
              <a:rPr b="0" lang="en-US" sz="2400" spc="-1" strike="noStrike">
                <a:solidFill>
                  <a:srgbClr val="40458c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 baseline="30000">
                <a:solidFill>
                  <a:srgbClr val="40458c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 active nuclides </a:t>
            </a:r>
            <a:r>
              <a:rPr b="0" lang="en-US" sz="2400" spc="-1" strike="noStrike">
                <a:solidFill>
                  <a:srgbClr val="40458c"/>
                </a:solidFill>
                <a:latin typeface="Symbol"/>
                <a:ea typeface="Symbol"/>
              </a:rPr>
              <a:t></a:t>
            </a: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&lt;1 week: MeV e track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6934320" y="2778120"/>
            <a:ext cx="205740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14.2%</a:t>
            </a: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 of events produce </a:t>
            </a:r>
            <a:r>
              <a:rPr b="0" lang="en-US" sz="2400" spc="-1" strike="noStrike">
                <a:solidFill>
                  <a:srgbClr val="40458c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1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 baseline="30000">
                <a:solidFill>
                  <a:srgbClr val="ff0000"/>
                </a:solidFill>
                <a:latin typeface="Arial"/>
              </a:rPr>
              <a:t>+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decay</a:t>
            </a: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8.7%</a:t>
            </a: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 produce </a:t>
            </a:r>
            <a:r>
              <a:rPr b="0" lang="en-US" sz="2400" spc="-1" strike="noStrike">
                <a:solidFill>
                  <a:srgbClr val="40458c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 1 </a:t>
            </a:r>
            <a:r>
              <a:rPr b="0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 baseline="30000">
                <a:solidFill>
                  <a:srgbClr val="0000ff"/>
                </a:solidFill>
                <a:latin typeface="Arial"/>
              </a:rPr>
              <a:t>-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decay</a:t>
            </a: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0" y="1905120"/>
            <a:ext cx="6781680" cy="4552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0A347-944F-498F-B2EB-11357F93C864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" descr=""/>
          <p:cNvPicPr/>
          <p:nvPr/>
        </p:nvPicPr>
        <p:blipFill>
          <a:blip r:embed="rId1"/>
          <a:stretch/>
        </p:blipFill>
        <p:spPr>
          <a:xfrm>
            <a:off x="457200" y="1219320"/>
            <a:ext cx="7848720" cy="4546440"/>
          </a:xfrm>
          <a:prstGeom prst="rect">
            <a:avLst/>
          </a:prstGeom>
          <a:ln w="0">
            <a:noFill/>
          </a:ln>
        </p:spPr>
      </p:pic>
      <p:grpSp>
        <p:nvGrpSpPr>
          <p:cNvPr id="314" name=""/>
          <p:cNvGrpSpPr/>
          <p:nvPr/>
        </p:nvGrpSpPr>
        <p:grpSpPr>
          <a:xfrm>
            <a:off x="228600" y="573120"/>
            <a:ext cx="8458200" cy="1255680"/>
            <a:chOff x="228600" y="573120"/>
            <a:chExt cx="8458200" cy="1255680"/>
          </a:xfrm>
        </p:grpSpPr>
        <p:sp>
          <p:nvSpPr>
            <p:cNvPr id="315" name=""/>
            <p:cNvSpPr/>
            <p:nvPr/>
          </p:nvSpPr>
          <p:spPr>
            <a:xfrm>
              <a:off x="228600" y="1371600"/>
              <a:ext cx="8458200" cy="457200"/>
            </a:xfrm>
            <a:prstGeom prst="rect">
              <a:avLst/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568680" y="573120"/>
              <a:ext cx="1619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rial"/>
                </a:rPr>
                <a:t>initial state</a:t>
              </a: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5181480" y="914400"/>
              <a:ext cx="609840" cy="3808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533520" y="2025720"/>
            <a:ext cx="7391160" cy="144756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319" name=""/>
          <p:cNvGrpSpPr/>
          <p:nvPr/>
        </p:nvGrpSpPr>
        <p:grpSpPr>
          <a:xfrm>
            <a:off x="39240" y="4952880"/>
            <a:ext cx="8418960" cy="1500840"/>
            <a:chOff x="39240" y="4952880"/>
            <a:chExt cx="8418960" cy="1500840"/>
          </a:xfrm>
        </p:grpSpPr>
        <p:sp>
          <p:nvSpPr>
            <p:cNvPr id="320" name=""/>
            <p:cNvSpPr/>
            <p:nvPr/>
          </p:nvSpPr>
          <p:spPr>
            <a:xfrm>
              <a:off x="304920" y="4952880"/>
              <a:ext cx="8153280" cy="609840"/>
            </a:xfrm>
            <a:prstGeom prst="rect">
              <a:avLst/>
            </a:prstGeom>
            <a:noFill/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39240" y="5943600"/>
              <a:ext cx="2598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0000"/>
                  </a:solidFill>
                  <a:latin typeface="Symbol"/>
                  <a:ea typeface="Symbol"/>
                </a:rPr>
                <a:t></a:t>
              </a:r>
              <a:r>
                <a:rPr b="0" lang="en-US" sz="2400" spc="-1" strike="noStrike" baseline="30000">
                  <a:solidFill>
                    <a:srgbClr val="800000"/>
                  </a:solidFill>
                  <a:latin typeface="Arial"/>
                </a:rPr>
                <a:t>-</a:t>
              </a:r>
              <a:r>
                <a:rPr b="0" lang="en-US" sz="2400" spc="-1" strike="noStrike">
                  <a:solidFill>
                    <a:srgbClr val="800000"/>
                  </a:solidFill>
                  <a:latin typeface="Arial"/>
                </a:rPr>
                <a:t> decay of </a:t>
              </a:r>
              <a:r>
                <a:rPr b="0" lang="en-US" sz="2400" spc="-1" strike="noStrike" baseline="30000">
                  <a:solidFill>
                    <a:srgbClr val="800000"/>
                  </a:solidFill>
                  <a:latin typeface="Arial"/>
                </a:rPr>
                <a:t>108</a:t>
              </a:r>
              <a:r>
                <a:rPr b="0" lang="en-US" sz="2400" spc="-1" strike="noStrike">
                  <a:solidFill>
                    <a:srgbClr val="800000"/>
                  </a:solidFill>
                  <a:latin typeface="Arial"/>
                </a:rPr>
                <a:t>Ag</a:t>
              </a:r>
              <a:r>
                <a:rPr b="0" lang="en-US" sz="2400" spc="-1" strike="noStrike" baseline="-25000">
                  <a:solidFill>
                    <a:srgbClr val="800000"/>
                  </a:solidFill>
                  <a:latin typeface="Arial"/>
                </a:rPr>
                <a:t>47</a:t>
              </a: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 flipV="1">
              <a:off x="228600" y="5562720"/>
              <a:ext cx="152280" cy="38088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323" name=""/>
          <p:cNvGrpSpPr/>
          <p:nvPr/>
        </p:nvGrpSpPr>
        <p:grpSpPr>
          <a:xfrm>
            <a:off x="304920" y="3505320"/>
            <a:ext cx="8522280" cy="2821680"/>
            <a:chOff x="304920" y="3505320"/>
            <a:chExt cx="8522280" cy="2821680"/>
          </a:xfrm>
        </p:grpSpPr>
        <p:sp>
          <p:nvSpPr>
            <p:cNvPr id="324" name=""/>
            <p:cNvSpPr/>
            <p:nvPr/>
          </p:nvSpPr>
          <p:spPr>
            <a:xfrm>
              <a:off x="304920" y="3505320"/>
              <a:ext cx="8305560" cy="144756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7241400" y="5867280"/>
              <a:ext cx="15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Final state</a:t>
              </a: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 flipH="1" flipV="1">
              <a:off x="8610480" y="4571640"/>
              <a:ext cx="152640" cy="15238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327" name=""/>
          <p:cNvSpPr/>
          <p:nvPr/>
        </p:nvSpPr>
        <p:spPr>
          <a:xfrm>
            <a:off x="6324480" y="83808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Z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7315200" y="8380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04920" y="5562720"/>
            <a:ext cx="8305560" cy="2286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1CADA-FBE3-43DB-86CE-769D1C70A74D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Tahoma"/>
              </a:rPr>
              <a:t>Generalized Intra-Nuclear Cascade: </a:t>
            </a:r>
            <a:br>
              <a:rPr sz="2400"/>
            </a:br>
            <a:r>
              <a:rPr b="1" lang="en-US" sz="2400" spc="-1" strike="noStrike">
                <a:solidFill>
                  <a:srgbClr val="006600"/>
                </a:solidFill>
                <a:latin typeface="Tahoma"/>
              </a:rPr>
              <a:t>basic assumptions 1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ahoma"/>
              </a:rPr>
              <a:t>GINC as implemented in FLUKA below 5 GeV: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Tahoma"/>
              </a:rPr>
              <a:t>Primary and secondary particles moving in the nuclear medium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Tahoma"/>
              </a:rPr>
              <a:t>Target nucleons motion and nuclear well according the Fermi Gas model including wave packet-like uncertainty smearing: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Tahoma"/>
              </a:rPr>
              <a:t>Interaction probability from </a:t>
            </a:r>
            <a:r>
              <a:rPr b="1" lang="en-US" sz="1600" spc="-1" strike="noStrike">
                <a:solidFill>
                  <a:srgbClr val="ff0000"/>
                </a:solidFill>
                <a:latin typeface="Symbol"/>
                <a:ea typeface="Symbol"/>
              </a:rPr>
              <a:t>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Tahoma"/>
              </a:rPr>
              <a:t>free</a:t>
            </a:r>
            <a:r>
              <a:rPr b="1" lang="en-US" sz="1600" spc="-1" strike="noStrike">
                <a:solidFill>
                  <a:srgbClr val="ff0000"/>
                </a:solidFill>
                <a:latin typeface="Tahoma"/>
              </a:rPr>
              <a:t> + Fermi motion x </a:t>
            </a:r>
            <a:r>
              <a:rPr b="1" lang="en-US" sz="1600" spc="-1" strike="noStrike">
                <a:solidFill>
                  <a:srgbClr val="ff0000"/>
                </a:solidFill>
                <a:latin typeface="Symbol"/>
                <a:ea typeface="Symbol"/>
              </a:rPr>
              <a:t></a:t>
            </a:r>
            <a:r>
              <a:rPr b="1" lang="en-US" sz="1600" spc="-1" strike="noStrike">
                <a:solidFill>
                  <a:srgbClr val="ff0000"/>
                </a:solidFill>
                <a:latin typeface="Tahoma"/>
              </a:rPr>
              <a:t>(r)</a:t>
            </a:r>
            <a:r>
              <a:rPr b="1" lang="en-US" sz="1600" spc="-1" strike="noStrike">
                <a:solidFill>
                  <a:srgbClr val="40458c"/>
                </a:solidFill>
                <a:latin typeface="Tahoma"/>
              </a:rPr>
              <a:t> + </a:t>
            </a:r>
            <a:r>
              <a:rPr b="1" lang="en-US" sz="1600" spc="-1" strike="noStrike">
                <a:solidFill>
                  <a:srgbClr val="cc0000"/>
                </a:solidFill>
                <a:latin typeface="Tahoma"/>
              </a:rPr>
              <a:t>exceptions</a:t>
            </a:r>
            <a:r>
              <a:rPr b="1" lang="en-US" sz="1600" spc="-1" strike="noStrike">
                <a:solidFill>
                  <a:srgbClr val="40458c"/>
                </a:solidFill>
                <a:latin typeface="Tahoma"/>
              </a:rPr>
              <a:t> (</a:t>
            </a:r>
            <a:r>
              <a:rPr b="1" lang="en-US" sz="1600" spc="-1" strike="noStrike">
                <a:solidFill>
                  <a:srgbClr val="cc0000"/>
                </a:solidFill>
                <a:latin typeface="Symbol"/>
                <a:ea typeface="Symbol"/>
              </a:rPr>
              <a:t></a:t>
            </a:r>
            <a:r>
              <a:rPr b="1" lang="en-US" sz="1600" spc="-1" strike="noStrike">
                <a:solidFill>
                  <a:srgbClr val="40458c"/>
                </a:solidFill>
                <a:latin typeface="Tahoma"/>
              </a:rPr>
              <a:t>). Calculated in projectile-target CMS </a:t>
            </a:r>
            <a:r>
              <a:rPr b="1" lang="en-US" sz="1600" spc="-1" strike="noStrike">
                <a:solidFill>
                  <a:srgbClr val="333399"/>
                </a:solidFill>
                <a:latin typeface="Symbol"/>
                <a:ea typeface="Symbol"/>
              </a:rPr>
              <a:t></a:t>
            </a:r>
            <a:r>
              <a:rPr b="1" lang="en-US" sz="1600" spc="-1" strike="noStrike">
                <a:solidFill>
                  <a:srgbClr val="333399"/>
                </a:solidFill>
                <a:latin typeface="Tahoma"/>
              </a:rPr>
              <a:t> Lorentz Boost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Tahoma"/>
              </a:rPr>
              <a:t>Glauber cascade at high energy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Tahoma"/>
              </a:rPr>
              <a:t>Classical trajectories + nuclear mean Nuclear (complex) optical potential </a:t>
            </a:r>
            <a:r>
              <a:rPr b="1" lang="en-US" sz="1600" spc="-1" strike="noStrike">
                <a:solidFill>
                  <a:srgbClr val="333399"/>
                </a:solidFill>
                <a:latin typeface="Symbol"/>
                <a:ea typeface="Symbol"/>
              </a:rPr>
              <a:t></a:t>
            </a:r>
            <a:r>
              <a:rPr b="1" lang="en-US" sz="16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Tahoma"/>
              </a:rPr>
              <a:t>curved trajectories</a:t>
            </a:r>
            <a:r>
              <a:rPr b="1" lang="en-US" sz="1600" spc="-1" strike="noStrike">
                <a:solidFill>
                  <a:srgbClr val="40458c"/>
                </a:solidFill>
                <a:latin typeface="Tahoma"/>
              </a:rPr>
              <a:t> in the mean nuclear+Coulomb field (reflection, refraction)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39887-DB29-419F-B0AA-A69E63D1DBC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Tahoma"/>
              </a:rPr>
              <a:t>Generalized Intra-Nuclear Cascade: </a:t>
            </a:r>
            <a:br>
              <a:rPr sz="2400"/>
            </a:br>
            <a:r>
              <a:rPr b="1" lang="en-US" sz="2400" spc="-1" strike="noStrike">
                <a:solidFill>
                  <a:srgbClr val="006600"/>
                </a:solidFill>
                <a:latin typeface="Tahoma"/>
              </a:rPr>
              <a:t>basic assumptions 2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0" name=""/>
          <p:cNvSpPr/>
          <p:nvPr/>
        </p:nvSpPr>
        <p:spPr>
          <a:xfrm>
            <a:off x="304920" y="1523880"/>
            <a:ext cx="84582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 algn="just">
              <a:lnSpc>
                <a:spcPct val="90000"/>
              </a:lnSpc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Updating binding energy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 (from mass tables) after each particle emission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Multibody 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absorption for </a:t>
            </a:r>
            <a:r>
              <a:rPr b="1" lang="en-US" sz="2400" spc="-1" strike="noStrike">
                <a:solidFill>
                  <a:srgbClr val="40458c"/>
                </a:solidFill>
                <a:latin typeface="Symbol"/>
                <a:ea typeface="Symbol"/>
              </a:rPr>
              <a:t></a:t>
            </a:r>
            <a:r>
              <a:rPr b="1" lang="en-US" sz="2400" spc="-1" strike="noStrike" baseline="30000">
                <a:solidFill>
                  <a:srgbClr val="40458c"/>
                </a:solidFill>
                <a:latin typeface="Arial"/>
              </a:rPr>
              <a:t>+/0/-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 K</a:t>
            </a:r>
            <a:r>
              <a:rPr b="1" lang="en-US" sz="2400" spc="-1" strike="noStrike" baseline="30000">
                <a:solidFill>
                  <a:srgbClr val="40458c"/>
                </a:solidFill>
                <a:latin typeface="Arial"/>
              </a:rPr>
              <a:t>-/0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40458c"/>
                </a:solidFill>
                <a:latin typeface="Symbol"/>
                <a:ea typeface="Symbol"/>
              </a:rPr>
              <a:t></a:t>
            </a:r>
            <a:r>
              <a:rPr b="1" lang="en-US" sz="2400" spc="-1" strike="noStrike" baseline="30000">
                <a:solidFill>
                  <a:srgbClr val="40458c"/>
                </a:solidFill>
                <a:latin typeface="Symbol"/>
                <a:ea typeface="Symbol"/>
              </a:rPr>
              <a:t>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Quantum effects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 (mostly suppressive):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Pauli blocking, Formation zone, Coherence length, Nucleon antisymmetrization, Nucleon-nucleon hard-core correlations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Exact conservation of energy, momentum, all additive quantum numbers, including nuclear recoil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nergy-momentum conservation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 including the recoil of the residual nucleus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buClr>
                <a:srgbClr val="4045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Limitation: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 interactions are incoherent and uncorrelated.</a:t>
            </a:r>
            <a:endParaRPr b="0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EC454-0B4A-43AB-8686-8407A622AA8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Nucleon Fermi Motion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1375200" y="1143000"/>
            <a:ext cx="660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Fermi momentum depends on the local density: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93640" y="3170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822240" y="2782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08880" y="2438280"/>
            <a:ext cx="864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Nuclear density: for A&gt;16 given by symmetrized Woods-Saxon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11760" y="4038480"/>
            <a:ext cx="847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for lighter isotopes: given by a harmonic oscillator shell model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4648320"/>
            <a:ext cx="8610480" cy="17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16 zones of constant density considered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Momentum smeared according to uncertainty principle assuming a position uncertainty = </a:t>
            </a:r>
            <a:r>
              <a:rPr b="1" lang="en-US" sz="2000" spc="-1" strike="noStrike">
                <a:solidFill>
                  <a:srgbClr val="cc0000"/>
                </a:solidFill>
                <a:latin typeface="Symbol"/>
                <a:ea typeface="Symbol"/>
              </a:rPr>
              <a:t>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2 </a:t>
            </a: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fm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Effect of nuclear and coulomb potential also outside R</a:t>
            </a:r>
            <a:r>
              <a:rPr b="1" lang="en-US" sz="2000" spc="-1" strike="noStrike" baseline="-25000">
                <a:solidFill>
                  <a:srgbClr val="cc0000"/>
                </a:solidFill>
                <a:latin typeface="Arial"/>
              </a:rPr>
              <a:t>nuc 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where </a:t>
            </a:r>
            <a:r>
              <a:rPr b="1" lang="en-US" sz="2000" spc="-1" strike="noStrike">
                <a:solidFill>
                  <a:srgbClr val="cc0000"/>
                </a:solidFill>
                <a:latin typeface="Symbol"/>
                <a:ea typeface="Symbol"/>
              </a:rPr>
              <a:t>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 = </a:t>
            </a:r>
            <a:r>
              <a:rPr b="1" lang="en-US" sz="2000" spc="-1" strike="noStrike">
                <a:solidFill>
                  <a:srgbClr val="cc0000"/>
                </a:solidFill>
                <a:latin typeface="Symbol"/>
                <a:ea typeface="Symbol"/>
              </a:rPr>
              <a:t></a:t>
            </a:r>
            <a:r>
              <a:rPr b="1" lang="en-US" sz="2000" spc="-1" strike="noStrike" baseline="-25000">
                <a:solidFill>
                  <a:srgbClr val="cc0000"/>
                </a:solidFill>
                <a:latin typeface="Symbol"/>
                <a:ea typeface="Symbol"/>
              </a:rPr>
              <a:t>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/100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1371600" y="2895480"/>
                <a:ext cx="6553080" cy="12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ρ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inh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osh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cosh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  <m:r>
                          <m:t xml:space="preserve">)</m:t>
                        </m:r>
                      </m:den>
                    </m:f>
                    <m:r>
                      <m:t xml:space="preserve"> </m:t>
                    </m:r>
                    <m:r>
                      <m:t xml:space="preserve">≈</m:t>
                    </m:r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r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457200" y="1600200"/>
                <a:ext cx="3581280" cy="82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F</m:t>
                        </m:r>
                      </m:sub>
                      <m:sup>
                        <m:r>
                          <m:t xml:space="preserve">p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p>
                    </m:sSubSup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  <m:sSup>
                              <m:e>
                                <m:r>
                                  <m:t xml:space="preserve">π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 </m:t>
                            </m:r>
                            <m:sSup>
                              <m:e>
                                <m:r>
                                  <m:t xml:space="preserve">ρ</m:t>
                                </m:r>
                              </m:e>
                              <m:sup>
                                <m:r>
                                  <m:t xml:space="preserve">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r>
                              <m:t xml:space="preserve">r</m:t>
                            </m:r>
                            <m:r>
                              <m:t xml:space="preserve">)</m:t>
                            </m:r>
                          </m:e>
                        </m:d>
                      </m:e>
                      <m:sup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30" name=""/>
          <p:cNvSpPr/>
          <p:nvPr/>
        </p:nvSpPr>
        <p:spPr>
          <a:xfrm>
            <a:off x="4127400" y="1600200"/>
            <a:ext cx="501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proton,neutron densities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re different (shell or droplet model)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50357-B601-4378-B659-D880FE7ADF5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990720" y="304920"/>
            <a:ext cx="6105240" cy="5992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74F2B-9CF7-41F8-B3C8-16A54A34519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1676520"/>
            <a:ext cx="4572000" cy="451476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4305240" y="1676520"/>
            <a:ext cx="4421160" cy="450504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212760" y="1417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990720" y="304920"/>
            <a:ext cx="777240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Fermi momentum distribution as sampled by </a:t>
            </a:r>
            <a:r>
              <a:rPr b="1" lang="en-US" sz="3200" spc="-1" strike="noStrike">
                <a:solidFill>
                  <a:srgbClr val="006600"/>
                </a:solidFill>
                <a:latin typeface="Symbol"/>
                <a:ea typeface="Symbol"/>
              </a:rPr>
              <a:t></a:t>
            </a:r>
            <a:r>
              <a:rPr b="1" lang="en-US" sz="3200" spc="-1" strike="noStrike" baseline="-25000">
                <a:solidFill>
                  <a:srgbClr val="006600"/>
                </a:solidFill>
                <a:latin typeface="Symbol"/>
                <a:ea typeface="Symbol"/>
              </a:rPr>
              <a:t></a:t>
            </a: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 in </a:t>
            </a:r>
            <a:r>
              <a:rPr b="1" lang="en-US" sz="3200" spc="-1" strike="noStrike" baseline="30000">
                <a:solidFill>
                  <a:srgbClr val="006600"/>
                </a:solidFill>
                <a:latin typeface="Arial"/>
              </a:rPr>
              <a:t>16</a:t>
            </a: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O and </a:t>
            </a:r>
            <a:r>
              <a:rPr b="1" lang="en-US" sz="3200" spc="-1" strike="noStrike" baseline="30000">
                <a:solidFill>
                  <a:srgbClr val="006600"/>
                </a:solidFill>
                <a:latin typeface="Arial"/>
              </a:rPr>
              <a:t>208</a:t>
            </a: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Pb</a:t>
            </a: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508AE-C84C-489B-AE19-BB284B094D6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676520" y="228600"/>
            <a:ext cx="579096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Tahoma"/>
              </a:rPr>
              <a:t>Benchmark test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380880" y="990720"/>
            <a:ext cx="3826080" cy="54864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4267080" y="1143000"/>
            <a:ext cx="4724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Elastic scattering of K</a:t>
            </a:r>
            <a:r>
              <a:rPr b="0" lang="en-US" sz="2400" spc="-1" strike="noStrike" baseline="30000">
                <a:solidFill>
                  <a:srgbClr val="0000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(705 MeV/c) on lead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327560" y="2362320"/>
            <a:ext cx="4816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on free nucleons, at a fixed angle a fixed recoil energy is expected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327560" y="3886200"/>
            <a:ext cx="4816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Here a distribution of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excitation energy</a:t>
            </a: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 can be extracted from data. This is determined by nuclear motion.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57120" y="4038480"/>
            <a:ext cx="61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43</a:t>
            </a:r>
            <a:r>
              <a:rPr b="0" lang="en-US" sz="2400" spc="-1" strike="noStrike" baseline="30000">
                <a:solidFill>
                  <a:srgbClr val="0000ff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914120" y="3200400"/>
            <a:ext cx="61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66"/>
                </a:solidFill>
                <a:latin typeface="Arial"/>
              </a:rPr>
              <a:t>24</a:t>
            </a:r>
            <a:r>
              <a:rPr b="0" lang="en-US" sz="2400" spc="-1" strike="noStrike" baseline="30000">
                <a:solidFill>
                  <a:srgbClr val="00cc66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3520" y="1219320"/>
            <a:ext cx="1143000" cy="1523880"/>
          </a:xfrm>
          <a:prstGeom prst="ellipse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1676160" y="1676520"/>
            <a:ext cx="685800" cy="22860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365200" y="1295280"/>
            <a:ext cx="2197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Discrepancy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due to the fact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that there was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no elastic scattering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on nuclei in FLUKA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433400" y="3200400"/>
            <a:ext cx="434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117 MeV at 43</a:t>
            </a:r>
            <a:r>
              <a:rPr b="0" lang="en-US" sz="2400" spc="-1" strike="noStrike" baseline="30000">
                <a:solidFill>
                  <a:srgbClr val="cc0000"/>
                </a:solidFill>
                <a:latin typeface="Arial"/>
              </a:rPr>
              <a:t>o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, 43 MeV at 24</a:t>
            </a:r>
            <a:r>
              <a:rPr b="0" lang="en-US" sz="2400" spc="-1" strike="noStrike" baseline="30000">
                <a:solidFill>
                  <a:srgbClr val="cc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01ECD-99A6-4E39-AEF4-45F0D9E25BE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