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09360" y="757080"/>
            <a:ext cx="494964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A8553F-425B-489D-83AC-FAC0BACC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033779-BCD9-493B-8967-3A60E565421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E0D3FA-6B3C-4318-9568-579EF88A1AD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B9C2-072D-475F-A9FE-EA6F48217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7226-8E3A-4B21-B9B6-DFCFD653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FDF0-69D7-4DBB-9879-E2994F0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9270-7ECF-4000-A271-FA2B70CA85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4F445-7D33-4B9F-A279-C995BDE0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1C014-C08B-4939-8740-0331021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7DFFC-A96B-4647-8467-1E861DFC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CC227-AA1C-4AE1-AA8C-D1AB9778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FA9B8-DD25-4DAE-A5D7-BDC1289A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C12F3-1E17-4201-B04B-31A0EF50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5A7E9-1E45-48DA-B92C-A5BC14C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40AF-8019-4BB2-B314-AA90F19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011E-6A92-42B4-8F67-C48D53B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30275-9D70-4C23-A1CD-80CA77D0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5F685-3BA2-4634-BACC-9874304F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3C1BF-32DB-4316-AE84-8D12947A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A485F-73FB-4EFD-876E-2A5B4700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06B2B-4D39-4236-87B5-303E2E2A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9049-0D8D-4CB9-A118-C09EC829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841B-D193-45BF-B39A-6C5CA7B9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754C-0B35-45F2-9575-FE3F3C33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DE20-B2DC-499F-B0D0-3894D131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3746-054F-4AF8-92F8-A4091A06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0AB1-A50A-45B3-99DE-820D937F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Line 3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3" name="Line 4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Arc 6"/>
            <p:cNvSpPr/>
            <p:nvPr/>
          </p:nvSpPr>
          <p:spPr>
            <a:xfrm>
              <a:off x="515880" y="803160"/>
              <a:ext cx="192240" cy="1936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FAA2-B981-4096-8FF8-6B46C7173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4"/>
          <p:cNvSpPr/>
          <p:nvPr/>
        </p:nvSpPr>
        <p:spPr>
          <a:xfrm>
            <a:off x="2627280" y="6248520"/>
            <a:ext cx="446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1440" y="887400"/>
            <a:ext cx="6654600" cy="2851200"/>
            <a:chOff x="1440" y="887400"/>
            <a:chExt cx="6654600" cy="2851200"/>
          </a:xfrm>
        </p:grpSpPr>
        <p:sp>
          <p:nvSpPr>
            <p:cNvPr id="48" name="Line 2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" name="Line 3"/>
            <p:cNvSpPr/>
            <p:nvPr/>
          </p:nvSpPr>
          <p:spPr>
            <a:xfrm flipH="1" flipV="1">
              <a:off x="1440" y="3050640"/>
              <a:ext cx="5097600" cy="18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4"/>
            <p:cNvSpPr/>
            <p:nvPr/>
          </p:nvSpPr>
          <p:spPr>
            <a:xfrm flipH="1" flipV="1">
              <a:off x="606240" y="1486080"/>
              <a:ext cx="604980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Arc 5"/>
            <p:cNvSpPr/>
            <p:nvPr/>
          </p:nvSpPr>
          <p:spPr>
            <a:xfrm rot="16200000">
              <a:off x="675360" y="1372320"/>
              <a:ext cx="247680" cy="24912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3" name="Line 7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" name="Arc 9"/>
            <p:cNvSpPr/>
            <p:nvPr/>
          </p:nvSpPr>
          <p:spPr>
            <a:xfrm rot="5400000">
              <a:off x="8091720" y="5320080"/>
              <a:ext cx="247680" cy="2494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FLUKA Houston Course: Combinatori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D706-F648-4317-87EF-8E0D281A501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xercise 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05" name="Picture 8" descr="logo3000x2000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11280" y="443700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B804-5C69-44D3-9380-D4B64AD15A5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x #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836280"/>
            <a:ext cx="82836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mkdir ~/work/ex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d ~/work/ex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wnload the previous ex1.inp from the website and rename it to ex2.in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mv ex1.inp ex2.in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dd two compound materials (water and air) and assign them to the target and the region around it (respectivel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emac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or any editor]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ex2.inp &amp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use as components the materials pre-defined in FLU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air composition (MASS content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NITROGEN (0.9256), OXYGEN (0.2837), ARGON (0.01572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calculate the density of air for standard conditions (22.4l/mol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un your new ex2.inp in the ex2 di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$FLUPRO/flutil/rfluka –N0 –M3 ex2 &amp;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mpare the energy deposited into the target and the region around it, now and in the previous case (ex1 director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 the same for the probability that a primary proton undergoes an inelastic collision (BEAMPART Star Density in the .out fil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33:45Z</dcterms:created>
  <dc:creator>Vasilis Vlachoudis</dc:creator>
  <dc:description/>
  <dc:language>en-US</dc:language>
  <cp:lastModifiedBy>Giuseppe Battistoni</cp:lastModifiedBy>
  <cp:lastPrinted>2004-07-08T08:47:15Z</cp:lastPrinted>
  <dcterms:modified xsi:type="dcterms:W3CDTF">2009-01-13T12:12:32Z</dcterms:modified>
  <cp:revision>883</cp:revision>
  <dc:subject/>
  <dc:title>PowerPoint Presentation</dc:title>
</cp:coreProperties>
</file>