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3992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0640" y="-360"/>
            <a:ext cx="322272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68280" y="738360"/>
            <a:ext cx="4819680" cy="36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92160" y="4574880"/>
            <a:ext cx="537048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151920"/>
            <a:ext cx="313992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0640" y="9151920"/>
            <a:ext cx="322272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C15696-EF8B-45B0-8E32-25BB3E4E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30640" y="9151920"/>
            <a:ext cx="322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E1C989-F089-486C-8881-50F5FCA0C5B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68280" y="738360"/>
            <a:ext cx="4819680" cy="3614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4574880"/>
            <a:ext cx="53704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68280" y="738360"/>
            <a:ext cx="4819680" cy="3614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4574880"/>
            <a:ext cx="53704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30640" y="9151920"/>
            <a:ext cx="322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3DD254-40FD-44F0-B821-95E1451A8D2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68280" y="738360"/>
            <a:ext cx="4819680" cy="3614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4574880"/>
            <a:ext cx="53704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30640" y="9151920"/>
            <a:ext cx="322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2631FB-2289-438B-83D5-11B06015D5F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68280" y="738360"/>
            <a:ext cx="4819680" cy="3614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4574880"/>
            <a:ext cx="537048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s will change for FAQ and Mailing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884-DBF3-4320-938F-FF10FC2A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375-FD40-4F5B-AA03-F5030FF6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9EF-DE4D-4D62-8D40-387F0437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C5B-9123-49D3-AB09-511F1A67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30B0-23CF-4A77-AE3A-594E0D77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84E3-7288-4FE6-97A2-9304C684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E0D8-8190-49A7-9D77-198DCA9E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3254-584E-48E7-A93A-CBAFF8DA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47F5-95E6-48E6-83D2-58AC8A89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80BD-A030-4A56-80F6-259AF264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D4EA-CE02-44C9-8DCF-159782A9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891-6680-4C1F-8E85-44A6E6BA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C15E-3C2A-462B-9AEF-5E624ADA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9BE0-0B28-4FE0-9F77-5764F641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C96F-CF55-4D47-8948-1C7EBC90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74B9-0CF4-4085-8B1F-E848BD72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896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68800" y="114264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48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896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68800" y="384912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30B0-444E-4A17-BD51-11FD490F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E89-B920-4989-8833-61F23B2A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5D9-EE6E-44BB-A0D4-F2C9110B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702-C5BE-4A4E-AA6F-A19A867A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0B2-22DA-41D9-9EB0-0A69F922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FC5-1432-4164-AEB7-1523C77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84912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03C-4970-476E-ABC1-6E7A5CC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14264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4912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620-F886-4DB9-B5ED-CA2C4F5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logo3000x2000light"/>
          <p:cNvPicPr/>
          <p:nvPr/>
        </p:nvPicPr>
        <p:blipFill>
          <a:blip r:embed="rId2"/>
          <a:stretch/>
        </p:blipFill>
        <p:spPr>
          <a:xfrm>
            <a:off x="611280" y="2060640"/>
            <a:ext cx="8208720" cy="29811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Line 3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12600">
            <a:solidFill>
              <a:srgbClr val="608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533520"/>
            <a:ext cx="1893600" cy="2590560"/>
            <a:chOff x="304920" y="533520"/>
            <a:chExt cx="1893600" cy="2590560"/>
          </a:xfrm>
        </p:grpSpPr>
        <p:sp>
          <p:nvSpPr>
            <p:cNvPr id="4" name="Line 4"/>
            <p:cNvSpPr/>
            <p:nvPr/>
          </p:nvSpPr>
          <p:spPr>
            <a:xfrm flipH="1">
              <a:off x="304920" y="898560"/>
              <a:ext cx="1893600" cy="0"/>
            </a:xfrm>
            <a:prstGeom prst="line">
              <a:avLst/>
            </a:prstGeom>
            <a:ln w="12600">
              <a:solidFill>
                <a:srgbClr val="608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Line 5"/>
            <p:cNvSpPr/>
            <p:nvPr/>
          </p:nvSpPr>
          <p:spPr>
            <a:xfrm>
              <a:off x="608040" y="533520"/>
              <a:ext cx="0" cy="2590560"/>
            </a:xfrm>
            <a:prstGeom prst="line">
              <a:avLst/>
            </a:prstGeom>
            <a:ln w="12600">
              <a:solidFill>
                <a:srgbClr val="608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" name="Arc 6"/>
            <p:cNvSpPr/>
            <p:nvPr/>
          </p:nvSpPr>
          <p:spPr>
            <a:xfrm>
              <a:off x="515880" y="803160"/>
              <a:ext cx="192240" cy="193680"/>
            </a:xfrm>
            <a:prstGeom prst="pie">
              <a:avLst/>
            </a:prstGeom>
            <a:noFill/>
            <a:ln cap="rnd" w="12600">
              <a:solidFill>
                <a:srgbClr val="608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088f8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088f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400440"/>
            <a:ext cx="446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th FLUKA Course – Paris Sept.29-Oct.3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DE91-56CE-45A1-8CFB-CC4AAFFE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"/>
          <p:cNvGrpSpPr/>
          <p:nvPr/>
        </p:nvGrpSpPr>
        <p:grpSpPr>
          <a:xfrm>
            <a:off x="1440" y="887400"/>
            <a:ext cx="6654600" cy="2851200"/>
            <a:chOff x="1440" y="887400"/>
            <a:chExt cx="6654600" cy="2851200"/>
          </a:xfrm>
        </p:grpSpPr>
        <p:sp>
          <p:nvSpPr>
            <p:cNvPr id="49" name="Line 2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12600">
              <a:solidFill>
                <a:srgbClr val="608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3"/>
            <p:cNvSpPr/>
            <p:nvPr/>
          </p:nvSpPr>
          <p:spPr>
            <a:xfrm flipH="1" flipV="1">
              <a:off x="1440" y="3050640"/>
              <a:ext cx="5097600" cy="1800"/>
            </a:xfrm>
            <a:prstGeom prst="line">
              <a:avLst/>
            </a:prstGeom>
            <a:ln w="12600">
              <a:solidFill>
                <a:srgbClr val="608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Line 4"/>
            <p:cNvSpPr/>
            <p:nvPr/>
          </p:nvSpPr>
          <p:spPr>
            <a:xfrm flipH="1" flipV="1">
              <a:off x="606240" y="1486080"/>
              <a:ext cx="6049800" cy="1440"/>
            </a:xfrm>
            <a:prstGeom prst="line">
              <a:avLst/>
            </a:prstGeom>
            <a:ln w="12600">
              <a:solidFill>
                <a:srgbClr val="608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" name="Arc 5"/>
            <p:cNvSpPr/>
            <p:nvPr/>
          </p:nvSpPr>
          <p:spPr>
            <a:xfrm rot="16200000">
              <a:off x="675360" y="1372320"/>
              <a:ext cx="247680" cy="249120"/>
            </a:xfrm>
            <a:prstGeom prst="pie">
              <a:avLst/>
            </a:prstGeom>
            <a:noFill/>
            <a:ln cap="rnd" w="12600">
              <a:solidFill>
                <a:srgbClr val="608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3" name="Group 10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4" name="Line 7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12600">
              <a:solidFill>
                <a:srgbClr val="608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12600">
              <a:solidFill>
                <a:srgbClr val="608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Arc 9"/>
            <p:cNvSpPr/>
            <p:nvPr/>
          </p:nvSpPr>
          <p:spPr>
            <a:xfrm rot="5400000">
              <a:off x="8091720" y="5320080"/>
              <a:ext cx="247680" cy="249480"/>
            </a:xfrm>
            <a:prstGeom prst="pie">
              <a:avLst/>
            </a:prstGeom>
            <a:noFill/>
            <a:ln cap="rnd" w="12600">
              <a:solidFill>
                <a:srgbClr val="608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088f8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088f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2842920" y="6237360"/>
            <a:ext cx="3384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7th FLUKA Course – Paris Sept.29-Oct.3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0DE4-5177-450B-B83A-937E02B57BAF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905120"/>
            <a:ext cx="777240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FLUKA</a:t>
            </a: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 - Basic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484360" y="4365360"/>
            <a:ext cx="54705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5th Karpacz Winter Schoo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b. 2-8, 20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" name="Picture 8" descr="logo3000x2000"/>
          <p:cNvPicPr/>
          <p:nvPr/>
        </p:nvPicPr>
        <p:blipFill>
          <a:blip r:embed="rId1"/>
          <a:stretch/>
        </p:blipFill>
        <p:spPr>
          <a:xfrm>
            <a:off x="6242040" y="0"/>
            <a:ext cx="2901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1AEA-28B3-45F0-AC5C-AC3F5DFE51F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50920" y="1052640"/>
            <a:ext cx="5616360" cy="5327640"/>
          </a:xfrm>
          <a:prstGeom prst="rect">
            <a:avLst/>
          </a:prstGeom>
          <a:solidFill>
            <a:srgbClr val="ffffff"/>
          </a:solidFill>
          <a:ln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 Simple Examp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04920" y="2435400"/>
            <a:ext cx="5486400" cy="2590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46560" y="1063800"/>
            <a:ext cx="580428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TITLE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FLUKA Course Exercise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23456789 123456789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123456789 123456789 123456789 123456789 123456789 123456789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DEFAULTS                                                                                                                   NEW-DEFA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BEAM                     -3.5     -0.082425            -1.7              0.0              0.0              1.0PROTON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BEAMPOS              0.0                0.0              0.1              0.0              0.0              0.0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23456789 123456789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123456789 123456789 123456789 123456789 123456789 123456789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OBEGIN                                                                                                                  COMBNAME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    0             Cylindrical Target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SPH BLK</a:t>
            </a: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0.0  0.0  0.0  10000.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 vacuum box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RPP VOI</a:t>
            </a: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-1000. 1000. -1000. 1000. -1000. 1000.</a:t>
            </a:r>
            <a:r>
              <a:rPr b="1" lang="en-US" sz="10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 Lead target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RCC TARG</a:t>
            </a: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0.0 0.0 0.0 0.0 0.0 10. 5.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800080"/>
                </a:solidFill>
                <a:latin typeface="Tahoma"/>
              </a:rPr>
              <a:t>END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 Regions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 Black Hole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BLKHOLE</a:t>
            </a: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   +BLK -VOI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 Void around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VAC</a:t>
            </a: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   +VOI -TARG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 Target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   +TARG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END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OEND   </a:t>
            </a:r>
            <a:r>
              <a:rPr b="1" lang="en-US" sz="1000" spc="-1" strike="noStrike">
                <a:solidFill>
                  <a:srgbClr val="b2b2b2"/>
                </a:solidFill>
                <a:latin typeface="Tahoma"/>
              </a:rPr>
              <a:t>                                                                                                              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23456789      123456789  123456789 123456789 123456789 123456789 123456789 123456789 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ASSIGNMA BLCKHOLE   BLKHOLE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ASSIGNMA      VACUUM            VAC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ASSIGNMA            LEAD     TARGET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ahoma"/>
              </a:rPr>
              <a:t>*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RANDOMIZ                1.0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START                     10.0               0.0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ST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0" name="Picture 7" descr="ex_1"/>
          <p:cNvPicPr/>
          <p:nvPr/>
        </p:nvPicPr>
        <p:blipFill>
          <a:blip r:embed="rId1"/>
          <a:stretch/>
        </p:blipFill>
        <p:spPr>
          <a:xfrm>
            <a:off x="4952880" y="2664000"/>
            <a:ext cx="4041720" cy="3031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124000" y="3971880"/>
            <a:ext cx="2743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Geometry embedded in the data card (useful for simple problems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8442720" y="2664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VAC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8064000" y="54072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LKHOL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Text Box 12"/>
          <p:cNvSpPr/>
          <p:nvPr/>
        </p:nvSpPr>
        <p:spPr>
          <a:xfrm rot="972600">
            <a:off x="6632280" y="37306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Text Box 13"/>
          <p:cNvSpPr/>
          <p:nvPr/>
        </p:nvSpPr>
        <p:spPr>
          <a:xfrm rot="972600">
            <a:off x="5639400" y="3502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1400" spc="-1" strike="noStrike" baseline="30000">
                <a:solidFill>
                  <a:srgbClr val="008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bea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5395-8E9A-4E4B-9480-F322FECB66C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repare the working spac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98388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Do not ru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side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$FLUPR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directories, therefo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o to your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ho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directory and create a subdirectory named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wor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c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mkdir wor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ange to the work subdirectory and create a new one name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cd wor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mkdir ex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cd ex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et the source example file from the course website (copy all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x1.in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file to your subdirectory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~/work/ex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</a:t>
            </a:r>
            <a:br>
              <a:rPr sz="2000"/>
            </a:br>
            <a:br>
              <a:rPr sz="11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ttp://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www.cern.ch/fluka-course/nea200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30EE-C54C-4A6C-85C0-56F32A1DA20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ow let’s test the installat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39880" y="98100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on after you have created your standard FLUKA we can run the first exampl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312920" y="3000240"/>
            <a:ext cx="70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$FLUPRO/flutil/rfluka -e $FLUPRO/flukahp -N0 -M1 ex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557680" y="34290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Line 7"/>
          <p:cNvSpPr/>
          <p:nvPr/>
        </p:nvSpPr>
        <p:spPr>
          <a:xfrm flipV="1">
            <a:off x="3429000" y="3499920"/>
            <a:ext cx="2071800" cy="7858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11280" y="4287960"/>
            <a:ext cx="42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pecifies the executab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e: if it is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flukahp in $FLUPRO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default)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n it can be omit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786800" y="34290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7643880" y="3500280"/>
            <a:ext cx="457200" cy="5716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487840" y="3933720"/>
            <a:ext cx="35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e of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card input file.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t must be a file name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****.inp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.inp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has 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omitted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7596000" y="2349360"/>
            <a:ext cx="360360" cy="648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7180560" y="1700280"/>
            <a:ext cx="17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. of cycle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default is 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6227640" y="2349360"/>
            <a:ext cx="936720" cy="719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418640" y="1700280"/>
            <a:ext cx="22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. of previous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ycle (default is 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EEF4-BE0D-4790-A254-92280597473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 rfluka does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38080" y="966960"/>
            <a:ext cx="72550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creates a temporary subdirectory: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$PWD/fluka_nnn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$PWD means the current director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nn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the system process-id assigned to FLUKA. There all necessary assignments are defined and output files are writte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928960" y="2500200"/>
            <a:ext cx="563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asct.b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$FLUPRO/ elasct.bi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luodt.da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$FLUPRO/ fluodt.d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t.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../ranex_100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t.1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ex_1001.o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t.1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libec_thihecufealw_10t.pemf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t.15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ex_1001.er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t.16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“geometry scratch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t.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anex_10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euxsc.b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$FLUPRO/ neuxsc-ind_260.bi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uclear.b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$FLUPRO/ nuclear.bi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gmapi.b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$FLUPRO/ sigmapi.bi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nloan.da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$FLUPRO/ xnloan.d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B106-60FA-4A46-B22B-9FC105809DC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t the end of the FLUKA run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36480" y="981000"/>
            <a:ext cx="66502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everything is OK the temporary directory disappea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the relevant results are copied in the start direc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moving link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moving temporary fil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aving output and random number se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aving additional files generat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oving fort.33 to /home/student/work/ex1001_fort.3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oving fort.47 to /home/student/work/ex1001_fort.4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oving fort.48 to /home/student/work/ex1001_fort.48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oving fort.49 to /home/student/work/ex1001_fort.49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oving fort.50 to /home/student/work/ex1001_fort.5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nd of FLUKA ru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187280" y="3573360"/>
            <a:ext cx="358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Line 6"/>
          <p:cNvSpPr/>
          <p:nvPr/>
        </p:nvSpPr>
        <p:spPr>
          <a:xfrm flipH="1">
            <a:off x="4785840" y="2500200"/>
            <a:ext cx="1143000" cy="1071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191040" y="1859040"/>
            <a:ext cx="58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y default you hav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n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.log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n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.ou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n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.er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anex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m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seed for cycle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 = n+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561000" y="4076640"/>
            <a:ext cx="22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dditional files resulting from the scoring required by the user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6429240" y="4143240"/>
            <a:ext cx="0" cy="1143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Line 10"/>
          <p:cNvSpPr/>
          <p:nvPr/>
        </p:nvSpPr>
        <p:spPr>
          <a:xfrm flipH="1">
            <a:off x="6214680" y="5294160"/>
            <a:ext cx="22860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Line 11"/>
          <p:cNvSpPr/>
          <p:nvPr/>
        </p:nvSpPr>
        <p:spPr>
          <a:xfrm flipH="1">
            <a:off x="6214680" y="4143240"/>
            <a:ext cx="22860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9161-AFFF-4ABB-873E-387CBBA232C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hecking FLUKA during the ru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42960" y="907920"/>
            <a:ext cx="803268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ok in the temporary directory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) Initialization phase ends when the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*.er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ile is opene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) Inside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*.er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ile and (at the end of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*.ou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ile) the progress in the number of events is given in the line immediately following the one which starts by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800000"/>
                </a:solidFill>
                <a:latin typeface="Tahoma"/>
              </a:rPr>
              <a:t>NEXT SEED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”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EEDS:  C8888D       0       0       0       0       0 33B49B1       0       0       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                9                     9             0.0000000E+00         1.0000000E+30                 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EEDS:  C88894       0       0       0       0       0 33B49B1       0       0       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                  8                     8             5.0010681E-03         1.0000000E+30                 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EEDS:  C8889A       0       0       0       0       0 33B49B1       0       0       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                    7                     7             3.3340454E-03         1.0000000E+30                 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942840" y="4214880"/>
            <a:ext cx="641160" cy="1218960"/>
            <a:chOff x="942840" y="4214880"/>
            <a:chExt cx="641160" cy="1218960"/>
          </a:xfrm>
        </p:grpSpPr>
        <p:sp>
          <p:nvSpPr>
            <p:cNvPr id="201" name="Oval 7"/>
            <p:cNvSpPr/>
            <p:nvPr/>
          </p:nvSpPr>
          <p:spPr>
            <a:xfrm>
              <a:off x="1298880" y="4214880"/>
              <a:ext cx="28512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2" name="Line 8"/>
            <p:cNvSpPr/>
            <p:nvPr/>
          </p:nvSpPr>
          <p:spPr>
            <a:xfrm flipV="1">
              <a:off x="942840" y="4519440"/>
              <a:ext cx="42768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03" name="Oval 9"/>
          <p:cNvSpPr/>
          <p:nvPr/>
        </p:nvSpPr>
        <p:spPr>
          <a:xfrm>
            <a:off x="2714760" y="4214880"/>
            <a:ext cx="285480" cy="304560"/>
          </a:xfrm>
          <a:prstGeom prst="ellipse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Line 10"/>
          <p:cNvSpPr/>
          <p:nvPr/>
        </p:nvSpPr>
        <p:spPr>
          <a:xfrm flipH="1" flipV="1">
            <a:off x="2887200" y="4503600"/>
            <a:ext cx="428760" cy="9144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95280" y="5300640"/>
            <a:ext cx="19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EVENTS ALREAD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MPLETE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2949480" y="5326200"/>
            <a:ext cx="1617840" cy="580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TO BE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5207040" y="4505400"/>
            <a:ext cx="1359000" cy="14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Line 14"/>
          <p:cNvSpPr/>
          <p:nvPr/>
        </p:nvSpPr>
        <p:spPr>
          <a:xfrm flipH="1" flipV="1">
            <a:off x="5567040" y="4500720"/>
            <a:ext cx="927000" cy="8380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258960" y="5283360"/>
            <a:ext cx="2474280" cy="580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VERAGE CPU TIM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UMED PER EVEN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94C7-7A15-40A6-93AA-414E8EED422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ips &amp; Trick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Tahoma"/>
              </a:rPr>
              <a:t>How to make a “clean” stop of FLUKA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1500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re “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lea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” means performing CLOSE of all files and removing the temporary directory and fi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1001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 the temporary run (</a:t>
            </a: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fluka_XXXX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 directory: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uch fluka.sto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 stop the present cyc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u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uka.sto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 stop this and all remaining cyc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1500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clean stop will occur at the next CPU-time check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i.e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at the same time when printing the random number calls : se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TAR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card instructions (5th parameter) for the frequency of these checks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1500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the check is never performed it means that the program has entered an infinite loop (probably a fault in user cod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F4D1-0374-431E-9692-AA014E9F153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How to download and install Fluk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893880"/>
            <a:ext cx="832140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wo ways of downloading the FLUKA software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om the FLUKA website http://www.fluka.org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om NEA databank http://www.nea.fr through the liaison officer from your</a:t>
            </a:r>
            <a:br>
              <a:rPr sz="1800"/>
            </a:b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institu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t is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mandatory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to be registered as FLUKA user. Follow the following link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http://www.fluka.org/download.htm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fter registration (or using your user-id and password) normally you can then proceed in downloading the latest official release versio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efore continuing we just need to find out one more thing, the ‘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hell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’ you’re using on your computer (mostly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bash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or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csh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. For this purpose please issue the following command in a terminal window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o $SHEL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ou will then get as a results the current shell which is used on your computer, </a:t>
            </a:r>
            <a:r>
              <a:rPr b="0" i="1" lang="en-US" sz="1800" spc="-1" strike="noStrike">
                <a:solidFill>
                  <a:srgbClr val="40458c"/>
                </a:solidFill>
                <a:latin typeface="Tahoma"/>
              </a:rPr>
              <a:t>i.e.,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ne of the following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bin/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ba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bin/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5DAE-AF28-4EFA-B7C4-4305FBDA109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First identify the location of the FLUKA distribution file: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fluka2008.3-linuxAA.tar.gz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epending on the OS and the method you used most probably will be located in one of the following directories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media/FLUKA/Softwar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in case you are using the USB stick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r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800000"/>
                </a:solidFill>
                <a:latin typeface="Tahoma"/>
              </a:rPr>
              <a:t>$HOME</a:t>
            </a:r>
            <a:r>
              <a:rPr b="0" lang="en-US" sz="1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if you downloaded from the web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800000"/>
                </a:solidFill>
                <a:latin typeface="Tahoma"/>
              </a:rPr>
              <a:t>$HO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Desk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-//- depending on your browser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e will create a directo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UK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under your home directory to install FLUK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e following commands issued from a </a:t>
            </a:r>
            <a:r>
              <a:rPr b="0" lang="en-US" sz="1600" spc="-1" strike="noStrike">
                <a:solidFill>
                  <a:srgbClr val="800000"/>
                </a:solidFill>
                <a:latin typeface="Tahoma"/>
              </a:rPr>
              <a:t>terminal/console windo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will perform the entire installation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change directory to your hom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kdir FLUK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create a directory called FLUK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d FLUK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change to the FLUKA directory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 xzf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/media/disk/Software/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fluka2008.3-linuxAA.tar.g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expand the FLUKA packag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FLUPRO=$HOME/FLUK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set FLUPRO in </a:t>
            </a:r>
            <a:r>
              <a:rPr b="1" i="1" lang="en-US" sz="1400" spc="-1" strike="noStrike">
                <a:solidFill>
                  <a:srgbClr val="008000"/>
                </a:solidFill>
                <a:latin typeface="Tahoma"/>
              </a:rPr>
              <a:t>bash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 shell or similar</a:t>
            </a:r>
            <a:br>
              <a:rPr sz="1400"/>
            </a:b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etenv FLUPRO $HOME/FLUK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set FLUPRO  in </a:t>
            </a:r>
            <a:r>
              <a:rPr b="1" i="1" lang="en-US" sz="1400" spc="-1" strike="noStrike">
                <a:solidFill>
                  <a:srgbClr val="008000"/>
                </a:solidFill>
                <a:latin typeface="Tahoma"/>
              </a:rPr>
              <a:t>tcsh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 shell or similar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00000"/>
                </a:solidFill>
                <a:latin typeface="Tahoma"/>
              </a:rPr>
              <a:t>make</a:t>
            </a:r>
            <a:r>
              <a:rPr b="0" lang="en-US" sz="16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# compile FLUK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541440"/>
                <a:tab algn="l" pos="430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How to download and install Fluk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C859-F172-4821-B7B9-6ED664F679B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820872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e only thing left to do is to make these settings persistent on your computer, </a:t>
            </a:r>
            <a:r>
              <a:rPr b="0" i="1" lang="en-US" sz="1600" spc="-1" strike="noStrike">
                <a:solidFill>
                  <a:srgbClr val="40458c"/>
                </a:solidFill>
                <a:latin typeface="Tahoma"/>
              </a:rPr>
              <a:t>i.e.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, you don’t have to set the environment variable again when you open a new terminal or log into your computer. We will thus add the following lines into your shell configuration file in your main directory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ash users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emacs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[or any editor]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.bashr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go to the end of the document and add the following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FLUPRO=${HOME}/FLUKA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PATH=${PATH}:$FLUPRO:$FLUPRO/fluti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csh users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emacs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[or any editor]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.tcshr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go to the end of the document and add the following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env FLUPRO ${HOME}/FLUKA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env PATH ${PATH}:$FLUPRO:$FLUPRO/fluti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e changes will be activated on the next login or if you type the comman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 .bashrc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 .tcshr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226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ersistent setting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5AAD-5A38-45E3-8F07-1A43FFB2610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FLUKA directory structur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ta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command will create the following directory structure in your fluka installation directory: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~/FLU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173240" y="2401920"/>
            <a:ext cx="287964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036680" y="240192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Root directory of FLU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985920" y="38419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Utility programs and scrip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039560" y="333864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All FLUKA comm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015800" y="528156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Fortran user rout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089960" y="29066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PMJET data fi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034520" y="4346640"/>
            <a:ext cx="42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libraries to DPMJ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996000" y="47782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libraries to rQM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1935000" y="2492280"/>
            <a:ext cx="1773360" cy="3477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U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44AB-1B97-4438-BE0B-459DF1F3984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06760" y="1844640"/>
            <a:ext cx="2820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gmapi.b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asct.b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brems_fin.b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hff.b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gxsect.b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euxsc-ind_260.b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euxsc-ind_72.b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uclear.b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fluodt.d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6r1nds3.fy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jef2.fy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jendl3.fy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xnloan.d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FLUKA release: 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main directory $FLUPR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78000" y="112536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ibflukahp.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bject collectio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39200" y="1989000"/>
            <a:ext cx="9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flu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flu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ff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787640" y="3500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andom.d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619520" y="44370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flukapro/   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luka comm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618800" y="4869000"/>
            <a:ext cx="37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usermvax/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23960" y="14842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ysics data fil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134600" y="1484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ic Scripts: (in $FLUPRO/fluti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047040" y="6922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ain Librar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3240" y="314172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andom Number se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4185360" y="393372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mportant Directo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4621320" y="537372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flutil/         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utili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EA54-6790-4EE9-BC65-132404A2501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’s inside the physics data files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055520"/>
            <a:ext cx="8461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pi.bin: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ion-N double-diff. cross se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ct.bin: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astic scattering cross se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ms_fin.b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bremsstrahlung cross se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ff.b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tomic form factor tabul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xsect.b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hoton cross se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xsc-ind_260.bin: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w energy neutron multi-group cross se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.bin: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uclear masses, mass excesses, levels, and many other nuclear data for evaporation, pre-equilibrium, Fermi break up and photonuclear cross sections, gamma and beta databa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odt.dat: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Fluorescence data (photoelectric effec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6r1nds3.fy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2.fyi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Fission products (for neutrons with E&lt;20MeV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dl3.fyi: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nloan.da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785960" y="40006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82520" y="5924520"/>
            <a:ext cx="89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ARNING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Never mix files from different FLUKA distribu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D70A-8D5E-4818-AA81-EBD7F95DDF8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vailable Documentat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fluka2008.manu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ASCII version of the manual (easy to edi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FM.pd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current version of the FLUKA manu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ERN-2005-10.pd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fficial reference for FLU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 navigate the manual, online version (http://www.fluka.org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 (when using FLAIR) press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F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o get an interactive manual (which can be also called on prompt level by typing ‘</a:t>
            </a: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fm’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’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 (at a further stage)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FAQ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vailable at: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http://www.fluka.org/fluka.php?id=faq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 (at a further stage) the archive of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fluka-discus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http://www.fluka.org/MailingList.html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6934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612D-126A-43F9-8391-4C4679A4E6C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900000" y="5805360"/>
            <a:ext cx="4967280" cy="360360"/>
          </a:xfrm>
          <a:prstGeom prst="rect">
            <a:avLst/>
          </a:prstGeom>
          <a:solidFill>
            <a:srgbClr val="f4e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nput examp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907560"/>
            <a:ext cx="828360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LUKA is driven by the user almost completely by means of an input fil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(.inp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which contains directives issued in the form of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DATA CAR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tandard release provides a simple case to test the installation: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xample.in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(Production of particles in p-Be collisions with a 50 GeV/c  proton beam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different exampl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used along this course, which will be varied in different ways for didactic reas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will start with a minimum input file and after each lecture we will enhance our example with more and more functiona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is strongly recommended that for every exercise you create a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ubdirector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i.e.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x1, ex2, ex3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where all the necessary input and output file will be stor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088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 better clarity before starting a new exercise you will get the solution of the previous one, to be picked up at the course website: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ttp://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ww.cern.ch/fluka-course/nea2008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33:45Z</dcterms:created>
  <dc:creator>Vasilis Vlachoudis</dc:creator>
  <dc:description/>
  <dc:language>en-US</dc:language>
  <cp:lastModifiedBy>Giuseppe Battistoni</cp:lastModifiedBy>
  <cp:lastPrinted>2004-07-08T08:47:15Z</cp:lastPrinted>
  <dcterms:modified xsi:type="dcterms:W3CDTF">2009-01-25T17:55:24Z</dcterms:modified>
  <cp:revision>925</cp:revision>
  <dc:subject/>
  <dc:title>PowerPoint Presentation</dc:title>
</cp:coreProperties>
</file>