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0213AD-E4FD-48B7-8BE0-4F6C3FF1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7083CB-B82C-474B-A5CA-11F496CDB36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57A7CF-8E9C-4326-A1E2-0E103631AF4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365-7706-470C-90AC-2A5F3607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0F3-30C3-4FDD-8F23-F5B0FE7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EF5-AEB0-4AA3-ACA3-671C6CAA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2C9-2159-4347-AF1A-71EC1523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BF3E-F77D-4FCF-8D64-CE3C270E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7C99-489A-4601-A45E-B34B516D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4968-0869-4C8D-805A-EA267CA6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3462-67EA-4C85-9F3C-48F4E45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2895-9C85-45F9-8E01-42AE175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E64-2FDB-4C5A-AEAA-6C54ACF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FA7F-37E3-4CCB-AFE0-70D062C0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31E-2B9B-48AB-AA93-C82973F2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63A7-347E-4A83-8291-5289182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A121-4C7F-45EC-9802-C222B1D1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CCC0-C866-42EC-B1FC-FA5A9D4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F3FA-BA0B-40A8-B7AA-733302CF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BE2C-C90B-4142-B7A3-0A0AA032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5FA-A8B7-461D-B824-7C3AF165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FBC-7042-496B-8D60-05654E6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8CF-51B5-4D0C-811F-E4FC91B7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1CA-C5C5-4837-9379-B7E028C2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77C-176D-40E4-B3B7-DFBF407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2AC-D5B4-4D29-A97E-F3E15C51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EC2-073B-47C5-9C70-77807F4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3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rd - 27th Jun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26920" y="640044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th FLUKA Course - CERN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E18-DD37-45A9-A98B-D5B96156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8" name="Line 2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3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4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Arc 5"/>
            <p:cNvSpPr/>
            <p:nvPr/>
          </p:nvSpPr>
          <p:spPr>
            <a:xfrm rot="16200000">
              <a:off x="675360" y="1372320"/>
              <a:ext cx="247680" cy="24912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3" name="Line 7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" name="Arc 9"/>
            <p:cNvSpPr/>
            <p:nvPr/>
          </p:nvSpPr>
          <p:spPr>
            <a:xfrm rot="5400000">
              <a:off x="8091720" y="5320080"/>
              <a:ext cx="247680" cy="2494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23rd - 27th Jun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imes New Roman"/>
              </a:rPr>
              <a:t>6th FLUKA Course - CERN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E2CE-1EC7-4948-B105-695B316BDA6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ercise 4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05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95640" y="443700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(during the lecture FLAIR 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wnload ex4.inp and ex4.flair into the ex4 direc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un it using FLA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 the different scoring files and plot the resul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33:45Z</dcterms:created>
  <dc:creator>Vasilis Vlachoudis</dc:creator>
  <dc:description/>
  <dc:language>en-US</dc:language>
  <cp:lastModifiedBy>Giuseppe Battistoni</cp:lastModifiedBy>
  <cp:lastPrinted>2004-07-08T08:47:15Z</cp:lastPrinted>
  <dcterms:modified xsi:type="dcterms:W3CDTF">2009-01-13T12:13:03Z</dcterms:modified>
  <cp:revision>877</cp:revision>
  <dc:subject/>
  <dc:title>PowerPoint Presentation</dc:title>
</cp:coreProperties>
</file>