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139920" cy="515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4130640" y="-360"/>
            <a:ext cx="3222720" cy="515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267920" y="738000"/>
            <a:ext cx="4821480" cy="361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90360" y="4574880"/>
            <a:ext cx="5373720" cy="4281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0" y="9153360"/>
            <a:ext cx="3139920" cy="439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4130640" y="9153360"/>
            <a:ext cx="3222720" cy="439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B43034D-C3E5-4BFC-8EA1-5FFCCC3061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130640" y="9153360"/>
            <a:ext cx="32227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8240" bIns="4824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93BE290-FBF2-4B9E-BB58-18148D6A5D4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68280" y="738360"/>
            <a:ext cx="4821480" cy="3616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90360" y="4574880"/>
            <a:ext cx="537372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9CD9-C0A6-408C-A589-43B484716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1204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09480" y="3849120"/>
            <a:ext cx="7925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BA1E-67D9-4025-9CC0-60F68C18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1204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" y="384912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0280" y="384912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B34F-B39B-4295-A1A2-8462F3BB5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204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88960" y="114264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68800" y="114264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09480" y="384912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88960" y="384912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68800" y="384912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6B0D-EFF8-40D0-A658-21ED43019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327D-4E49-4202-9DC5-086976A95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204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A85B4-2A64-460D-87E3-414C19CB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204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AB940-5396-478A-B12F-8739D6E6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204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859D-2731-47A1-A106-21E408E0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204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98B14-9142-4EF9-A2EA-D0441E39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7A88-94E8-4EE7-A5B5-85ADA72F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204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84912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46DA-CE6C-4B47-9E9A-BD476DA0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204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BDAA-EB81-465C-806F-60CA3A01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204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0280" y="384912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2882-8EC5-436F-989F-9AA529DB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204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849120"/>
            <a:ext cx="7925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CC8A-187E-438F-B02F-1E1A7C64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204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9480" y="3849120"/>
            <a:ext cx="7925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EDC97-5F69-4142-8474-5FA38ADC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204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9480" y="384912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0280" y="384912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05F3-1EF6-4DCA-B172-E6825B5A4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204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8960" y="114264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68800" y="114264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09480" y="384912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8960" y="384912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68800" y="384912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383F8-49AC-490F-B3CD-9ABC62F59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204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7A77-231D-440F-B3FF-F3AC47B9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1204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AF34-9FD0-45C5-AF7D-77DF7000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204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5C6B-1791-497C-B6D1-B715BB21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EFDC-A525-4495-BB0D-95680C21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1204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84912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0C61-9ABD-487B-B7A8-927A6AF0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1204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0280" y="384912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FBC0-D9AC-4F8C-9FA7-D8423BA7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204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849120"/>
            <a:ext cx="7925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152E-B32F-472B-B28B-808E3B39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" descr="logo3000x2000light"/>
          <p:cNvPicPr/>
          <p:nvPr/>
        </p:nvPicPr>
        <p:blipFill>
          <a:blip r:embed="rId2"/>
          <a:stretch/>
        </p:blipFill>
        <p:spPr>
          <a:xfrm>
            <a:off x="611280" y="2060640"/>
            <a:ext cx="8208720" cy="298116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" name="Line 3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304920" y="533520"/>
            <a:ext cx="1893600" cy="2590560"/>
            <a:chOff x="304920" y="533520"/>
            <a:chExt cx="1893600" cy="2590560"/>
          </a:xfrm>
        </p:grpSpPr>
        <p:sp>
          <p:nvSpPr>
            <p:cNvPr id="4" name="Line 4"/>
            <p:cNvSpPr/>
            <p:nvPr/>
          </p:nvSpPr>
          <p:spPr>
            <a:xfrm flipH="1">
              <a:off x="304920" y="898560"/>
              <a:ext cx="189360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" name="Line 5"/>
            <p:cNvSpPr/>
            <p:nvPr/>
          </p:nvSpPr>
          <p:spPr>
            <a:xfrm>
              <a:off x="608040" y="533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" name="Arc 6"/>
            <p:cNvSpPr/>
            <p:nvPr/>
          </p:nvSpPr>
          <p:spPr>
            <a:xfrm>
              <a:off x="512640" y="800280"/>
              <a:ext cx="192240" cy="193320"/>
            </a:xfrm>
            <a:prstGeom prst="pie">
              <a:avLst/>
            </a:prstGeom>
            <a:noFill/>
            <a:ln cap="rnd" w="12600">
              <a:solidFill>
                <a:srgbClr val="6f89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09480" y="11426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929B-DBF0-45A8-85DD-2CA3711811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700360" y="6453000"/>
            <a:ext cx="4248000" cy="2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LUKA Course, Paris, Sept.29-Oct.3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933960" y="6400440"/>
            <a:ext cx="1600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47AC-E003-4E0E-847F-BF0899A60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6"/>
          <p:cNvGrpSpPr/>
          <p:nvPr/>
        </p:nvGrpSpPr>
        <p:grpSpPr>
          <a:xfrm>
            <a:off x="2880" y="887400"/>
            <a:ext cx="6654600" cy="2851200"/>
            <a:chOff x="2880" y="887400"/>
            <a:chExt cx="6654600" cy="2851200"/>
          </a:xfrm>
        </p:grpSpPr>
        <p:sp>
          <p:nvSpPr>
            <p:cNvPr id="49" name="Line 2"/>
            <p:cNvSpPr/>
            <p:nvPr/>
          </p:nvSpPr>
          <p:spPr>
            <a:xfrm>
              <a:off x="803160" y="887400"/>
              <a:ext cx="0" cy="285120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0" name="Line 3"/>
            <p:cNvSpPr/>
            <p:nvPr/>
          </p:nvSpPr>
          <p:spPr>
            <a:xfrm flipH="1" flipV="1">
              <a:off x="2880" y="3052800"/>
              <a:ext cx="5097240" cy="144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1" name="Line 4"/>
            <p:cNvSpPr/>
            <p:nvPr/>
          </p:nvSpPr>
          <p:spPr>
            <a:xfrm flipH="1" flipV="1">
              <a:off x="607680" y="1487520"/>
              <a:ext cx="6049800" cy="144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2" name="Arc 5"/>
            <p:cNvSpPr/>
            <p:nvPr/>
          </p:nvSpPr>
          <p:spPr>
            <a:xfrm rot="16200000">
              <a:off x="675360" y="1369440"/>
              <a:ext cx="247680" cy="249120"/>
            </a:xfrm>
            <a:prstGeom prst="pie">
              <a:avLst/>
            </a:prstGeom>
            <a:noFill/>
            <a:ln cap="rnd" w="12600">
              <a:solidFill>
                <a:srgbClr val="6f89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53" name="Group 10"/>
          <p:cNvGrpSpPr/>
          <p:nvPr/>
        </p:nvGrpSpPr>
        <p:grpSpPr>
          <a:xfrm>
            <a:off x="2349360" y="3098880"/>
            <a:ext cx="6045480" cy="2876400"/>
            <a:chOff x="2349360" y="3098880"/>
            <a:chExt cx="6045480" cy="2876400"/>
          </a:xfrm>
        </p:grpSpPr>
        <p:sp>
          <p:nvSpPr>
            <p:cNvPr id="54" name="Line 7"/>
            <p:cNvSpPr/>
            <p:nvPr/>
          </p:nvSpPr>
          <p:spPr>
            <a:xfrm>
              <a:off x="2349360" y="5464080"/>
              <a:ext cx="6045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5" name="Line 8"/>
            <p:cNvSpPr/>
            <p:nvPr/>
          </p:nvSpPr>
          <p:spPr>
            <a:xfrm>
              <a:off x="8210520" y="3098880"/>
              <a:ext cx="0" cy="287640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Arc 9"/>
            <p:cNvSpPr/>
            <p:nvPr/>
          </p:nvSpPr>
          <p:spPr>
            <a:xfrm rot="5400000">
              <a:off x="8092080" y="5317200"/>
              <a:ext cx="247320" cy="249480"/>
            </a:xfrm>
            <a:prstGeom prst="pie">
              <a:avLst/>
            </a:prstGeom>
            <a:noFill/>
            <a:ln cap="rnd" w="12600">
              <a:solidFill>
                <a:srgbClr val="6f89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09480" y="11426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3FC7-646D-4E36-9379-5501BF03C274}" type="datetime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2700360" y="6248520"/>
            <a:ext cx="3672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7</a:t>
            </a:r>
            <a:r>
              <a:rPr b="0" lang="en-US" sz="1400" spc="-1" strike="noStrike" baseline="30000">
                <a:solidFill>
                  <a:srgbClr val="40458c"/>
                </a:solidFill>
                <a:latin typeface="Times New Roman"/>
              </a:rPr>
              <a:t>th</a:t>
            </a: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 Fluka Course, Paris Sept.29-Oct.3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B5CC-7219-4241-BA36-B5AD5A67D401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fluka.org/" TargetMode="External"/><Relationship Id="rId2" Type="http://schemas.openxmlformats.org/officeDocument/2006/relationships/hyperlink" Target="http://www.knoppix.net/" TargetMode="External"/><Relationship Id="rId3" Type="http://schemas.openxmlformats.org/officeDocument/2006/relationships/hyperlink" Target="http://www.virtualbox.org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X86_virtualization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4508640" y="3365640"/>
            <a:ext cx="139680" cy="139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508640" y="3365640"/>
            <a:ext cx="139680" cy="1396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FLUPIX and VirtualBox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132000" y="4436640"/>
            <a:ext cx="51120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5th Karpacz Winter School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eb. 2-8, 2009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09" name="Picture 16" descr="logo3000x2000"/>
          <p:cNvPicPr/>
          <p:nvPr/>
        </p:nvPicPr>
        <p:blipFill>
          <a:blip r:embed="rId3"/>
          <a:stretch/>
        </p:blipFill>
        <p:spPr>
          <a:xfrm>
            <a:off x="6012000" y="189000"/>
            <a:ext cx="290196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2"/>
          <p:cNvSpPr/>
          <p:nvPr/>
        </p:nvSpPr>
        <p:spPr>
          <a:xfrm>
            <a:off x="6934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68C4-63AB-4543-9F7C-92ACFE93F75E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Interfac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09480" y="11426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LUPIX has precompiled the utilities from VirtualBox that allow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ahoma"/>
              </a:rPr>
              <a:t>Mouse integration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(only in X11). The mouse of the host is used as such from the guest system. In all other displays the guest is getting the FULL control of the mous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 special driver for </a:t>
            </a:r>
            <a:r>
              <a:rPr b="0" lang="en-US" sz="1800" spc="-1" strike="noStrike">
                <a:solidFill>
                  <a:srgbClr val="c00000"/>
                </a:solidFill>
                <a:latin typeface="Tahoma"/>
              </a:rPr>
              <a:t>X11 video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for faster and smoother graphics (Change the video driver in 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/etc/X11/xorg.conf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to 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“vboxvideo”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ahoma"/>
              </a:rPr>
              <a:t>Time synchronization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with the host system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ahoma"/>
              </a:rPr>
              <a:t>Folder sharing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rom the host to the guest system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Remember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the “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Right-Ctrl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” key is the default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Host key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of your Virtual Machine. With the use of this key you can redirect all input (keyboard+mouse) from your host to your guest system and many other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2"/>
          <p:cNvSpPr/>
          <p:nvPr/>
        </p:nvSpPr>
        <p:spPr>
          <a:xfrm>
            <a:off x="6934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BE10-F1A4-474D-A718-343C226F0184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Accessing your host directori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09480" y="11426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re are several ways of accessing directories from the host system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easiest way is through the use of a Shared Folde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reate a Shared folder from your VirtualBox and give a name e.g. </a:t>
            </a:r>
            <a:r>
              <a:rPr b="0" i="1" lang="en-US" sz="2000" spc="-1" strike="noStrike">
                <a:solidFill>
                  <a:srgbClr val="010103"/>
                </a:solidFill>
                <a:latin typeface="Tahoma"/>
              </a:rPr>
              <a:t>home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rom FLUPIX call the command</a:t>
            </a:r>
            <a:br>
              <a:rPr sz="2000"/>
            </a:b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Tahoma"/>
              </a:rPr>
              <a:t>vboxmount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   </a:t>
            </a:r>
            <a:r>
              <a:rPr b="0" i="1" lang="en-US" sz="2000" spc="-1" strike="noStrike">
                <a:solidFill>
                  <a:srgbClr val="010103"/>
                </a:solidFill>
                <a:latin typeface="Tahoma"/>
              </a:rPr>
              <a:t>home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6600"/>
                </a:solidFill>
                <a:latin typeface="Tahoma"/>
              </a:rPr>
              <a:t>~/hom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command will create a directory ~/home and mount the Shared folder </a:t>
            </a:r>
            <a:r>
              <a:rPr b="0" i="1" lang="en-US" sz="2000" spc="-1" strike="noStrike">
                <a:solidFill>
                  <a:srgbClr val="010103"/>
                </a:solidFill>
                <a:latin typeface="Tahoma"/>
              </a:rPr>
              <a:t>home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o i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dd the command to your profile script to be executed on every logi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You cannot run FLUKA inside a shared folder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since symbolinc links are not supporte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2"/>
          <p:cNvSpPr/>
          <p:nvPr/>
        </p:nvSpPr>
        <p:spPr>
          <a:xfrm>
            <a:off x="6934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75CD-9D64-42E6-91E7-910A2591F9C6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hutting down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09480" y="11426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ways try to shutdown correctly the VirtualMachine, from the KDE menu.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therwise you can end up with a corrupted persistent imag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You can even save the machine state, which is equivalent like StandBy. It will create a file equal to the size of the RAM defined 512M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2"/>
          <p:cNvSpPr/>
          <p:nvPr/>
        </p:nvSpPr>
        <p:spPr>
          <a:xfrm>
            <a:off x="6934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4C68-09B0-4E3A-B106-5D4A4A7729E0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Introduction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09480" y="11426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LUPIX (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FLU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KA in KNOP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PIX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) is a 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FLUKA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lang="en-US" sz="2000" spc="-1" strike="noStrike" u="sng">
                <a:solidFill>
                  <a:srgbClr val="6f89f7"/>
                </a:solidFill>
                <a:uFillTx/>
                <a:latin typeface="Tahoma"/>
                <a:hlinkClick r:id="rId1"/>
              </a:rPr>
              <a:t>www.fluka.org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) + 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Flair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lang="en-US" sz="2000" spc="-1" strike="noStrike" u="sng">
                <a:solidFill>
                  <a:srgbClr val="657bd4"/>
                </a:solidFill>
                <a:uFillTx/>
                <a:latin typeface="Tahoma"/>
              </a:rPr>
              <a:t>www.fluka.org/flair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) Live CD based on 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Knoppix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lang="en-US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www.knoppix.net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), a Free and Open Source Live Linux C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Knoppix is a GNU/Linux distribution that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boots and runs completely from CD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. It includes recent linux software and desktop environment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CD contains the minimum possible working version of Linux with KDE, with all the necessary packages for compiling and running FLUKA and Flair. Total size ~500MB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CD is specially configured for running under VirtualBox (</a:t>
            </a:r>
            <a:r>
              <a:rPr b="0" lang="en-US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www.virtualbox.org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) an open source virtual machine by Sun. It is available under many platforms (all Linux, M$ Windows, Mac OS, OpenSolaris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oftware location inside FLUPIX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103"/>
                </a:solidFill>
                <a:latin typeface="Tahoma"/>
              </a:rPr>
              <a:t>FLUKA: /usr/local/fluk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103"/>
                </a:solidFill>
                <a:latin typeface="Tahoma"/>
              </a:rPr>
              <a:t>FLAIR: /usr/local/flair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2"/>
          <p:cNvSpPr/>
          <p:nvPr/>
        </p:nvSpPr>
        <p:spPr>
          <a:xfrm>
            <a:off x="6934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4705-C424-454E-9DD6-856AF3CECDF5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VirtualBox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11426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VirtualBox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is an 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1"/>
              </a:rPr>
              <a:t>x86 virtualization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software package originally created Innotek and now being developed by Sun Microsystems as part of its Sun xVM virtualization platfor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t is installed on an existing </a:t>
            </a:r>
            <a:r>
              <a:rPr b="0" lang="en-US" sz="2400" spc="-1" strike="noStrike">
                <a:solidFill>
                  <a:srgbClr val="c00000"/>
                </a:solidFill>
                <a:latin typeface="Tahoma"/>
              </a:rPr>
              <a:t>hos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operating system; within this application, additional operating systems, each known as a </a:t>
            </a:r>
            <a:r>
              <a:rPr b="0" i="1" lang="en-US" sz="2400" spc="-1" strike="noStrike">
                <a:solidFill>
                  <a:srgbClr val="c00000"/>
                </a:solidFill>
                <a:latin typeface="Tahoma"/>
              </a:rPr>
              <a:t>Guest O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can be loaded and run, each with its own virtual environment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r example, Linux can be guest hosted on a single virtual machine running Microsoft Windows XP as the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Host O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; or, XP and Windows Vista can run as guest OSes on a machine running OpenSolari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2"/>
          <p:cNvSpPr/>
          <p:nvPr/>
        </p:nvSpPr>
        <p:spPr>
          <a:xfrm>
            <a:off x="6934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96227-27CC-426D-A98A-593660F4556A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Installation of FLUPIX for Vbox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09480" y="11426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faster and easier way of running FLUPIX is through VirtualBox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You will need the following packag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VirtualBox-</a:t>
            </a:r>
            <a:r>
              <a:rPr b="0" i="1" lang="en-US" sz="2000" spc="-1" strike="noStrike">
                <a:solidFill>
                  <a:srgbClr val="c00000"/>
                </a:solidFill>
                <a:latin typeface="Tahoma"/>
              </a:rPr>
              <a:t>X.Y.Z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-Win_x86.msi</a:t>
            </a:r>
            <a:br>
              <a:rPr sz="2000"/>
            </a:b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windows setup program of VirtualBox. Install this program in your Windows OS or Mac 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flupix-</a:t>
            </a:r>
            <a:r>
              <a:rPr b="0" i="1" lang="en-US" sz="2000" spc="-1" strike="noStrike">
                <a:solidFill>
                  <a:srgbClr val="c00000"/>
                </a:solidFill>
                <a:latin typeface="Tahoma"/>
              </a:rPr>
              <a:t>200X-YYY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.iso</a:t>
            </a:r>
            <a:br>
              <a:rPr sz="2000"/>
            </a:b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FLUPIX bootable CD iso image. Copy this image in a directory were you have ~500MB of sp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FLUPIX_VM_Vbox.zip</a:t>
            </a:r>
            <a:br>
              <a:rPr sz="2000"/>
            </a:b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default configuration of FLUPIX for VirtualBox. Unpack the content of the zip file to copy them to</a:t>
            </a:r>
            <a:br>
              <a:rPr sz="2000"/>
            </a:b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C:\Documents And Settings\</a:t>
            </a:r>
            <a:r>
              <a:rPr b="0" i="1" lang="en-US" sz="2000" spc="-1" strike="noStrike">
                <a:solidFill>
                  <a:srgbClr val="010103"/>
                </a:solidFill>
                <a:latin typeface="Tahoma"/>
              </a:rPr>
              <a:t>username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\.VirtualBox</a:t>
            </a:r>
            <a:br>
              <a:rPr sz="2000"/>
            </a:b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or</a:t>
            </a:r>
            <a:br>
              <a:rPr sz="2000"/>
            </a:b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C:\Users\</a:t>
            </a:r>
            <a:r>
              <a:rPr b="0" i="1" lang="en-US" sz="2000" spc="-1" strike="noStrike">
                <a:solidFill>
                  <a:srgbClr val="010103"/>
                </a:solidFill>
                <a:latin typeface="Tahoma"/>
              </a:rPr>
              <a:t>username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\.VirtualBox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2"/>
          <p:cNvSpPr/>
          <p:nvPr/>
        </p:nvSpPr>
        <p:spPr>
          <a:xfrm>
            <a:off x="6934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FE33-8268-48CB-906D-E438C0058DB2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etting up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9480" y="107136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FLUPIX_VM_Vbox.zip contains a predefined VM named FLUPIX that is attaching two Virtual disk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ahoma"/>
              </a:rPr>
              <a:t>home.vdi</a:t>
            </a:r>
            <a:r>
              <a:rPr b="0" lang="en-US" sz="18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ynamic size disk up to 8 Gb, formatted in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xt2 used for working spa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ahoma"/>
              </a:rPr>
              <a:t>swap.vdi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ixed size disk of 256MB used for swappin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first time that you will start VirtualBox it will complain for the location of 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flupix-XXXX-X.iso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imag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elect the </a:t>
            </a:r>
            <a:r>
              <a:rPr b="0" lang="en-US" sz="1800" spc="-1" strike="noStrike">
                <a:solidFill>
                  <a:srgbClr val="c00000"/>
                </a:solidFill>
                <a:latin typeface="Tahoma"/>
              </a:rPr>
              <a:t>CD/DVD Images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ab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elect the flupix iso image and click on </a:t>
            </a:r>
            <a:r>
              <a:rPr b="0" lang="en-US" sz="1800" spc="-1" strike="noStrike">
                <a:solidFill>
                  <a:srgbClr val="c00000"/>
                </a:solidFill>
                <a:latin typeface="Tahoma"/>
              </a:rPr>
              <a:t>Release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butt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lick on </a:t>
            </a:r>
            <a:r>
              <a:rPr b="0" lang="en-US" sz="1800" spc="-1" strike="noStrike">
                <a:solidFill>
                  <a:srgbClr val="c00000"/>
                </a:solidFill>
                <a:latin typeface="Tahoma"/>
              </a:rPr>
              <a:t>Remove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butt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lick on </a:t>
            </a:r>
            <a:r>
              <a:rPr b="0" lang="en-US" sz="1800" spc="-1" strike="noStrike">
                <a:solidFill>
                  <a:srgbClr val="c00000"/>
                </a:solidFill>
                <a:latin typeface="Tahoma"/>
              </a:rPr>
              <a:t>Add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button and locate the correct ISO imag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n on the CD/DVD Rom tab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heck the </a:t>
            </a:r>
            <a:r>
              <a:rPr b="0" lang="en-US" sz="1800" spc="-1" strike="noStrike">
                <a:solidFill>
                  <a:srgbClr val="c00000"/>
                </a:solidFill>
                <a:latin typeface="Tahoma"/>
              </a:rPr>
              <a:t>Mount CD/DVD Driv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heck the </a:t>
            </a:r>
            <a:r>
              <a:rPr b="0" lang="en-US" sz="1800" spc="-1" strike="noStrike">
                <a:solidFill>
                  <a:srgbClr val="c00000"/>
                </a:solidFill>
                <a:latin typeface="Tahoma"/>
              </a:rPr>
              <a:t>ISO Image Fil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elect the flupix iso imag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6934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E5D4-DBDA-4F99-AEB7-CFD837508ADC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FLUPIX Setting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1640" y="114264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emory Settings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inimum requirement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RAM:512MB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and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Swap:256MB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Linux needs at least 256MB to ru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LUKA needs ~400MB</a:t>
            </a:r>
            <a:br>
              <a:rPr sz="1800"/>
            </a:b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with DPMJET ~500MB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ome FLUKA tools need ~500MB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LAIR memory is dynamic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785880" y="928800"/>
            <a:ext cx="3695760" cy="55432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2214720" y="1643040"/>
            <a:ext cx="571320" cy="28584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  <a:tailEnd len="med" type="triangle" w="lg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2286000" y="2924280"/>
            <a:ext cx="1500120" cy="36180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  <a:tailEnd len="med" type="triangle" w="lg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2268360" y="3429000"/>
            <a:ext cx="503280" cy="21600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  <a:tailEnd len="med" type="triangle" w="lg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2"/>
          <p:cNvSpPr/>
          <p:nvPr/>
        </p:nvSpPr>
        <p:spPr>
          <a:xfrm>
            <a:off x="6934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BC6F-4C18-4774-B346-46894EBDBFA4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tarting the VM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11426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lick on the Start      butt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unction keys 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F1, F2, F3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ill toggle between the available pages for booting option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t is sufficient to just hit the 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Enter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key to continue bootin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3000240" y="1071720"/>
            <a:ext cx="362160" cy="466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928880" y="1643040"/>
            <a:ext cx="464328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2"/>
          <p:cNvSpPr/>
          <p:nvPr/>
        </p:nvSpPr>
        <p:spPr>
          <a:xfrm>
            <a:off x="6934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080E-BBCB-47A3-92B2-767282D833FF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Booting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480" y="11426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uring booting knoppix will try to identify your hardware and available devic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nce the system is pre-configured, knoppix will find the persistent image on the first virtual disk and it will ask you to load it. Click on 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O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2071800" y="1785960"/>
            <a:ext cx="5962680" cy="3552840"/>
          </a:xfrm>
          <a:prstGeom prst="rect">
            <a:avLst/>
          </a:prstGeom>
          <a:ln w="0">
            <a:noFill/>
          </a:ln>
        </p:spPr>
      </p:pic>
      <p:sp>
        <p:nvSpPr>
          <p:cNvPr id="138" name="TextBox 6"/>
          <p:cNvSpPr/>
          <p:nvPr/>
        </p:nvSpPr>
        <p:spPr>
          <a:xfrm>
            <a:off x="-51120" y="3214800"/>
            <a:ext cx="2239560" cy="1465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DO NOT SELEC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0" lang="en-US" sz="1800" spc="-1" strike="noStrike">
                <a:solidFill>
                  <a:srgbClr val="c00000"/>
                </a:solidFill>
                <a:latin typeface="Tahoma"/>
              </a:rPr>
              <a:t>overwrit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less you wan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o reset the defaul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etting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cxnSp>
        <p:nvCxnSpPr>
          <p:cNvPr id="139" name="Straight Arrow Connector 8"/>
          <p:cNvCxnSpPr/>
          <p:nvPr/>
        </p:nvCxnSpPr>
        <p:spPr>
          <a:xfrm>
            <a:off x="1856880" y="3714480"/>
            <a:ext cx="786600" cy="1447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2"/>
          <p:cNvSpPr/>
          <p:nvPr/>
        </p:nvSpPr>
        <p:spPr>
          <a:xfrm>
            <a:off x="6934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A7FD-D6C0-45A5-8BA9-8943FBCF789F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1547640" y="5877000"/>
            <a:ext cx="5185080" cy="431640"/>
          </a:xfrm>
          <a:prstGeom prst="rect">
            <a:avLst/>
          </a:prstGeom>
          <a:solidFill>
            <a:srgbClr val="ecd882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Working spac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09480" y="105552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linux root directory “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/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” is mounted as readonly from the FLUPIX iso fil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However you have the possibility of writing and installing extra programs on the “/” directory using the persistent data image (see below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010103"/>
                </a:solidFill>
                <a:latin typeface="Tahoma"/>
              </a:rPr>
              <a:t>home.vdi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is mounted as 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/mnt/hda1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or 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/media/hda1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nd it contains the following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ahoma"/>
              </a:rPr>
              <a:t>knoppix.img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n image disk of </a:t>
            </a:r>
            <a:r>
              <a:rPr b="0" lang="en-US" sz="1800" spc="-1" strike="noStrike">
                <a:solidFill>
                  <a:srgbClr val="c00000"/>
                </a:solidFill>
                <a:latin typeface="Tahoma"/>
              </a:rPr>
              <a:t>100MB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the persistent data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mage of knoppix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ahoma"/>
              </a:rPr>
              <a:t>work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work directory assigned to user </a:t>
            </a:r>
            <a:r>
              <a:rPr b="0" lang="en-US" sz="1800" spc="-1" strike="noStrike">
                <a:solidFill>
                  <a:srgbClr val="c00000"/>
                </a:solidFill>
                <a:latin typeface="Tahoma"/>
              </a:rPr>
              <a:t>knoppix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is directory is accessible also from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c00000"/>
                </a:solidFill>
                <a:latin typeface="Tahoma"/>
              </a:rPr>
              <a:t>/home/knoppix/work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10103"/>
                </a:solidFill>
                <a:latin typeface="Tahoma"/>
              </a:rPr>
              <a:t>swap.vdi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contains a memory swap disk of 256MB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REMEMBER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that your default home directory is located inside th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knoppix.img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and is limited 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100MB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For simulation use always the work directo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asilis Vlachoudis</dc:creator>
  <dc:description/>
  <cp:keywords>FLUKA Computers</cp:keywords>
  <dc:language>en-US</dc:language>
  <cp:lastModifiedBy>Giuseppe Battistoni</cp:lastModifiedBy>
  <dcterms:modified xsi:type="dcterms:W3CDTF">2009-01-25T17:51:58Z</dcterms:modified>
  <cp:revision>183</cp:revision>
  <dc:subject>fluka.r flukaplot.r</dc:subject>
  <dc:title>FLUKA Utilities</dc:title>
</cp:coreProperties>
</file>