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07446-2BCA-41AB-B9F9-AFDFF363F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3BFCD-1C77-45D4-A982-0EA7885A55A4}" type="slidenum">
              <a:rPr b="0" lang="en-US" sz="13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66840" y="738360"/>
            <a:ext cx="4821120" cy="36144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92160" y="4574880"/>
            <a:ext cx="53704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4130640" y="9151920"/>
            <a:ext cx="322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371FFEC-0AFB-40C5-A87A-C47363F3CEB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66840" y="736560"/>
            <a:ext cx="4822920" cy="36162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92160" y="4574880"/>
            <a:ext cx="5370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CEC-9B31-4F07-BDB0-FEE04CFF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87C-F2D4-434B-9258-E8254A7D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AB0-3B1F-49F4-9FFB-D9819739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DA1-C406-4213-A7E9-1BA5E6F2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D6C-513F-4ADD-B68B-73D509FA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E45-9B76-474A-B11E-1A4BB798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FA8-22A2-4FD3-8233-49BED402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71D-E6B6-46E9-8034-0B626081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FD8-677C-445C-9C82-0C1A1DF0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075-864C-491B-B843-3273E5B9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826-8C40-4B63-B717-4E0DA2FF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D97-B014-470F-85AB-C2DFD723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87FD-6989-43D5-B880-02E496E0FC2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69992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Exercise on Neutrino Interact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421080" y="4437000"/>
            <a:ext cx="511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5th Karpacz Winter Scho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eb. 2-8, 200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" name="Picture 8" descr="logo3000x2000"/>
          <p:cNvPicPr/>
          <p:nvPr/>
        </p:nvPicPr>
        <p:blipFill>
          <a:blip r:embed="rId1"/>
          <a:stretch/>
        </p:blipFill>
        <p:spPr>
          <a:xfrm>
            <a:off x="6242040" y="0"/>
            <a:ext cx="29019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Exercise  – Neutrino Interact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33520" y="1265400"/>
            <a:ext cx="807696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generating neutrino event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rom the Production directory copy nufluka.flair and nufluka.in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py from Production all user routines the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amine the structure and the coding of the routi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aylor the input file to your needs (target, energy, interaction type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enerate events at different energies, materials.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nalysy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 directory Analysys you find basic codes to analyze output fi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st the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aylor to your nee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duce the plots that you wi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ketch of the setup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4229280" y="3086280"/>
            <a:ext cx="685800" cy="685800"/>
          </a:xfrm>
          <a:prstGeom prst="ellipse">
            <a:avLst/>
          </a:prstGeom>
          <a:solidFill>
            <a:srgbClr val="ecd882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42900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572000" y="2819160"/>
            <a:ext cx="1905120" cy="609480"/>
          </a:xfrm>
          <a:prstGeom prst="line">
            <a:avLst/>
          </a:prstGeom>
          <a:ln w="64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443400"/>
            <a:ext cx="609480" cy="152280"/>
          </a:xfrm>
          <a:prstGeom prst="line">
            <a:avLst/>
          </a:prstGeom>
          <a:ln w="64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4557600" y="3429000"/>
            <a:ext cx="914400" cy="595440"/>
          </a:xfrm>
          <a:prstGeom prst="line">
            <a:avLst/>
          </a:prstGeom>
          <a:ln w="64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624600" y="3538440"/>
            <a:ext cx="28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utrino projecti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xed energ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3271320" y="4267080"/>
            <a:ext cx="369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ny bubble of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w density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to avoid re-interaction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196560" y="4419720"/>
            <a:ext cx="338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erties fix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EA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EAMP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ons governed b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s i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HYSIC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2973960" y="170964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ary produced partic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5895360" y="4572000"/>
            <a:ext cx="21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erties fix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TERI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231624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cepted us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rawing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gdraw.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ated b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USERDUM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22096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72000" y="3733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User routin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194040" y="1481040"/>
            <a:ext cx="65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rini.f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s output file at beginning of jo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247320" y="2133720"/>
            <a:ext cx="48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rein.f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e event variab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7432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gdraw.f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ntry USDRAW fills common to store secondary particles generated by neutrino interac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581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reou.f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s results at the end of each ev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1148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rout.f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output fi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50292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uout.inc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file with output common block NUOUT f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y event outpu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useppe Battistoni</cp:lastModifiedBy>
  <dcterms:modified xsi:type="dcterms:W3CDTF">2009-01-25T17:58:53Z</dcterms:modified>
  <cp:revision>1</cp:revision>
  <dc:subject/>
  <dc:title> Exercise on Neutrino Interactions</dc:title>
</cp:coreProperties>
</file>