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23537-4257-456C-A053-E3F657382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FD9EB-1FDE-4C40-91BC-B326157882A6}" type="slidenum">
              <a:rPr b="0" lang="en-US" sz="13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266840" y="738360"/>
            <a:ext cx="4821120" cy="36144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92160" y="4574880"/>
            <a:ext cx="53704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4130640" y="9151920"/>
            <a:ext cx="322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95731DC-61A1-4CB4-9AB8-B9F362295B7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266840" y="736560"/>
            <a:ext cx="4822920" cy="36162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92160" y="4574880"/>
            <a:ext cx="5370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76A-A64B-4493-80BA-675E8C42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34A-1593-4CC0-B5F2-11593549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120F-A6B6-4FA9-8565-160CCFA4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F59-B409-4D15-AB63-A4828BFF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4F4-B48F-44ED-9EAD-80F634BA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B22-5F66-483C-AB51-A5356012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B41-304F-4F4E-B5FE-8931C5B0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2A72-C267-4C6D-A1BD-B78E3B3C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7D56-7436-41D1-B9E5-1DD7BCA7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0B5E-3E3A-4147-9F6C-6E7E7BBD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BC5C-D9D1-45AF-A06F-CE155956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1E8-A4A4-4EA6-B092-9B40D4BC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3CAD-C5FE-4E66-86CC-10B00F45872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69992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xercise 11: User Routi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421080" y="4437000"/>
            <a:ext cx="5111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5th Karpacz Winter Schoo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eb. 2-8, 200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9" name="Picture 8" descr="logo3000x2000"/>
          <p:cNvPicPr/>
          <p:nvPr/>
        </p:nvPicPr>
        <p:blipFill>
          <a:blip r:embed="rId1"/>
          <a:stretch/>
        </p:blipFill>
        <p:spPr>
          <a:xfrm>
            <a:off x="6242040" y="0"/>
            <a:ext cx="29019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Exercise  – User routin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85800" y="836640"/>
            <a:ext cx="807732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reate a folder called ex11, download the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x5.inp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nput (rename it to ex11.inp). Copy the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source.f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magfld.f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user routines from $FLUPRO/usermvax to ~/work/ex1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 the source.f routine, sample the proton kinetic energy between 30 and 70 MeV from the a flat energy spectru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core differential proton fluence at the target entrance in order to check the beam spectrum (USRBDX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dvanced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ve the beam axis by 1cm along the y axis and assign vacuum to the first two target segme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   in the magfld.f routine, implement a quadrupole magnetic field of 100 T/m focusing (positive particles) along the horizontal ax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core integral fluence of positive and negative particles in the target in order to appreciate the magnetic field effec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09:21:21Z</dcterms:created>
  <dc:creator>theis</dc:creator>
  <dc:description/>
  <dc:language>en-US</dc:language>
  <cp:lastModifiedBy>Giuseppe Battistoni</cp:lastModifiedBy>
  <dcterms:modified xsi:type="dcterms:W3CDTF">2009-01-13T12:13:41Z</dcterms:modified>
  <cp:revision>163</cp:revision>
  <dc:subject/>
  <dc:title>Motivation for new calculations</dc:title>
</cp:coreProperties>
</file>