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53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6"/>
          </p:nvPr>
        </p:nvSpPr>
        <p:spPr>
          <a:xfrm>
            <a:off x="3800160" y="-360"/>
            <a:ext cx="2965320" cy="53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09360" y="757080"/>
            <a:ext cx="494964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7"/>
          </p:nvPr>
        </p:nvSpPr>
        <p:spPr>
          <a:xfrm>
            <a:off x="0" y="9394560"/>
            <a:ext cx="288936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8"/>
          </p:nvPr>
        </p:nvSpPr>
        <p:spPr>
          <a:xfrm>
            <a:off x="3800160" y="9394560"/>
            <a:ext cx="296532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6B971C-9E3B-4534-B72F-563CDB5EC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FA8FF5-4575-4908-9D15-6EA90A72D627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C26B55-563F-448E-A15F-B0320E506897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6E480D-0A00-4F0B-A7FE-4F0187B6CB34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F3511-890D-4FF4-81AC-0248DC4E78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84912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83CC9-9A7A-4D5D-98B2-EF025BEF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02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E16B2-B921-4687-B20B-A5B9D93E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8896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880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8896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880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FD2CB-33EA-4CA4-BB66-FC8EB27B29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62D3D-6DAE-40CA-9DE9-DBA3C98F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95EB2-AF22-41AE-B050-93E52207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0CE45-F90B-4258-BE53-D694778B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C875D-9FF0-473D-ADF2-33462820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0F9E8-685D-4414-B766-A015F760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68251-9406-4425-BDEB-4DFE8F14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96B32-F258-4578-A5A1-00F101F3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CDFCB-47B7-48D1-AD70-74C7639D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02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CC220-A5C7-4DD2-BF41-59D9A973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BF5D9-B4D1-4295-B8F8-C1334BDD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9480" y="384912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59839-0DDB-4214-A8EA-91155B71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02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39DEB-3896-45C9-81FC-0442A280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8896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6880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0948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8896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6880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1CBA7-D90B-4158-AC67-B0B6B566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95214-E6AF-4AC4-8162-9B47974F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DBA5D-FB0A-4AC8-BEB5-474839C5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64F82-EA78-426F-966D-216AE4C6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7E902-9B77-4AB8-BA1F-F7BEDBA6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F8827-5936-41C4-8FC6-CA44630D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02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8B799-E169-43D6-B8C2-3691F6E3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83FCA-C0B8-487E-BC60-8435697C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" name="Line 3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" name="Group 7"/>
          <p:cNvGrpSpPr/>
          <p:nvPr/>
        </p:nvGrpSpPr>
        <p:grpSpPr>
          <a:xfrm>
            <a:off x="304920" y="533520"/>
            <a:ext cx="1893600" cy="2590560"/>
            <a:chOff x="304920" y="533520"/>
            <a:chExt cx="1893600" cy="2590560"/>
          </a:xfrm>
        </p:grpSpPr>
        <p:sp>
          <p:nvSpPr>
            <p:cNvPr id="3" name="Line 4"/>
            <p:cNvSpPr/>
            <p:nvPr/>
          </p:nvSpPr>
          <p:spPr>
            <a:xfrm flipH="1">
              <a:off x="304920" y="898560"/>
              <a:ext cx="189360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" name="Line 5"/>
            <p:cNvSpPr/>
            <p:nvPr/>
          </p:nvSpPr>
          <p:spPr>
            <a:xfrm>
              <a:off x="608040" y="533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" name="Arc 6"/>
            <p:cNvSpPr/>
            <p:nvPr/>
          </p:nvSpPr>
          <p:spPr>
            <a:xfrm>
              <a:off x="515880" y="803160"/>
              <a:ext cx="192240" cy="193680"/>
            </a:xfrm>
            <a:prstGeom prst="pie">
              <a:avLst/>
            </a:prstGeom>
            <a:noFill/>
            <a:ln cap="rnd" w="12600">
              <a:solidFill>
                <a:srgbClr val="6f89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44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D209-1298-4421-86F1-25F0B5BA3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Rectangle 14"/>
          <p:cNvSpPr/>
          <p:nvPr/>
        </p:nvSpPr>
        <p:spPr>
          <a:xfrm>
            <a:off x="2627280" y="6248520"/>
            <a:ext cx="4464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6"/>
          <p:cNvGrpSpPr/>
          <p:nvPr/>
        </p:nvGrpSpPr>
        <p:grpSpPr>
          <a:xfrm>
            <a:off x="1440" y="887400"/>
            <a:ext cx="6654600" cy="2851200"/>
            <a:chOff x="1440" y="887400"/>
            <a:chExt cx="6654600" cy="2851200"/>
          </a:xfrm>
        </p:grpSpPr>
        <p:sp>
          <p:nvSpPr>
            <p:cNvPr id="48" name="Line 2"/>
            <p:cNvSpPr/>
            <p:nvPr/>
          </p:nvSpPr>
          <p:spPr>
            <a:xfrm>
              <a:off x="803160" y="887400"/>
              <a:ext cx="0" cy="285120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" name="Line 3"/>
            <p:cNvSpPr/>
            <p:nvPr/>
          </p:nvSpPr>
          <p:spPr>
            <a:xfrm flipH="1" flipV="1">
              <a:off x="1440" y="3050640"/>
              <a:ext cx="5097600" cy="180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" name="Line 4"/>
            <p:cNvSpPr/>
            <p:nvPr/>
          </p:nvSpPr>
          <p:spPr>
            <a:xfrm flipH="1" flipV="1">
              <a:off x="606240" y="1486080"/>
              <a:ext cx="6049800" cy="144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" name="Arc 5"/>
            <p:cNvSpPr/>
            <p:nvPr/>
          </p:nvSpPr>
          <p:spPr>
            <a:xfrm rot="16200000">
              <a:off x="675360" y="1372320"/>
              <a:ext cx="247680" cy="249120"/>
            </a:xfrm>
            <a:prstGeom prst="pie">
              <a:avLst/>
            </a:prstGeom>
            <a:noFill/>
            <a:ln cap="rnd" w="12600">
              <a:solidFill>
                <a:srgbClr val="6f89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2" name="Group 10"/>
          <p:cNvGrpSpPr/>
          <p:nvPr/>
        </p:nvGrpSpPr>
        <p:grpSpPr>
          <a:xfrm>
            <a:off x="2349360" y="3098880"/>
            <a:ext cx="6045480" cy="2876400"/>
            <a:chOff x="2349360" y="3098880"/>
            <a:chExt cx="6045480" cy="2876400"/>
          </a:xfrm>
        </p:grpSpPr>
        <p:sp>
          <p:nvSpPr>
            <p:cNvPr id="53" name="Line 7"/>
            <p:cNvSpPr/>
            <p:nvPr/>
          </p:nvSpPr>
          <p:spPr>
            <a:xfrm>
              <a:off x="2349360" y="5464080"/>
              <a:ext cx="6045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" name="Line 8"/>
            <p:cNvSpPr/>
            <p:nvPr/>
          </p:nvSpPr>
          <p:spPr>
            <a:xfrm>
              <a:off x="8210520" y="3098880"/>
              <a:ext cx="0" cy="287640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5" name="Arc 9"/>
            <p:cNvSpPr/>
            <p:nvPr/>
          </p:nvSpPr>
          <p:spPr>
            <a:xfrm rot="5400000">
              <a:off x="8091720" y="5320080"/>
              <a:ext cx="247680" cy="249480"/>
            </a:xfrm>
            <a:prstGeom prst="pie">
              <a:avLst/>
            </a:prstGeom>
            <a:noFill/>
            <a:ln cap="rnd" w="12600">
              <a:solidFill>
                <a:srgbClr val="6f89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FLUKA Houston Course: Combinatorial 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1D1A-5B53-4F5D-A886-5D819E527BFD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640" y="169992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Exercise 3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05" name="Picture 8" descr="logo3000x2000"/>
          <p:cNvPicPr/>
          <p:nvPr/>
        </p:nvPicPr>
        <p:blipFill>
          <a:blip r:embed="rId1"/>
          <a:stretch/>
        </p:blipFill>
        <p:spPr>
          <a:xfrm>
            <a:off x="6242040" y="0"/>
            <a:ext cx="2901960" cy="1054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195640" y="443700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45th Karpacz Winter School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eb. 2-8, 2009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6934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07EA-80BF-4829-BEA5-4E885EF640BA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Ex #3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1426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wnload the solution of ex2.inp from the website into a new ex3 directory and rename it to ex3.inp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pen it using FLAI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"/>
              <a:tabLst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nvert the cylinder to an infinite o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ahoma"/>
              </a:rPr>
              <a:t>use a ZCC body for the cylind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ahoma"/>
              </a:rPr>
              <a:t>use two XYP planes, at z=0. and z=10.cm, to cut it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ahoma"/>
              </a:rPr>
              <a:t>re-define the regions TARGET and VA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u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6934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7B96-D9EF-4FE5-9364-4E6D1FB8966C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Ex #3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836280"/>
            <a:ext cx="813888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"/>
              <a:tabLst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gment the target into three pieces by two transverse cu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ahoma"/>
              </a:rPr>
              <a:t>first segment: from z=0. to z=1.cm (new XYP needed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ahoma"/>
              </a:rPr>
              <a:t>second segment: from z=1.cm to z=2.cm (new XYP needed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ahoma"/>
              </a:rPr>
              <a:t>third segment: from z=2.cm to z=10.cm (no further bodies needed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ahoma"/>
              </a:rPr>
              <a:t>define the 3 target regio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ahoma"/>
              </a:rPr>
              <a:t>assign them water, ALUMINUM (pre-def), and LEAD (pre-def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"/>
              <a:tabLst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ctivate the geometry debugging with a 1mm grid                   from (x,y,z)=(-6.,0.,-6.) to (x,y,z)=(6.,0.,11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ahoma"/>
              </a:rPr>
              <a:t>see in the manual the GEOEND car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un, search for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Geometry debugging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n the .out file, and enjoy the lack of error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"/>
              <a:tabLst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erform the same operation by the dedicated FLAIR Process/Debug fram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18:33:45Z</dcterms:created>
  <dc:creator>Vasilis Vlachoudis</dc:creator>
  <dc:description/>
  <dc:language>en-US</dc:language>
  <cp:lastModifiedBy>Giuseppe Battistoni</cp:lastModifiedBy>
  <cp:lastPrinted>2004-07-08T08:47:15Z</cp:lastPrinted>
  <dcterms:modified xsi:type="dcterms:W3CDTF">2009-01-13T12:12:48Z</dcterms:modified>
  <cp:revision>878</cp:revision>
  <dc:subject/>
  <dc:title>PowerPoint Presentation</dc:title>
</cp:coreProperties>
</file>