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00160" y="-360"/>
            <a:ext cx="2965320" cy="5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09360" y="757080"/>
            <a:ext cx="494964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394560"/>
            <a:ext cx="288936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00160" y="93945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46A0CD-4563-4DC9-92CC-BB53ECA73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00520" y="9394920"/>
            <a:ext cx="29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33782B-729A-4D2D-8A41-56881A52920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9720" y="757080"/>
            <a:ext cx="4949640" cy="3711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600" y="4695840"/>
            <a:ext cx="49417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BF8-904F-4D9B-B08F-71A50167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1CA-C9AF-4B5C-827E-C00C01DA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690-FFAF-46DE-96B5-9BD5DCC4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00C-D248-4363-A5E2-A53254D5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9D6B-3615-4DEB-9AA9-771739D6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EE5C-49BA-491D-9EE3-A92CF419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A300-E104-4AEB-B72F-93C97AC8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5430-65F9-498C-B8E5-5C86024E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3531-B48B-48E3-9128-CDD8B0F5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F3FA-91AB-4B4F-BC67-CF3C353D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A9CF-3B24-4EB3-8525-F231B1B3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752-5177-4CC4-96D4-B40319E2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D04F-4CF3-47CA-883D-359ABDA3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E878-C33C-48D6-8667-5167F4D4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D23B-C532-42BD-A14E-CF1873A0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3A62-D9D0-4CED-9E1A-58B03F44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F706-FB78-44AF-BF46-20F9AEFF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DDF-86B8-4038-833F-7C419CF9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107-D98C-4782-84BA-A8A2D8A0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3FA-CDC8-4514-B94D-B0A9B23E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FE0-9103-4EDE-8BF1-FEC937C4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BCA-40AA-4D02-8DAD-33BFACA2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92D-40E3-4D5B-996C-D029BF9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831-EAE9-46E5-AB48-5ED08716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" name="Line 3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304920" y="533520"/>
            <a:ext cx="1893600" cy="2590560"/>
            <a:chOff x="304920" y="533520"/>
            <a:chExt cx="1893600" cy="2590560"/>
          </a:xfrm>
        </p:grpSpPr>
        <p:sp>
          <p:nvSpPr>
            <p:cNvPr id="3" name="Line 4"/>
            <p:cNvSpPr/>
            <p:nvPr/>
          </p:nvSpPr>
          <p:spPr>
            <a:xfrm flipH="1">
              <a:off x="304920" y="898560"/>
              <a:ext cx="189360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" name="Line 5"/>
            <p:cNvSpPr/>
            <p:nvPr/>
          </p:nvSpPr>
          <p:spPr>
            <a:xfrm>
              <a:off x="608040" y="533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Arc 6"/>
            <p:cNvSpPr/>
            <p:nvPr/>
          </p:nvSpPr>
          <p:spPr>
            <a:xfrm>
              <a:off x="515880" y="803160"/>
              <a:ext cx="192240" cy="1936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08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224F-DBEE-4E9C-A78B-8ABA86A68F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14240" y="6552720"/>
            <a:ext cx="446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508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5EE8-39D4-4024-A566-21B7D40AF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1440" y="887400"/>
            <a:ext cx="6654600" cy="2851200"/>
            <a:chOff x="1440" y="887400"/>
            <a:chExt cx="6654600" cy="2851200"/>
          </a:xfrm>
        </p:grpSpPr>
        <p:sp>
          <p:nvSpPr>
            <p:cNvPr id="48" name="Line 2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" name="Line 3"/>
            <p:cNvSpPr/>
            <p:nvPr/>
          </p:nvSpPr>
          <p:spPr>
            <a:xfrm flipH="1" flipV="1">
              <a:off x="1440" y="3050640"/>
              <a:ext cx="5097600" cy="18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" name="Line 4"/>
            <p:cNvSpPr/>
            <p:nvPr/>
          </p:nvSpPr>
          <p:spPr>
            <a:xfrm flipH="1" flipV="1">
              <a:off x="606240" y="1486080"/>
              <a:ext cx="6049800" cy="144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" name="Arc 5"/>
            <p:cNvSpPr/>
            <p:nvPr/>
          </p:nvSpPr>
          <p:spPr>
            <a:xfrm rot="16200000">
              <a:off x="675360" y="1372320"/>
              <a:ext cx="247680" cy="24912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3" name="Line 7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" name="Arc 9"/>
            <p:cNvSpPr/>
            <p:nvPr/>
          </p:nvSpPr>
          <p:spPr>
            <a:xfrm rot="5400000">
              <a:off x="8091720" y="5320080"/>
              <a:ext cx="247680" cy="249480"/>
            </a:xfrm>
            <a:prstGeom prst="pie">
              <a:avLst/>
            </a:prstGeom>
            <a:noFill/>
            <a:ln cap="rnd" w="1260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C931-53D3-477C-93AD-178E752FBB35}" type="datetime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4240" y="624852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7th FLUKA Course, Paris, Sept.29-Oct.3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F466-7D43-499D-86B5-9911C2719076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FLUK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he Standard Outpu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05" name="Picture 6" descr="flukalogo"/>
          <p:cNvPicPr/>
          <p:nvPr/>
        </p:nvPicPr>
        <p:blipFill>
          <a:blip r:embed="rId1"/>
          <a:stretch/>
        </p:blipFill>
        <p:spPr>
          <a:xfrm>
            <a:off x="6392880" y="0"/>
            <a:ext cx="2751120" cy="804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132000" y="4436640"/>
            <a:ext cx="51120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5th Karpacz Winter Schoo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E888-479D-4EFD-AFD2-59B9D67D21A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459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Material Parameters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dp/dx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57405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/>
          <p:cNvSpPr/>
          <p:nvPr/>
        </p:nvSpPr>
        <p:spPr>
          <a:xfrm>
            <a:off x="5715000" y="1905120"/>
            <a:ext cx="3200400" cy="1523880"/>
          </a:xfrm>
          <a:prstGeom prst="leftArrowCallout">
            <a:avLst>
              <a:gd name="adj1" fmla="val 17502"/>
              <a:gd name="adj2" fmla="val 16250"/>
              <a:gd name="adj3" fmla="val 22499"/>
              <a:gd name="adj4" fmla="val 77040"/>
            </a:avLst>
          </a:prstGeom>
          <a:solidFill>
            <a:srgbClr val="3399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erial-dependent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meters for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nization energy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191120" y="5943600"/>
            <a:ext cx="4647960" cy="703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Check </a:t>
            </a:r>
            <a:r>
              <a:rPr b="0" lang="it-IT" sz="2000" spc="-1" strike="noStrike">
                <a:solidFill>
                  <a:srgbClr val="008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ray and bremss. threshold (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DELTARAY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PAIRBREM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217-554D-4E2C-BFAE-167BBCA255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8234-8C01-4E58-909D-16717AE0131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Material parameters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Transport threshold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18116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4946760" y="283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2590920" y="4044960"/>
            <a:ext cx="5410080" cy="243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4510080" y="4800600"/>
            <a:ext cx="99072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3429720" y="518148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ame for photon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13160" y="2133720"/>
            <a:ext cx="6630840" cy="18288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2"/>
          <p:cNvSpPr/>
          <p:nvPr/>
        </p:nvSpPr>
        <p:spPr>
          <a:xfrm>
            <a:off x="5105520" y="4038480"/>
            <a:ext cx="15228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2909880" y="4516560"/>
            <a:ext cx="5167440" cy="2840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2971800" y="571500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Production threshold for e± in MeV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(Total energy, not just kinetic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971800" y="4114800"/>
            <a:ext cx="5411880" cy="152280"/>
          </a:xfrm>
          <a:prstGeom prst="rect">
            <a:avLst/>
          </a:prstGeom>
          <a:ln w="0">
            <a:noFill/>
          </a:ln>
        </p:spPr>
      </p:pic>
      <p:sp>
        <p:nvSpPr>
          <p:cNvPr id="183" name="Oval 8"/>
          <p:cNvSpPr/>
          <p:nvPr/>
        </p:nvSpPr>
        <p:spPr>
          <a:xfrm>
            <a:off x="2909880" y="4067280"/>
            <a:ext cx="173844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5529240" y="4067280"/>
            <a:ext cx="457200" cy="30168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Line 13"/>
          <p:cNvSpPr/>
          <p:nvPr/>
        </p:nvSpPr>
        <p:spPr>
          <a:xfrm flipH="1">
            <a:off x="5943240" y="3809880"/>
            <a:ext cx="1219320" cy="381240"/>
          </a:xfrm>
          <a:prstGeom prst="line">
            <a:avLst/>
          </a:prstGeom>
          <a:ln w="2844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997360" y="4584600"/>
            <a:ext cx="5003640" cy="216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7086600" y="32767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Upper limit for e± in MeV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3159720" y="4375440"/>
            <a:ext cx="164520" cy="129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56C-8CB6-4617-8DD0-197794DED5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E8A9-39C2-462F-B4C6-A7F9C1890FC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Material parameters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EMF-FLU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155600"/>
            <a:ext cx="9144000" cy="57024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2743200" y="444816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Transport threshold for e± and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photons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in MeV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(Total energy, not just kinetic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Line 10"/>
          <p:cNvSpPr/>
          <p:nvPr/>
        </p:nvSpPr>
        <p:spPr>
          <a:xfrm flipH="1" flipV="1">
            <a:off x="3926520" y="4010400"/>
            <a:ext cx="1323720" cy="424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Line 10"/>
          <p:cNvSpPr/>
          <p:nvPr/>
        </p:nvSpPr>
        <p:spPr>
          <a:xfrm flipH="1" flipV="1">
            <a:off x="5615640" y="3999600"/>
            <a:ext cx="717840" cy="40176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17B-D219-4924-B9A3-FD504726CB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2A0F-E249-4E8D-A7D0-392960DBFA4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FLUKA Particl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58165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8"/>
          <p:cNvSpPr/>
          <p:nvPr/>
        </p:nvSpPr>
        <p:spPr>
          <a:xfrm>
            <a:off x="2590920" y="4633920"/>
            <a:ext cx="617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and many mo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7238880" y="4952880"/>
            <a:ext cx="76212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Text Box 33"/>
          <p:cNvSpPr/>
          <p:nvPr/>
        </p:nvSpPr>
        <p:spPr>
          <a:xfrm>
            <a:off x="3581280" y="1752480"/>
            <a:ext cx="3581640" cy="642600"/>
          </a:xfrm>
          <a:prstGeom prst="rect">
            <a:avLst/>
          </a:prstGeom>
          <a:solidFill>
            <a:srgbClr val="ff99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exhaustive list of FLUKA particl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590920" y="4952880"/>
            <a:ext cx="4724280" cy="18925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4"/>
          <p:cNvSpPr/>
          <p:nvPr/>
        </p:nvSpPr>
        <p:spPr>
          <a:xfrm>
            <a:off x="2514600" y="6521400"/>
            <a:ext cx="6172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continues on your screen!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2D2-4F71-423B-AE49-BBA90795C9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9AAF-020B-48F6-BE37-7B4C1A7D06E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nput interpreted summary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Beam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2666880" y="3665520"/>
            <a:ext cx="5791320" cy="13644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2590920" y="38242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urier New"/>
              </a:rPr>
              <a:t>Check the starting reg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E04-EC19-4EB5-9AA7-492F7173BE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6516-D19A-40E2-9AE6-EBEEA989887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nput interpreted summary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Threshold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281240"/>
            <a:ext cx="9132840" cy="5500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2666880" y="2895480"/>
            <a:ext cx="4419720" cy="15264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1DE-C457-4D30-8A4C-632E6E3727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653B-9C37-423A-BA12-D5662335569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nput interpreted summary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TC, MCS, EM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9144000" cy="5575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590920" y="3276720"/>
            <a:ext cx="3809880" cy="1231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590920" y="5181480"/>
            <a:ext cx="457200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279360" y="4267080"/>
            <a:ext cx="1397160" cy="165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228600" y="4419720"/>
            <a:ext cx="825480" cy="15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BBE-C012-4EAC-8B8D-320FAD50A1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B729-E19E-4E5D-8A25-1EA096D93FD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oring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none in ex3, check ex5 output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193760"/>
            <a:ext cx="9144000" cy="56642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5029200" y="5181480"/>
            <a:ext cx="3581280" cy="11430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mplete description of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ach estimator reques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53E-CFAC-48D7-918E-1A5A03D4C8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1BAE-36D5-4689-A554-A84FA4DC426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Materials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Scattering length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308240"/>
            <a:ext cx="9144000" cy="554976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3809880" y="2514600"/>
            <a:ext cx="4496040" cy="1447920"/>
          </a:xfrm>
          <a:prstGeom prst="upArrowCallout">
            <a:avLst>
              <a:gd name="adj1" fmla="val 22083"/>
              <a:gd name="adj2" fmla="val 25316"/>
              <a:gd name="adj3" fmla="val 19519"/>
              <a:gd name="adj4" fmla="val 91443"/>
            </a:avLst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ata related to the beam particle typ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pecified in the BEAM car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5791320" y="5181480"/>
            <a:ext cx="3047760" cy="1219320"/>
          </a:xfrm>
          <a:prstGeom prst="leftArrowCallout">
            <a:avLst>
              <a:gd name="adj1" fmla="val 20576"/>
              <a:gd name="adj2" fmla="val 22134"/>
              <a:gd name="adj3" fmla="val 34762"/>
              <a:gd name="adj4" fmla="val 70053"/>
            </a:avLst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oun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terpret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ositi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7" descr="AA023118.png"/>
          <p:cNvPicPr/>
          <p:nvPr/>
        </p:nvPicPr>
        <p:blipFill>
          <a:blip r:embed="rId2"/>
          <a:stretch/>
        </p:blipFill>
        <p:spPr>
          <a:xfrm>
            <a:off x="8211960" y="5410080"/>
            <a:ext cx="776520" cy="8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A2C-03B8-4ABA-984D-EEDB8753F4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4344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egions summary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2286000" y="3505320"/>
            <a:ext cx="2819520" cy="1295280"/>
          </a:xfrm>
          <a:prstGeom prst="upArrowCallout">
            <a:avLst>
              <a:gd name="adj1" fmla="val 20238"/>
              <a:gd name="adj2" fmla="val 18835"/>
              <a:gd name="adj3" fmla="val 15833"/>
              <a:gd name="adj4" fmla="val 66660"/>
            </a:avLst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Useful way to check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material assignmen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4495680" y="3505320"/>
            <a:ext cx="3048120" cy="2895480"/>
          </a:xfrm>
          <a:prstGeom prst="upArrowCallout">
            <a:avLst>
              <a:gd name="adj1" fmla="val 9777"/>
              <a:gd name="adj2" fmla="val 9840"/>
              <a:gd name="adj3" fmla="val 16394"/>
              <a:gd name="adj4" fmla="val 151435"/>
            </a:avLst>
          </a:prstGeom>
          <a:solidFill>
            <a:srgbClr val="ff99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Minimum step siz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et with STEPSIZE op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999480" y="3378240"/>
            <a:ext cx="193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…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maximum step siz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not yet implemented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46F-42C1-479A-8DBA-B0AF9C0BBF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2720" y="1052640"/>
            <a:ext cx="8150400" cy="52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LUKA provides a standard output file that contains plenty of useful informatio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(fortran unit 11,   </a:t>
            </a: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inp###.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out from rflu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t must be checked at least once when setting up a simulation and always in case  of doubts/crash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together with </a:t>
            </a: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inp###.err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nd </a:t>
            </a: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inp###.log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file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t’s have a look to ex_3001.out (editor or flair output viewer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rocess – Files –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selec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ex_3001.ou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 , or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fless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ex_3001.ou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he FLUKA Standard Outpu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5181480"/>
            <a:ext cx="380880" cy="3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A4D-FFA0-4391-BABA-9FC2DF1128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8764560" cy="3124080"/>
          </a:xfrm>
          <a:prstGeom prst="rect">
            <a:avLst/>
          </a:prstGeom>
          <a:ln w="0">
            <a:noFill/>
          </a:ln>
        </p:spPr>
      </p:pic>
      <p:sp>
        <p:nvSpPr>
          <p:cNvPr id="243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8764560" cy="3124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3300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untime Info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Output associated with the ru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3352680" y="2133720"/>
            <a:ext cx="4114800" cy="1904760"/>
          </a:xfrm>
          <a:prstGeom prst="downArrowCallout">
            <a:avLst>
              <a:gd name="adj1" fmla="val 15483"/>
              <a:gd name="adj2" fmla="val 16472"/>
              <a:gd name="adj3" fmla="val 18653"/>
              <a:gd name="adj4" fmla="val 57972"/>
            </a:avLst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eriodic echo of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vent number, time, random se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7" name="Picture 7" descr="j0289350.jpg"/>
          <p:cNvPicPr/>
          <p:nvPr/>
        </p:nvPicPr>
        <p:blipFill>
          <a:blip r:embed="rId3"/>
          <a:stretch/>
        </p:blipFill>
        <p:spPr>
          <a:xfrm>
            <a:off x="3352680" y="2133720"/>
            <a:ext cx="76212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88C-04C4-4ECB-BF38-6C4DB4C97F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4CDA-4D96-42F8-B474-89589055C71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esults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Scoring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94640" y="1371600"/>
            <a:ext cx="768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ults of SCORE options for all region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ery usefu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for debugging and for cross-check with estimato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2832120"/>
            <a:ext cx="9144000" cy="402588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5"/>
          <p:cNvGrpSpPr/>
          <p:nvPr/>
        </p:nvGrpSpPr>
        <p:grpSpPr>
          <a:xfrm>
            <a:off x="2286000" y="4419720"/>
            <a:ext cx="4343400" cy="1662120"/>
            <a:chOff x="2286000" y="4419720"/>
            <a:chExt cx="4343400" cy="1662120"/>
          </a:xfrm>
        </p:grpSpPr>
        <p:sp>
          <p:nvSpPr>
            <p:cNvPr id="254" name="AutoShape 11"/>
            <p:cNvSpPr/>
            <p:nvPr/>
          </p:nvSpPr>
          <p:spPr>
            <a:xfrm>
              <a:off x="2895480" y="4419720"/>
              <a:ext cx="457200" cy="1066680"/>
            </a:xfrm>
            <a:prstGeom prst="upArrow">
              <a:avLst>
                <a:gd name="adj1" fmla="val 34722"/>
                <a:gd name="adj2" fmla="val 60066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2286000" y="5257800"/>
              <a:ext cx="4343400" cy="824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 volume is not automatically evaluated, 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ou have to specify it in the geom. description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6" name="Rectangle 13"/>
            <p:cNvSpPr/>
            <p:nvPr/>
          </p:nvSpPr>
          <p:spPr>
            <a:xfrm>
              <a:off x="3048120" y="5257800"/>
              <a:ext cx="1522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57" name="Group 20"/>
          <p:cNvGrpSpPr/>
          <p:nvPr/>
        </p:nvGrpSpPr>
        <p:grpSpPr>
          <a:xfrm>
            <a:off x="4800600" y="4419720"/>
            <a:ext cx="4114800" cy="1113840"/>
            <a:chOff x="4800600" y="4419720"/>
            <a:chExt cx="4114800" cy="1113840"/>
          </a:xfrm>
        </p:grpSpPr>
        <p:sp>
          <p:nvSpPr>
            <p:cNvPr id="258" name="AutoShape 17"/>
            <p:cNvSpPr/>
            <p:nvPr/>
          </p:nvSpPr>
          <p:spPr>
            <a:xfrm>
              <a:off x="5562720" y="4419720"/>
              <a:ext cx="304560" cy="685800"/>
            </a:xfrm>
            <a:prstGeom prst="upArrow">
              <a:avLst>
                <a:gd name="adj1" fmla="val 34722"/>
                <a:gd name="adj2" fmla="val 57973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4800600" y="4952880"/>
              <a:ext cx="4114800" cy="580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# inelastic interactions of primary particles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0" name="Rectangle 19"/>
            <p:cNvSpPr/>
            <p:nvPr/>
          </p:nvSpPr>
          <p:spPr>
            <a:xfrm>
              <a:off x="5675400" y="4952880"/>
              <a:ext cx="759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031-5246-4342-88AC-346DE6FA1E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1596-386D-438B-AAA0-AF0316FCFD2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esults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Statistics of Coulomb scattering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B67-29F7-4179-AE47-9213FFA505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54230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esults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Statistics of the ru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24080" y="3352680"/>
            <a:ext cx="685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7" descr="LS009382.png"/>
          <p:cNvPicPr/>
          <p:nvPr/>
        </p:nvPicPr>
        <p:blipFill>
          <a:blip r:embed="rId2"/>
          <a:stretch/>
        </p:blipFill>
        <p:spPr>
          <a:xfrm>
            <a:off x="3962520" y="5257800"/>
            <a:ext cx="884160" cy="12193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8"/>
          <p:cNvSpPr/>
          <p:nvPr/>
        </p:nvSpPr>
        <p:spPr>
          <a:xfrm>
            <a:off x="4876920" y="5562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PU time is not real time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0FE-EEA0-404F-A2ED-228D871B3B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un summary: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detailed statistic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1905120" y="5638680"/>
            <a:ext cx="3581280" cy="990720"/>
          </a:xfrm>
          <a:prstGeom prst="leftArrowCallout">
            <a:avLst>
              <a:gd name="adj1" fmla="val 25002"/>
              <a:gd name="adj2" fmla="val 25000"/>
              <a:gd name="adj3" fmla="val 60247"/>
              <a:gd name="adj4" fmla="val 72479"/>
            </a:avLst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etailed statistics for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each particle typ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85C-5828-42D7-A2AE-BC6D9AC7DD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6480" y="990720"/>
            <a:ext cx="9156960" cy="58672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nergy Balanc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Oval 9"/>
          <p:cNvSpPr/>
          <p:nvPr/>
        </p:nvSpPr>
        <p:spPr>
          <a:xfrm>
            <a:off x="6121440" y="3044880"/>
            <a:ext cx="708120" cy="2286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2590920" y="5562720"/>
            <a:ext cx="835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alculated by difference: in pure e-m problems it should be 0, while in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hadronic problems it is the energy spent in endothermic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nuclear reactions ( ≈ 8 MeV/n) , or gained in exothermic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(i.e., mostly neutron capture): it is –total Q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8BB-5DA7-4121-A666-603F6238EE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684360" y="3333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rror mes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28600" y="998640"/>
            <a:ext cx="8686800" cy="582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F6C-D17B-457F-B8DE-4B39352018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ips and trick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76160" y="114264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You can alway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TRL-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dit – Fin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for a specific word in a selected section or in the whole output fil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4" name="Picture 6" descr="AA002733.png"/>
          <p:cNvPicPr/>
          <p:nvPr/>
        </p:nvPicPr>
        <p:blipFill>
          <a:blip r:embed="rId1"/>
          <a:stretch/>
        </p:blipFill>
        <p:spPr>
          <a:xfrm rot="19733400">
            <a:off x="496440" y="1342800"/>
            <a:ext cx="1290600" cy="8064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1640" y="2502000"/>
            <a:ext cx="3060720" cy="237492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E75-0633-49F3-9E88-E1F940266B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092240"/>
            <a:ext cx="9144000" cy="5765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License/vers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90920" y="6197760"/>
            <a:ext cx="5486400" cy="384120"/>
          </a:xfrm>
          <a:prstGeom prst="rect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2514600" y="4419720"/>
            <a:ext cx="39625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89120" y="1600200"/>
            <a:ext cx="518328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6553080" y="4495680"/>
            <a:ext cx="2362320" cy="1600200"/>
          </a:xfrm>
          <a:prstGeom prst="downArrowCallout">
            <a:avLst>
              <a:gd name="adj1" fmla="val 23062"/>
              <a:gd name="adj2" fmla="val 25500"/>
              <a:gd name="adj3" fmla="val 18750"/>
              <a:gd name="adj4" fmla="val 60713"/>
            </a:avLst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Header with th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FLUKA version and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the date of the ru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172200" y="3124080"/>
            <a:ext cx="2666880" cy="1067040"/>
          </a:xfrm>
          <a:prstGeom prst="leftArrowCallout">
            <a:avLst>
              <a:gd name="adj1" fmla="val 23419"/>
              <a:gd name="adj2" fmla="val 23361"/>
              <a:gd name="adj3" fmla="val 27666"/>
              <a:gd name="adj4" fmla="val 80720"/>
            </a:avLst>
          </a:prstGeom>
          <a:solidFill>
            <a:srgbClr val="ecd88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First comes th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anner Page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nd the licens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2590920" y="4495680"/>
            <a:ext cx="358128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... other info including disclaimer,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limitations and referenc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AFD-F758-479B-9B0A-74BFB07F1D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DD6B-2FDF-4697-89F5-E1A0AFECD70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nput ech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data cards are parsed in groups, and do not appear in same order as they are inserted in the input file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 instance: TITLE is the first to appear, then all comment cards are listed together, followed by the beam related cards, etc.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81080" y="4084560"/>
            <a:ext cx="1295640" cy="1526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05040"/>
            <a:ext cx="9144000" cy="415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C30-E6E1-452F-9C4D-0F5A6B9BCB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908440"/>
            <a:ext cx="5043600" cy="3949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14800" y="2921040"/>
            <a:ext cx="5029200" cy="3936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nput echo – 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Geometry outpu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09480" y="969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llowed by the geometry output, if not redirected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see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GEOBEG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card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cho of the commands is presented, together with interpretati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correspondence between numbers and nam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523880" y="3352680"/>
            <a:ext cx="1295640" cy="1526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638680" y="3352680"/>
            <a:ext cx="1295640" cy="1526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7C8-3336-43B8-847C-1E9598969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5778360"/>
          </a:xfrm>
          <a:prstGeom prst="rect">
            <a:avLst/>
          </a:prstGeom>
          <a:ln w="0">
            <a:noFill/>
          </a:ln>
        </p:spPr>
      </p:pic>
      <p:sp>
        <p:nvSpPr>
          <p:cNvPr id="135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E1A8-A6C3-4A55-9B48-9D830910E70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uclear dat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2666880"/>
            <a:ext cx="487692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124080" y="3019320"/>
            <a:ext cx="6858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124080" y="4572000"/>
            <a:ext cx="6858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6248520" y="838080"/>
            <a:ext cx="2590560" cy="1600200"/>
          </a:xfrm>
          <a:prstGeom prst="leftArrowCallout">
            <a:avLst>
              <a:gd name="adj1" fmla="val 25002"/>
              <a:gd name="adj2" fmla="val 17481"/>
              <a:gd name="adj3" fmla="val 26982"/>
              <a:gd name="adj4" fmla="val 7327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formation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bout th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asic nuclear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file used in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progra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743200" y="3683160"/>
            <a:ext cx="3594240" cy="888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717640" y="5003640"/>
            <a:ext cx="4368960" cy="177804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5"/>
          <p:cNvSpPr/>
          <p:nvPr/>
        </p:nvSpPr>
        <p:spPr>
          <a:xfrm>
            <a:off x="6172200" y="4952880"/>
            <a:ext cx="2209680" cy="990720"/>
          </a:xfrm>
          <a:prstGeom prst="leftArrowCallout">
            <a:avLst>
              <a:gd name="adj1" fmla="val 25002"/>
              <a:gd name="adj2" fmla="val 16583"/>
              <a:gd name="adj3" fmla="val 33218"/>
              <a:gd name="adj4" fmla="val 72692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tive options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th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uclear mod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3657600" y="2590920"/>
            <a:ext cx="3581280" cy="838080"/>
          </a:xfrm>
          <a:prstGeom prst="upArrowCallout">
            <a:avLst>
              <a:gd name="adj1" fmla="val 27066"/>
              <a:gd name="adj2" fmla="val 28250"/>
              <a:gd name="adj3" fmla="val 25759"/>
              <a:gd name="adj4" fmla="val 100759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ome memory allocation detail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C98-4994-4315-948D-C74CEBBA94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55D6-7CF5-45A6-A26B-8A7B41F729D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Material properti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6172200" y="1066680"/>
            <a:ext cx="2819520" cy="1219320"/>
          </a:xfrm>
          <a:prstGeom prst="leftArrowCallout">
            <a:avLst>
              <a:gd name="adj1" fmla="val 17705"/>
              <a:gd name="adj2" fmla="val 15625"/>
              <a:gd name="adj3" fmla="val 23830"/>
              <a:gd name="adj4" fmla="val 84184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Material propertie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multiple scatte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arame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743200" y="3124080"/>
            <a:ext cx="59436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248520" y="32767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the warning is normal!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DED-12C5-41AE-8A0A-2EB2C13A64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689120"/>
            <a:ext cx="9144000" cy="51688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adiation Decay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5638680" y="2438280"/>
            <a:ext cx="3048120" cy="838440"/>
          </a:xfrm>
          <a:prstGeom prst="leftArrowCallout">
            <a:avLst>
              <a:gd name="adj1" fmla="val 26928"/>
              <a:gd name="adj2" fmla="val 25000"/>
              <a:gd name="adj3" fmla="val 50846"/>
              <a:gd name="adj4" fmla="val 71622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Info on decay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adiation op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934320" y="3429000"/>
            <a:ext cx="2057400" cy="990720"/>
          </a:xfrm>
          <a:prstGeom prst="leftArrowCallout">
            <a:avLst>
              <a:gd name="adj1" fmla="val 23400"/>
              <a:gd name="adj2" fmla="val 20194"/>
              <a:gd name="adj3" fmla="val 38620"/>
              <a:gd name="adj4" fmla="val 64126"/>
            </a:avLst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adi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bias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8BC-18FB-43FD-B879-430918E767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2627280" y="6508800"/>
            <a:ext cx="446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FLUKA Course: The Standard Outpu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FLUKA Course, CERN, June 23-27, 2008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5"/>
          <p:cNvSpPr/>
          <p:nvPr/>
        </p:nvSpPr>
        <p:spPr>
          <a:xfrm>
            <a:off x="6934320" y="6508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EB3D-2734-4587-B44A-837ED0EDDD4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eutron dat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6019920" y="2362320"/>
            <a:ext cx="2514600" cy="1523880"/>
          </a:xfrm>
          <a:prstGeom prst="downArrowCallout">
            <a:avLst>
              <a:gd name="adj1" fmla="val 27505"/>
              <a:gd name="adj2" fmla="val 23232"/>
              <a:gd name="adj3" fmla="val 16667"/>
              <a:gd name="adj4" fmla="val 66667"/>
            </a:avLst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ow-energy neutr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info, material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corresponden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438280" y="6461280"/>
            <a:ext cx="5181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More info on low-neut cross sections if request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7543800" y="6462720"/>
            <a:ext cx="1371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Tahoma"/>
              </a:rPr>
              <a:t>LOW-NEU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9B0-9515-4E95-B3F8-34CB16BF58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8:58:24Z</dcterms:created>
  <dc:creator>Vasilis Vlachoudis</dc:creator>
  <dc:description/>
  <dc:language>en-US</dc:language>
  <cp:lastModifiedBy>Giuseppe Battistoni</cp:lastModifiedBy>
  <cp:lastPrinted>2008-06-05T08:52:50Z</cp:lastPrinted>
  <dcterms:modified xsi:type="dcterms:W3CDTF">2009-01-25T17:57:03Z</dcterms:modified>
  <cp:revision>931</cp:revision>
  <dc:subject/>
  <dc:title>PowerPoint Presentation</dc:title>
</cp:coreProperties>
</file>