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6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0.wmf" ContentType="image/x-wmf"/>
  <Override PartName="/ppt/media/image11.png" ContentType="image/png"/>
  <Override PartName="/ppt/media/image51.wmf" ContentType="image/x-wmf"/>
  <Override PartName="/ppt/media/image53.png" ContentType="image/png"/>
  <Override PartName="/ppt/media/image44.png" ContentType="image/png"/>
  <Override PartName="/ppt/media/image36.wmf" ContentType="image/x-wmf"/>
  <Override PartName="/ppt/media/image4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40.png" ContentType="image/png"/>
  <Override PartName="/ppt/media/image38.wmf" ContentType="image/x-wmf"/>
  <Override PartName="/ppt/media/image46.jpeg" ContentType="image/jpeg"/>
  <Override PartName="/ppt/media/image54.png" ContentType="image/png"/>
  <Override PartName="/ppt/media/image50.png" ContentType="image/png"/>
  <Override PartName="/ppt/media/image33.wmf" ContentType="image/x-wmf"/>
  <Override PartName="/ppt/media/image13.png" ContentType="image/png"/>
  <Override PartName="/ppt/media/image48.jpeg" ContentType="image/jpeg"/>
  <Override PartName="/ppt/media/image35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34.jpeg" ContentType="image/jpeg"/>
  <Override PartName="/ppt/media/image7.png" ContentType="image/png"/>
  <Override PartName="/ppt/media/image52.wmf" ContentType="image/x-wmf"/>
  <Override PartName="/ppt/media/image12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918CBC-7394-46A9-930C-8CE0032F0C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5F1-A1C4-49CE-B8CD-C91B39CB6D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9F0-D07F-4F66-8A95-8F5D0D14F3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4E8-1829-4156-B140-34D0F1AD2EB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2596-EF8E-4727-A4CF-92C5AED441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E1C-372C-4AF5-AEB7-FB8D53FAE65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023B-0A1D-4BD2-9A2E-AECF0BB3F01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6ABB-302A-4B63-893C-C1A5EF0B33E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907-635F-420F-8E81-E3A65A08FA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0BB-4665-4DA6-AE4A-CE77A1ADE67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A60-7255-4ADC-B5BC-389FB5A2F2C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208-3B6D-4089-A6A7-361F6716427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E8B-DDCE-4DD0-B871-614FE349315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0D0-3DFB-436F-8E84-DC3451E8174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497B1A-8D5C-40A1-A2D7-7DBEC13BF2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6240" cy="36939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73200" y="467964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. The μ− flux (open symbols) at differ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 atmospheric depths simulated using the pri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y spectrum AMS-BESS fit 2001 and com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d with experimental data (black points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ata on simulation ratio o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. NRLMSISE-00 Model 2001 for the at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phere. FLUKA 2005.6 used in superposi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. BESS-2001 balloon flight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4AD-CA92-4982-9C7B-A293FBBCF8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11160" y="7570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600" y="4697280"/>
            <a:ext cx="49417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2ED-1F7A-4312-AD37-C8C24E3F30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7518-0F0D-4EEF-98D3-C2A1692B4E7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0" y="3268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58440" y="3489480"/>
            <a:ext cx="76582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C533-D03B-4436-B91F-E5FB433D4DF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0" y="3268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58440" y="3489480"/>
            <a:ext cx="76582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5213-91AF-4421-BD0A-D9F9361EDB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bsol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87E2-1001-4239-A0DB-0F9140AFF56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885-F396-475A-A9B5-6CDD4BC1581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6EF8-5745-465D-9467-953EE737102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AB8-02DE-47D1-A9AE-B551E47A7D1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F17-5BC1-49A3-8EF8-8A335C64B77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8142-0DCB-474E-B1D7-45BCC25A7AC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C28-EEE4-47A1-AD3A-3172C7A2CB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B82-CE08-49FE-A383-3CA1463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66A-6FFE-4934-941A-486C11C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DBE-1C15-411B-8C7A-FC907B17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40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024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1092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40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024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375-DF72-422C-BEB5-14FDE576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86E-2433-4D07-890E-A0E76CCE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41C2-8235-4EB7-9E91-0DC238A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70F-CE88-4464-BF39-17C7A7F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A70C-A7B2-4239-88A7-BA57A23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F62-DAB5-4035-BADD-2E5B01A4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25C-5B0D-445A-BD55-A0FC62F0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FAB3-1620-4F9F-AAC1-DF4B759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AC8-121F-4326-AC41-797D8967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CBB-F482-4919-9830-270542E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F0A-A681-481A-A390-2A1286E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E458-E941-4CEC-82CD-F885006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A9A-5295-4482-A657-B173B10B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70240" y="11253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1092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70240" y="38318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B75-A33C-4885-8905-8C0E8DFC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7FD-EEDC-4F5B-8F0F-26DD8676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9E5-FFC3-445F-B6AD-3A7059D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332-6F7B-4714-A653-5ACFB5E0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327-551A-4FF5-B6CC-9564760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4AF-F52F-447B-BA41-1F19A2C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38318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478-38CF-4E85-BC3A-14DF864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253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831840"/>
            <a:ext cx="7924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C8A-321E-42AD-B309-73604F8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68320"/>
            <a:ext cx="9144000" cy="3321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4" name="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5880" y="803160"/>
              <a:ext cx="19188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10920" y="112536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40044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B95-8EC5-4E80-83E5-3C0C094C759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9" name="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75360" y="137268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939"/>
                  </a:moveTo>
                  <a:arcTo wR="10800" hR="10800" stAng="44359" swAng="16199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939"/>
                  </a:moveTo>
                  <a:arcTo wR="10800" hR="10800" stAng="44359" swAng="16199433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4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092080" y="5318640"/>
              <a:ext cx="247320" cy="24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5" y="4"/>
                  </a:moveTo>
                  <a:arcTo wR="10800" hR="10800" stAng="-5487570" swAng="1628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5" y="4"/>
                  </a:moveTo>
                  <a:arcTo wR="10800" hR="10800" stAng="-5487570" swAng="16287570"/>
                </a:path>
              </a:pathLst>
            </a:custGeom>
            <a:noFill/>
            <a:ln cap="rnd"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58E0-DB63-438A-B58E-BB613C3DBD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incke.home.cern.ch/vincke/neutrino2.htm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fluka-users@fluka.org" TargetMode="External"/><Relationship Id="rId2" Type="http://schemas.openxmlformats.org/officeDocument/2006/relationships/hyperlink" Target="mailto:fluka-discuss@fluka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915920"/>
            <a:ext cx="79167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n introduction to FLUKA</a:t>
            </a:r>
            <a:r>
              <a:rPr b="0" lang="en-GB" sz="3200" spc="-1" strike="noStrike">
                <a:solidFill>
                  <a:srgbClr val="660066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95280" y="458100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he FLUKA license (it is not GPL)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944280"/>
            <a:ext cx="81360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ndard download: binary library + user routin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LUKA can be used freely for scientific and academic purposes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d-hoc agreement for commercial purpos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t cannot be used for weapon related application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t is not permitted to redistribute the code (single user, single sit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ser can add their own scoring, sources etc through a wide set of user routines, provided they don’t modify the physic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levant references for each FLUKA version can be found in the documentat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It is possible, by explicit signature of license, to download </a:t>
            </a:r>
            <a:r>
              <a:rPr b="0" i="1" lang="en-US" sz="1800" spc="-1" strike="noStrike">
                <a:solidFill>
                  <a:srgbClr val="cc0000"/>
                </a:solidFill>
                <a:latin typeface="Tahoma"/>
              </a:rPr>
              <a:t>(!!! now from NEA as well !!!)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 the source for researchers of scientific/academic Institution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LUKA cannot be copied, even in part, into other codes, or translated into another language without permission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6600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user cannot publish results with modified code, unless explicit authorization is granted in advance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87520" y="1389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063-3417-4BBE-A555-034C035EA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Using FLUK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47560" y="932040"/>
            <a:ext cx="86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Plat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Linux with g77, Linux with g95, Mac OSX with g9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04880" y="138276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Under test: 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Linux and Mac OSX (gfortran), Windows-Cygwin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 (g95)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82560" y="2998800"/>
            <a:ext cx="813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/options driven by “data cards” (ascii file)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aphical   interface is available!!!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63480" y="38336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Geometry (“Combinatorial geometry”): input by “data cards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27200" y="4630680"/>
            <a:ext cx="8207280" cy="1135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dard Output and Scoring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arently limited but highly flexible and powerful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utput processing and plotting interface availabl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60960" y="254628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dard Input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5160" y="2549520"/>
            <a:ext cx="8229600" cy="1868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600" y="1827360"/>
            <a:ext cx="844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he code can compiled/run only on with operating systems, compilers (and associated) options tested and approved by the development tea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FA4-4CFE-4E54-AF02-CFDE63472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Examples of user interfac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91960" y="450072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FLUKA run can be managed through a graphical interface. Here is an example using python + Tk (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FLAIR,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.Vlachoudis, CERN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519200" y="922320"/>
            <a:ext cx="6575400" cy="3635280"/>
            <a:chOff x="1519200" y="922320"/>
            <a:chExt cx="6575400" cy="3635280"/>
          </a:xfrm>
        </p:grpSpPr>
        <p:pic>
          <p:nvPicPr>
            <p:cNvPr id="166" name="Picture 3" descr="flair"/>
            <p:cNvPicPr/>
            <p:nvPr/>
          </p:nvPicPr>
          <p:blipFill>
            <a:blip r:embed="rId1"/>
            <a:stretch/>
          </p:blipFill>
          <p:spPr>
            <a:xfrm>
              <a:off x="1660680" y="922320"/>
              <a:ext cx="643392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Line 7"/>
            <p:cNvSpPr/>
            <p:nvPr/>
          </p:nvSpPr>
          <p:spPr>
            <a:xfrm flipV="1">
              <a:off x="1519200" y="3849840"/>
              <a:ext cx="870120" cy="7077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68" name="Text Box 9"/>
          <p:cNvSpPr/>
          <p:nvPr/>
        </p:nvSpPr>
        <p:spPr>
          <a:xfrm>
            <a:off x="6504120" y="3792600"/>
            <a:ext cx="265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 now a graphical tool exists to prepare geometry, running under windows 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by. C. Theis, CERN)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9" name="Picture 4" descr="test"/>
          <p:cNvPicPr/>
          <p:nvPr/>
        </p:nvPicPr>
        <p:blipFill>
          <a:blip r:embed="rId2"/>
          <a:stretch/>
        </p:blipFill>
        <p:spPr>
          <a:xfrm>
            <a:off x="3483000" y="3537000"/>
            <a:ext cx="3881520" cy="31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E5D-77D0-4D26-9D56-89DA76783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Examples of FLUKA Appl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BCE-102B-4CF3-9B5D-F449735B3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7440" y="63360"/>
            <a:ext cx="845820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e TARC experiment at CERN: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3" descr="tarc_lead"/>
          <p:cNvPicPr/>
          <p:nvPr/>
        </p:nvPicPr>
        <p:blipFill>
          <a:blip r:embed="rId1"/>
          <a:stretch/>
        </p:blipFill>
        <p:spPr>
          <a:xfrm>
            <a:off x="604800" y="887400"/>
            <a:ext cx="7696080" cy="54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07E-632B-4C25-87F8-DE702C1862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12240"/>
            <a:ext cx="842508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he TARC experiment: neutron spectr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5" name="Picture 3" descr="Revol02"/>
          <p:cNvPicPr/>
          <p:nvPr/>
        </p:nvPicPr>
        <p:blipFill>
          <a:blip r:embed="rId1"/>
          <a:srcRect l="427" t="0" r="0" b="46818"/>
          <a:stretch/>
        </p:blipFill>
        <p:spPr>
          <a:xfrm>
            <a:off x="776160" y="1623960"/>
            <a:ext cx="6718320" cy="4764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826920" y="981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FLUKA + EA-MC (C.Rubbia et al.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371-FCBA-4E62-B910-217A68009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R7-test6"/>
          <p:cNvPicPr/>
          <p:nvPr/>
        </p:nvPicPr>
        <p:blipFill>
          <a:blip r:embed="rId1"/>
          <a:srcRect l="0" t="0" r="22597" b="0"/>
          <a:stretch/>
        </p:blipFill>
        <p:spPr>
          <a:xfrm>
            <a:off x="3619440" y="554040"/>
            <a:ext cx="5367240" cy="6303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57200"/>
            <a:ext cx="838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pplications –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LHC collimation reg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0" name="Picture 5" descr="LossRegionsLHC"/>
          <p:cNvPicPr/>
          <p:nvPr/>
        </p:nvPicPr>
        <p:blipFill>
          <a:blip r:embed="rId2"/>
          <a:stretch/>
        </p:blipFill>
        <p:spPr>
          <a:xfrm>
            <a:off x="0" y="1398600"/>
            <a:ext cx="6168960" cy="3827520"/>
          </a:xfrm>
          <a:prstGeom prst="rect">
            <a:avLst/>
          </a:prstGeom>
          <a:ln w="0">
            <a:noFill/>
          </a:ln>
        </p:spPr>
      </p:pic>
      <p:sp>
        <p:nvSpPr>
          <p:cNvPr id="181" name="Oval 6"/>
          <p:cNvSpPr/>
          <p:nvPr/>
        </p:nvSpPr>
        <p:spPr>
          <a:xfrm rot="2395200">
            <a:off x="4990680" y="3657600"/>
            <a:ext cx="381240" cy="609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5435640" y="3657240"/>
            <a:ext cx="167652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944040" y="5506920"/>
            <a:ext cx="1626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FLUKA geometry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visualized with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impleGe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384960" y="2286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Magnet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450560" y="481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Collimator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7086600" y="2590920"/>
            <a:ext cx="76212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7010280" y="2590920"/>
            <a:ext cx="304920" cy="1447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 flipH="1" flipV="1">
            <a:off x="7467120" y="3809880"/>
            <a:ext cx="228600" cy="9144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 flipH="1">
            <a:off x="6857640" y="4952880"/>
            <a:ext cx="609480" cy="76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7320" y="6427800"/>
            <a:ext cx="50328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C12-8247-42DA-B0D6-D186DBBE7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2819520" y="640080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FLUKA course, CERN 200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C5D9-B246-42A4-8A5C-B5C09EFE848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3" name="Picture 2" descr="IR7-test6"/>
          <p:cNvPicPr/>
          <p:nvPr/>
        </p:nvPicPr>
        <p:blipFill>
          <a:blip r:embed="rId1"/>
          <a:srcRect l="0" t="0" r="15037" b="0"/>
          <a:stretch/>
        </p:blipFill>
        <p:spPr>
          <a:xfrm>
            <a:off x="4622760" y="490680"/>
            <a:ext cx="4521240" cy="6367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383320" cy="3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pplications –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LHC collimation reg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5" name="Picture 4" descr="IR7_Phase1_All_ct6_all_cut_xz_60"/>
          <p:cNvPicPr/>
          <p:nvPr/>
        </p:nvPicPr>
        <p:blipFill>
          <a:blip r:embed="rId2"/>
          <a:stretch/>
        </p:blipFill>
        <p:spPr>
          <a:xfrm>
            <a:off x="1522440" y="4587840"/>
            <a:ext cx="3354480" cy="219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R7_Phase1_All_ct4_all_cut_xz_60"/>
          <p:cNvPicPr/>
          <p:nvPr/>
        </p:nvPicPr>
        <p:blipFill>
          <a:blip r:embed="rId3"/>
          <a:stretch/>
        </p:blipFill>
        <p:spPr>
          <a:xfrm>
            <a:off x="1522440" y="2973240"/>
            <a:ext cx="333864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IR7_Phase1_All_ct2_all_cut_xz_60"/>
          <p:cNvPicPr/>
          <p:nvPr/>
        </p:nvPicPr>
        <p:blipFill>
          <a:blip r:embed="rId4"/>
          <a:stretch/>
        </p:blipFill>
        <p:spPr>
          <a:xfrm>
            <a:off x="1517760" y="1239840"/>
            <a:ext cx="3338280" cy="2189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602640" y="2157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8 hour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13440" y="3992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 wee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5840" y="55767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4 month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12640" y="137016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Cooling ti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5"/>
          <a:stretch/>
        </p:blipFill>
        <p:spPr>
          <a:xfrm>
            <a:off x="6248520" y="6324480"/>
            <a:ext cx="2790720" cy="4431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467480" y="6109560"/>
            <a:ext cx="18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0458c"/>
                </a:solidFill>
                <a:latin typeface="Arial"/>
              </a:rPr>
              <a:t>CERN-SC-2005-092-RP-TN</a:t>
            </a:r>
            <a:r>
              <a:rPr b="0" lang="en-US" sz="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016600" y="551160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H="1" flipV="1">
            <a:off x="6067440" y="294300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6095880" y="405144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868280" y="1692360"/>
            <a:ext cx="243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Residual dose rate (mSv/h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after one year of oper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3F8-AFE3-4910-8B8F-2C0FF55E79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7200"/>
            <a:ext cx="838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Applications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CNG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Picture 3" descr="CNGS-Underground-m"/>
          <p:cNvPicPr/>
          <p:nvPr/>
        </p:nvPicPr>
        <p:blipFill>
          <a:blip r:embed="rId1"/>
          <a:stretch/>
        </p:blipFill>
        <p:spPr>
          <a:xfrm>
            <a:off x="152280" y="1600200"/>
            <a:ext cx="5943600" cy="4405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ngs1"/>
          <p:cNvPicPr/>
          <p:nvPr/>
        </p:nvPicPr>
        <p:blipFill>
          <a:blip r:embed="rId2"/>
          <a:stretch/>
        </p:blipFill>
        <p:spPr>
          <a:xfrm>
            <a:off x="4191120" y="207648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211" name="Oval 5"/>
          <p:cNvSpPr/>
          <p:nvPr/>
        </p:nvSpPr>
        <p:spPr>
          <a:xfrm rot="1015200">
            <a:off x="2873160" y="2763360"/>
            <a:ext cx="3808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276720" y="3124080"/>
            <a:ext cx="19810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755-7188-4769-9614-9F969EB1B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rn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utrino to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an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sso  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4" name="Picture 3" descr="CNGSlayout_2001p"/>
          <p:cNvPicPr/>
          <p:nvPr/>
        </p:nvPicPr>
        <p:blipFill>
          <a:blip r:embed="rId1"/>
          <a:stretch/>
        </p:blipFill>
        <p:spPr>
          <a:xfrm>
            <a:off x="0" y="762120"/>
            <a:ext cx="5562720" cy="1827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_align_both"/>
          <p:cNvPicPr/>
          <p:nvPr/>
        </p:nvPicPr>
        <p:blipFill>
          <a:blip r:embed="rId2"/>
          <a:srcRect l="3959" t="26342" r="15960" b="20923"/>
          <a:stretch/>
        </p:blipFill>
        <p:spPr>
          <a:xfrm>
            <a:off x="5675400" y="3403440"/>
            <a:ext cx="3227400" cy="3009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0" y="2705040"/>
            <a:ext cx="59436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gineering and physics: target heating,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hielding, activation, beam monitors,  neutrino spectr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7" name="Picture 6" descr="targ0p5opti_col"/>
          <p:cNvPicPr/>
          <p:nvPr/>
        </p:nvPicPr>
        <p:blipFill>
          <a:blip r:embed="rId3"/>
          <a:srcRect l="0" t="33882" r="6666" b="32238"/>
          <a:stretch/>
        </p:blipFill>
        <p:spPr>
          <a:xfrm>
            <a:off x="0" y="3214800"/>
            <a:ext cx="533412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76320" y="6095880"/>
            <a:ext cx="66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ergy dep. in CNGS target rods, GeV/cm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pot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76320" y="5816520"/>
            <a:ext cx="71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uons in muon pits: horiz. distribution for beam alignment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0" name="Picture 9" descr="nugs2003_fourflav_r"/>
          <p:cNvPicPr/>
          <p:nvPr/>
        </p:nvPicPr>
        <p:blipFill>
          <a:blip r:embed="rId4"/>
          <a:srcRect l="0" t="12444" r="11554" b="6859"/>
          <a:stretch/>
        </p:blipFill>
        <p:spPr>
          <a:xfrm>
            <a:off x="5575320" y="318960"/>
            <a:ext cx="338292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CF-B1BF-4726-B86B-C75D74F489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4520" y="341280"/>
            <a:ext cx="787068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FLUK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88960" y="49230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Developed and maintained under an INFN-CERN agreement Copyright 1989-2008 CERN and INF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807440" y="579132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ttp://www.fluka.org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95160" y="979560"/>
            <a:ext cx="81154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Main authors: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 Fassò, A. Ferrari, J. Ranft, P.R. Sal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Contributing authors: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.Battistoni, F.Cerutti, T.Empl, M.V.Garzelli, M.Lantz, A. Mairani, V.Patera, S.Roesler, G. Smirnov, F.Sommerer, V.Vlachoudis 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562040" y="59292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&gt;2000 user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Picture 13" descr="flukagen"/>
          <p:cNvPicPr/>
          <p:nvPr/>
        </p:nvPicPr>
        <p:blipFill>
          <a:blip r:embed="rId1"/>
          <a:srcRect l="-1614" t="27764" r="-794" b="25614"/>
          <a:stretch/>
        </p:blipFill>
        <p:spPr>
          <a:xfrm>
            <a:off x="343080" y="2116080"/>
            <a:ext cx="8353080" cy="28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316-896C-41A8-80B7-CBF77BFAD7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2819520" y="640080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FLUKA course, CERN 200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45964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pplications –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CNG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3" descr="ngs99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-15228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1d-total-xz-large"/>
          <p:cNvPicPr/>
          <p:nvPr/>
        </p:nvPicPr>
        <p:blipFill>
          <a:blip r:embed="rId3"/>
          <a:srcRect l="3213" t="5657" r="16466" b="32111"/>
          <a:stretch/>
        </p:blipFill>
        <p:spPr>
          <a:xfrm>
            <a:off x="1622520" y="2905200"/>
            <a:ext cx="5181480" cy="380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legend"/>
          <p:cNvPicPr/>
          <p:nvPr/>
        </p:nvPicPr>
        <p:blipFill>
          <a:blip r:embed="rId4"/>
          <a:stretch/>
        </p:blipFill>
        <p:spPr>
          <a:xfrm>
            <a:off x="6880320" y="2828880"/>
            <a:ext cx="687240" cy="3733920"/>
          </a:xfrm>
          <a:prstGeom prst="rect">
            <a:avLst/>
          </a:prstGeom>
          <a:ln w="0">
            <a:noFill/>
          </a:ln>
        </p:spPr>
      </p:pic>
      <p:sp>
        <p:nvSpPr>
          <p:cNvPr id="226" name="Line 6"/>
          <p:cNvSpPr/>
          <p:nvPr/>
        </p:nvSpPr>
        <p:spPr>
          <a:xfrm>
            <a:off x="7145280" y="401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7489800" y="3830760"/>
            <a:ext cx="61956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7140600" y="454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518240" y="4363920"/>
            <a:ext cx="47340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7148520" y="50846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583760" y="4881600"/>
            <a:ext cx="3268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7455600" y="27525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mSv/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16440" y="3908520"/>
            <a:ext cx="1218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Comic Sans MS"/>
              </a:rPr>
              <a:t>Example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t</a:t>
            </a:r>
            <a:r>
              <a:rPr b="0" lang="en-US" sz="1600" spc="-1" strike="noStrike" baseline="-25000">
                <a:solidFill>
                  <a:srgbClr val="40458c"/>
                </a:solidFill>
                <a:latin typeface="Comic Sans MS"/>
              </a:rPr>
              <a:t>cool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= 1 da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4267080" y="457200"/>
            <a:ext cx="609840" cy="914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H="1">
            <a:off x="5790960" y="990720"/>
            <a:ext cx="609480" cy="914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 rot="18116400">
            <a:off x="4167000" y="2185920"/>
            <a:ext cx="1039680" cy="74520"/>
          </a:xfrm>
          <a:prstGeom prst="leftArrow">
            <a:avLst>
              <a:gd name="adj1" fmla="val 50000"/>
              <a:gd name="adj2" fmla="val 34879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74F-0FB8-422F-8692-366A01F287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3073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ahoma"/>
              </a:rPr>
              <a:t>(3D) Calculation of Atmospheric </a:t>
            </a:r>
            <a:r>
              <a:rPr b="0" lang="el-GR" sz="2800" spc="-1" strike="noStrike">
                <a:solidFill>
                  <a:srgbClr val="800000"/>
                </a:solidFill>
                <a:latin typeface="Tahoma"/>
              </a:rPr>
              <a:t>ν</a:t>
            </a:r>
            <a:r>
              <a:rPr b="0" lang="en-GB" sz="2400" spc="-1" strike="noStrike">
                <a:solidFill>
                  <a:srgbClr val="800000"/>
                </a:solidFill>
                <a:latin typeface="Tahoma"/>
              </a:rPr>
              <a:t> Flu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8" name="Picture 3" descr="subgevsk"/>
          <p:cNvPicPr/>
          <p:nvPr/>
        </p:nvPicPr>
        <p:blipFill>
          <a:blip r:embed="rId1"/>
          <a:srcRect l="2030" t="3440" r="10494" b="3440"/>
          <a:stretch/>
        </p:blipFill>
        <p:spPr>
          <a:xfrm>
            <a:off x="380880" y="1295280"/>
            <a:ext cx="4724640" cy="5029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5076720" y="1052640"/>
            <a:ext cx="381024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first 3-D calculatio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of atmospheric neutrinos was done with FLUKA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enhancement in the horizontal direction, which cannot be predicted by a 1-D calculation, was fully unexpected, but is now generally acknowledged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 the figure: angular distribution of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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,,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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In red: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-D calcul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759-51C5-470F-8E1B-6C66A2382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115920"/>
            <a:ext cx="8002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Negative muons at floating altitudes: CAPRICE94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743200" y="4876920"/>
            <a:ext cx="4213080" cy="549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Arial"/>
              </a:rPr>
              <a:t>Open symbols: CAPRICE  data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Arial"/>
              </a:rPr>
              <a:t>Full symbols: FLUK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2" name="Picture 4" descr="myneg"/>
          <p:cNvPicPr/>
          <p:nvPr/>
        </p:nvPicPr>
        <p:blipFill>
          <a:blip r:embed="rId1"/>
          <a:srcRect l="3923" t="18182" r="13724" b="42427"/>
          <a:stretch/>
        </p:blipFill>
        <p:spPr>
          <a:xfrm>
            <a:off x="533520" y="1752480"/>
            <a:ext cx="4800600" cy="2971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yneg"/>
          <p:cNvPicPr/>
          <p:nvPr/>
        </p:nvPicPr>
        <p:blipFill>
          <a:blip r:embed="rId2"/>
          <a:srcRect l="7842" t="37373" r="38564" b="44445"/>
          <a:stretch/>
        </p:blipFill>
        <p:spPr>
          <a:xfrm>
            <a:off x="5334120" y="1676520"/>
            <a:ext cx="312408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myneg"/>
          <p:cNvPicPr/>
          <p:nvPr/>
        </p:nvPicPr>
        <p:blipFill>
          <a:blip r:embed="rId3"/>
          <a:srcRect l="58828" t="38386" r="15035" b="42427"/>
          <a:stretch/>
        </p:blipFill>
        <p:spPr>
          <a:xfrm>
            <a:off x="685800" y="3276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myneg"/>
          <p:cNvPicPr/>
          <p:nvPr/>
        </p:nvPicPr>
        <p:blipFill>
          <a:blip r:embed="rId4"/>
          <a:srcRect l="7842" t="57577" r="39870" b="21213"/>
          <a:stretch/>
        </p:blipFill>
        <p:spPr>
          <a:xfrm>
            <a:off x="5334120" y="32004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myneg"/>
          <p:cNvPicPr/>
          <p:nvPr/>
        </p:nvPicPr>
        <p:blipFill>
          <a:blip r:embed="rId5"/>
          <a:srcRect l="61440" t="58590" r="13724" b="24245"/>
          <a:stretch/>
        </p:blipFill>
        <p:spPr>
          <a:xfrm>
            <a:off x="838080" y="4800600"/>
            <a:ext cx="144792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3048120" y="54864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60093"/>
                </a:solidFill>
                <a:latin typeface="Arial"/>
              </a:rPr>
              <a:t>primary spectrum normalization ~AMS-BESS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d60093"/>
                </a:solidFill>
                <a:latin typeface="Arial"/>
              </a:rPr>
              <a:t>Astrop. Phys., Vol. 17, No. 4 (2002) p. 47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6095880" y="457200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367-7BC6-49B7-A60F-CEA617AF28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6289" r="0" b="5614"/>
          <a:stretch/>
        </p:blipFill>
        <p:spPr>
          <a:xfrm>
            <a:off x="4110120" y="1206360"/>
            <a:ext cx="5148360" cy="453564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0" y="907920"/>
            <a:ext cx="3240000" cy="5587920"/>
            <a:chOff x="0" y="907920"/>
            <a:chExt cx="3240000" cy="55879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rcRect l="-560" t="9269" r="12654" b="10804"/>
            <a:stretch/>
          </p:blipFill>
          <p:spPr>
            <a:xfrm>
              <a:off x="0" y="907920"/>
              <a:ext cx="3166920" cy="28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rcRect l="0" t="13964" r="10164" b="4955"/>
            <a:stretch/>
          </p:blipFill>
          <p:spPr>
            <a:xfrm>
              <a:off x="0" y="3645720"/>
              <a:ext cx="3240000" cy="28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3173400" y="2798640"/>
            <a:ext cx="1295280" cy="27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Recent results from the HARP experi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2.9 GeV/c p on A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product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t different angl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4520" y="558468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Double differential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+  production for p C interactions at 158 GeV/c, as measured by NA49 (symbols) and predicted by FLUKA (histograms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3000" cy="25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e main physics for CR simul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88080" y="85104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nelastic hA interactions at high energi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279-7855-49D3-9236-2FDC002151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413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he μ flux (open symbols) at different atmospheric depths simulated using the primary spectrum AMS-BESS fit 2001 and compared with experimental data (full points)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62040"/>
            <a:ext cx="4572000" cy="4395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356000" y="0"/>
            <a:ext cx="4788000" cy="13413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ESS 2001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lloon flight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@ Ft. Summer </a:t>
            </a:r>
            <a:br>
              <a:rPr sz="2000"/>
            </a:b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stropart. Phys. 19 (2003), 113 – 126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2060640"/>
            <a:ext cx="2224080" cy="459720"/>
          </a:xfrm>
          <a:prstGeom prst="rect">
            <a:avLst/>
          </a:prstGeom>
          <a:solidFill>
            <a:srgbClr val="cef6ce">
              <a:alpha val="46000"/>
            </a:srgbClr>
          </a:solid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"/>
              </a:rPr>
              <a:t>Cut-off: 4.2 GV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2060640"/>
            <a:ext cx="270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Arial"/>
              </a:rPr>
              <a:t>Negative mu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42591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Atmospheric muons simulations and comparison with exp. data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Arial"/>
              </a:rPr>
              <a:t>(S.Muraro FLUKA coll.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602-F2C7-445B-BC9C-A7FB346B8E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84720" y="0"/>
            <a:ext cx="3059280" cy="907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L3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COSMIC</a:t>
            </a:r>
            <a:br>
              <a:rPr sz="28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p-ex/0408114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5373720"/>
            <a:ext cx="189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ack 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. Dat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Arial"/>
              </a:rPr>
              <a:t>Open symb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56560" y="539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1197000"/>
            <a:ext cx="237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Comic Sans MS"/>
              </a:rPr>
              <a:t>Muon flux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43640" y="6524640"/>
            <a:ext cx="2160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7640" y="6453360"/>
            <a:ext cx="289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843280" y="1130400"/>
            <a:ext cx="2946240" cy="2712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2952720" cy="2713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2946240" cy="2793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2952720" cy="2793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79280" y="1844640"/>
            <a:ext cx="259236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Vertical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0.975 &lt; cos</a:t>
            </a:r>
            <a:r>
              <a:rPr b="0" lang="el-GR" sz="2400" spc="-1" strike="noStrike">
                <a:solidFill>
                  <a:srgbClr val="40458c"/>
                </a:solidFill>
                <a:latin typeface="Comic Sans MS"/>
              </a:rPr>
              <a:t>θ</a:t>
            </a:r>
            <a:r>
              <a:rPr b="0" lang="it-IT" sz="2400" spc="-1" strike="noStrike">
                <a:solidFill>
                  <a:srgbClr val="40458c"/>
                </a:solidFill>
                <a:latin typeface="Comic Sans MS"/>
              </a:rPr>
              <a:t> &lt; 1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292640"/>
            <a:ext cx="284328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At large ang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0.525 &lt; cos</a:t>
            </a:r>
            <a:r>
              <a:rPr b="0" lang="el-GR" sz="2400" spc="-1" strike="noStrike">
                <a:solidFill>
                  <a:srgbClr val="40458c"/>
                </a:solidFill>
                <a:latin typeface="Comic Sans MS"/>
              </a:rPr>
              <a:t>θ</a:t>
            </a:r>
            <a:r>
              <a:rPr b="0" lang="it-IT" sz="2400" spc="-1" strike="noStrike">
                <a:solidFill>
                  <a:srgbClr val="40458c"/>
                </a:solidFill>
                <a:latin typeface="Comic Sans MS"/>
              </a:rPr>
              <a:t> &lt; 0.6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997360"/>
            <a:ext cx="2916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"/>
              </a:rPr>
              <a:t>R</a:t>
            </a:r>
            <a:r>
              <a:rPr b="0" lang="it-IT" sz="2400" spc="-1" strike="noStrike" baseline="-25000">
                <a:solidFill>
                  <a:srgbClr val="40458c"/>
                </a:solidFill>
                <a:latin typeface="Arial"/>
              </a:rPr>
              <a:t>sim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= 1.295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0.048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"/>
              </a:rPr>
              <a:t>R</a:t>
            </a:r>
            <a:r>
              <a:rPr b="0" lang="it-IT" sz="2400" spc="-1" strike="noStrike" baseline="-25000">
                <a:solidFill>
                  <a:srgbClr val="40458c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= 1.285 </a:t>
            </a:r>
            <a:r>
              <a:rPr b="0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0.484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6227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Arial"/>
              </a:rPr>
              <a:t>Muons simulations and comparisons at sea-level for </a:t>
            </a:r>
            <a:r>
              <a:rPr b="0" lang="it-IT" sz="2800" spc="-1" strike="noStrike" u="sng">
                <a:solidFill>
                  <a:srgbClr val="40458c"/>
                </a:solidFill>
                <a:uFillTx/>
                <a:latin typeface="Arial"/>
              </a:rPr>
              <a:t>energy up to 3 TeV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D4F-63C9-4AE7-BC37-2A3851CAE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772440" y="34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91200" y="3887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74640" y="2967120"/>
            <a:ext cx="527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 Century Schoolbook"/>
              </a:rPr>
              <a:t>(ordinary) meson decay:</a:t>
            </a:r>
            <a:r>
              <a:rPr b="1" lang="en-US" sz="1800" spc="-1" strike="noStrike">
                <a:solidFill>
                  <a:srgbClr val="40458c"/>
                </a:solidFill>
                <a:latin typeface="New Century Schoolbook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New Century Schoolbook"/>
              </a:rPr>
              <a:t>dN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ff"/>
                </a:solidFill>
                <a:latin typeface="New Century Schoolbook"/>
              </a:rPr>
              <a:t>/d cos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</a:t>
            </a:r>
            <a:r>
              <a:rPr b="1" lang="en-US" sz="1800" spc="-1" strike="noStrike">
                <a:solidFill>
                  <a:srgbClr val="0000ff"/>
                </a:solidFill>
                <a:latin typeface="New Century Schoolbook"/>
              </a:rPr>
              <a:t>~ 1/ cos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43080" y="1882800"/>
            <a:ext cx="15228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46200" y="1182600"/>
            <a:ext cx="5171760" cy="725400"/>
            <a:chOff x="646200" y="1182600"/>
            <a:chExt cx="5171760" cy="725400"/>
          </a:xfrm>
        </p:grpSpPr>
        <p:sp>
          <p:nvSpPr>
            <p:cNvPr id="283" name=""/>
            <p:cNvSpPr/>
            <p:nvPr/>
          </p:nvSpPr>
          <p:spPr>
            <a:xfrm>
              <a:off x="646200" y="1298520"/>
              <a:ext cx="609480" cy="6094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5800" y="1182600"/>
              <a:ext cx="49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New Century Schoolbook"/>
                </a:rPr>
                <a:t>Primary C.R. proton/nucleus:</a:t>
              </a:r>
              <a:r>
                <a:rPr b="1" lang="en-US" sz="1800" spc="-1" strike="noStrike">
                  <a:solidFill>
                    <a:srgbClr val="40458c"/>
                  </a:solidFill>
                  <a:latin typeface="New Century Schoolbook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New Century Schoolbook"/>
                </a:rPr>
                <a:t>A,E,isotropic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322360" y="2670120"/>
            <a:ext cx="990720" cy="685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86080" y="2733840"/>
            <a:ext cx="609480" cy="60948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98680" y="2746440"/>
            <a:ext cx="914400" cy="1295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34000" y="3354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53360" y="2820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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09760" y="3330720"/>
            <a:ext cx="15228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9240" y="1679400"/>
            <a:ext cx="58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 Century Schoolbook"/>
              </a:rPr>
              <a:t>hadronic interaction: multiparticle production</a:t>
            </a:r>
            <a:r>
              <a:rPr b="1" lang="en-US" sz="1400" spc="-1" strike="noStrike">
                <a:solidFill>
                  <a:srgbClr val="40458c"/>
                </a:solidFill>
                <a:latin typeface="New Century Schoolbook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>
                <a:solidFill>
                  <a:srgbClr val="0000ff"/>
                </a:solidFill>
                <a:latin typeface="New Century Schoolbook"/>
              </a:rPr>
              <a:t>(A,E)</a:t>
            </a:r>
            <a:r>
              <a:rPr b="1" lang="en-US" sz="1400" spc="-1" strike="noStrike">
                <a:solidFill>
                  <a:srgbClr val="40458c"/>
                </a:solidFill>
                <a:latin typeface="New Century Schoolbook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New Century Schoolbook"/>
              </a:rPr>
              <a:t>dN/dx(A,E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400" spc="-1" strike="noStrike">
                <a:solidFill>
                  <a:srgbClr val="ff0000"/>
                </a:solidFill>
                <a:latin typeface="New Century Schoolboo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New Century Schoolbook"/>
              </a:rPr>
              <a:t>extensive air shower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2000" y="1984320"/>
            <a:ext cx="990360" cy="6858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5360" y="2048040"/>
            <a:ext cx="609480" cy="609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7960" y="2060640"/>
            <a:ext cx="914400" cy="1295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09760" y="2644920"/>
            <a:ext cx="15228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91200" y="442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1800" y="3606840"/>
            <a:ext cx="246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short-lifeti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meson production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and prompt deca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(e.g. charmed mesons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Isotropic ang. distr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37640" y="6199200"/>
            <a:ext cx="27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detection:</a:t>
            </a:r>
            <a:r>
              <a:rPr b="1" lang="en-US" sz="1600" spc="-1" strike="noStrike">
                <a:solidFill>
                  <a:srgbClr val="40458c"/>
                </a:solidFill>
                <a:latin typeface="New Century Schoolbook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(A,E), d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/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98680" y="3736800"/>
            <a:ext cx="6324480" cy="2971800"/>
          </a:xfrm>
          <a:custGeom>
            <a:avLst/>
            <a:gdLst/>
            <a:ahLst/>
            <a:rect l="l" t="t" r="r" b="b"/>
            <a:pathLst>
              <a:path w="3984" h="1872">
                <a:moveTo>
                  <a:pt x="0" y="1536"/>
                </a:moveTo>
                <a:lnTo>
                  <a:pt x="0" y="1872"/>
                </a:lnTo>
                <a:lnTo>
                  <a:pt x="528" y="1872"/>
                </a:lnTo>
                <a:lnTo>
                  <a:pt x="1392" y="1872"/>
                </a:lnTo>
                <a:lnTo>
                  <a:pt x="1920" y="1872"/>
                </a:lnTo>
                <a:lnTo>
                  <a:pt x="1920" y="1776"/>
                </a:lnTo>
                <a:lnTo>
                  <a:pt x="2016" y="1536"/>
                </a:lnTo>
                <a:lnTo>
                  <a:pt x="2208" y="1440"/>
                </a:lnTo>
                <a:lnTo>
                  <a:pt x="2448" y="1392"/>
                </a:lnTo>
                <a:lnTo>
                  <a:pt x="2640" y="1392"/>
                </a:lnTo>
                <a:lnTo>
                  <a:pt x="2976" y="1200"/>
                </a:lnTo>
                <a:lnTo>
                  <a:pt x="3552" y="720"/>
                </a:lnTo>
                <a:lnTo>
                  <a:pt x="3984" y="624"/>
                </a:lnTo>
                <a:lnTo>
                  <a:pt x="3984" y="144"/>
                </a:lnTo>
                <a:lnTo>
                  <a:pt x="3648" y="0"/>
                </a:lnTo>
                <a:lnTo>
                  <a:pt x="3216" y="48"/>
                </a:lnTo>
                <a:lnTo>
                  <a:pt x="2688" y="192"/>
                </a:lnTo>
                <a:lnTo>
                  <a:pt x="2160" y="432"/>
                </a:lnTo>
                <a:lnTo>
                  <a:pt x="1680" y="768"/>
                </a:lnTo>
                <a:lnTo>
                  <a:pt x="1200" y="1200"/>
                </a:lnTo>
                <a:lnTo>
                  <a:pt x="576" y="1488"/>
                </a:lnTo>
                <a:lnTo>
                  <a:pt x="0" y="1536"/>
                </a:lnTo>
                <a:close/>
              </a:path>
            </a:pathLst>
          </a:custGeom>
          <a:solidFill>
            <a:srgbClr val="ecd88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08360" y="5413320"/>
            <a:ext cx="1371600" cy="1219320"/>
          </a:xfrm>
          <a:custGeom>
            <a:avLst/>
            <a:gdLst/>
            <a:ahLst/>
            <a:rect l="l" t="t" r="r" b="b"/>
            <a:pathLst>
              <a:path w="864" h="768">
                <a:moveTo>
                  <a:pt x="0" y="0"/>
                </a:moveTo>
                <a:lnTo>
                  <a:pt x="288" y="240"/>
                </a:lnTo>
                <a:lnTo>
                  <a:pt x="480" y="384"/>
                </a:lnTo>
                <a:lnTo>
                  <a:pt x="672" y="672"/>
                </a:lnTo>
                <a:lnTo>
                  <a:pt x="816" y="768"/>
                </a:lnTo>
                <a:lnTo>
                  <a:pt x="864" y="768"/>
                </a:lnTo>
                <a:lnTo>
                  <a:pt x="816" y="768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61000" y="53370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144" y="96"/>
                </a:lnTo>
                <a:lnTo>
                  <a:pt x="288" y="144"/>
                </a:lnTo>
                <a:lnTo>
                  <a:pt x="432" y="96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1880" y="49561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0"/>
                </a:moveTo>
                <a:lnTo>
                  <a:pt x="288" y="240"/>
                </a:lnTo>
                <a:lnTo>
                  <a:pt x="480" y="480"/>
                </a:lnTo>
                <a:lnTo>
                  <a:pt x="864" y="816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94000" y="3686040"/>
            <a:ext cx="6350040" cy="2475000"/>
          </a:xfrm>
          <a:custGeom>
            <a:avLst/>
            <a:gdLst/>
            <a:ahLst/>
            <a:rect l="l" t="t" r="r" b="b"/>
            <a:pathLst>
              <a:path w="4000" h="1559">
                <a:moveTo>
                  <a:pt x="0" y="1559"/>
                </a:moveTo>
                <a:cubicBezTo>
                  <a:pt x="77" y="1552"/>
                  <a:pt x="351" y="1534"/>
                  <a:pt x="469" y="1516"/>
                </a:cubicBezTo>
                <a:cubicBezTo>
                  <a:pt x="587" y="1498"/>
                  <a:pt x="632" y="1479"/>
                  <a:pt x="711" y="1452"/>
                </a:cubicBezTo>
                <a:cubicBezTo>
                  <a:pt x="790" y="1425"/>
                  <a:pt x="869" y="1388"/>
                  <a:pt x="945" y="1352"/>
                </a:cubicBezTo>
                <a:cubicBezTo>
                  <a:pt x="1021" y="1316"/>
                  <a:pt x="1065" y="1311"/>
                  <a:pt x="1166" y="1238"/>
                </a:cubicBezTo>
                <a:cubicBezTo>
                  <a:pt x="1267" y="1165"/>
                  <a:pt x="1452" y="991"/>
                  <a:pt x="1550" y="911"/>
                </a:cubicBezTo>
                <a:cubicBezTo>
                  <a:pt x="1648" y="831"/>
                  <a:pt x="1705" y="800"/>
                  <a:pt x="1756" y="755"/>
                </a:cubicBezTo>
                <a:cubicBezTo>
                  <a:pt x="1807" y="710"/>
                  <a:pt x="1824" y="666"/>
                  <a:pt x="1855" y="641"/>
                </a:cubicBezTo>
                <a:cubicBezTo>
                  <a:pt x="1886" y="616"/>
                  <a:pt x="1891" y="632"/>
                  <a:pt x="1941" y="606"/>
                </a:cubicBezTo>
                <a:cubicBezTo>
                  <a:pt x="1991" y="580"/>
                  <a:pt x="2049" y="539"/>
                  <a:pt x="2154" y="485"/>
                </a:cubicBezTo>
                <a:cubicBezTo>
                  <a:pt x="2259" y="431"/>
                  <a:pt x="2366" y="358"/>
                  <a:pt x="2572" y="284"/>
                </a:cubicBezTo>
                <a:cubicBezTo>
                  <a:pt x="2778" y="210"/>
                  <a:pt x="3212" y="88"/>
                  <a:pt x="3388" y="44"/>
                </a:cubicBezTo>
                <a:cubicBezTo>
                  <a:pt x="3564" y="0"/>
                  <a:pt x="3538" y="14"/>
                  <a:pt x="3626" y="22"/>
                </a:cubicBezTo>
                <a:cubicBezTo>
                  <a:pt x="3714" y="30"/>
                  <a:pt x="3854" y="74"/>
                  <a:pt x="3916" y="92"/>
                </a:cubicBezTo>
                <a:cubicBezTo>
                  <a:pt x="3978" y="110"/>
                  <a:pt x="3983" y="121"/>
                  <a:pt x="4000" y="129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00720" y="5934240"/>
            <a:ext cx="1265040" cy="755640"/>
          </a:xfrm>
          <a:custGeom>
            <a:avLst/>
            <a:gdLst/>
            <a:ahLst/>
            <a:rect l="l" t="t" r="r" b="b"/>
            <a:pathLst>
              <a:path w="797" h="476">
                <a:moveTo>
                  <a:pt x="0" y="476"/>
                </a:moveTo>
                <a:cubicBezTo>
                  <a:pt x="18" y="428"/>
                  <a:pt x="47" y="255"/>
                  <a:pt x="108" y="185"/>
                </a:cubicBezTo>
                <a:cubicBezTo>
                  <a:pt x="169" y="115"/>
                  <a:pt x="290" y="85"/>
                  <a:pt x="365" y="56"/>
                </a:cubicBezTo>
                <a:cubicBezTo>
                  <a:pt x="440" y="27"/>
                  <a:pt x="493" y="16"/>
                  <a:pt x="557" y="8"/>
                </a:cubicBezTo>
                <a:cubicBezTo>
                  <a:pt x="621" y="0"/>
                  <a:pt x="709" y="8"/>
                  <a:pt x="749" y="8"/>
                </a:cubicBezTo>
                <a:cubicBezTo>
                  <a:pt x="789" y="8"/>
                  <a:pt x="793" y="8"/>
                  <a:pt x="797" y="8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79840" y="3610080"/>
            <a:ext cx="2713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New Century Schoolbook"/>
              </a:rPr>
              <a:t>transverse size of bundl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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P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New Century Schoolbook"/>
              </a:rPr>
              <a:t>t</a:t>
            </a:r>
            <a:r>
              <a:rPr b="1" lang="en-US" sz="1600" spc="-1" strike="noStrike">
                <a:solidFill>
                  <a:srgbClr val="0000ff"/>
                </a:solidFill>
                <a:latin typeface="New Century Schoolbook"/>
              </a:rPr>
              <a:t>(A,E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880000">
            <a:off x="4098600" y="3984480"/>
            <a:ext cx="304920" cy="12193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13080" y="4041720"/>
            <a:ext cx="144792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13080" y="3355920"/>
            <a:ext cx="182880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98680" y="3432240"/>
            <a:ext cx="2209680" cy="1981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26480" y="4889520"/>
            <a:ext cx="238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 Century Schoolbook"/>
              </a:rPr>
              <a:t>(TeV) muon propagation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 Century Schoolbook"/>
              </a:rPr>
              <a:t>in the rock</a:t>
            </a:r>
            <a:r>
              <a:rPr b="1" lang="en-US" sz="1400" spc="-1" strike="noStrike">
                <a:solidFill>
                  <a:srgbClr val="40458c"/>
                </a:solidFill>
                <a:latin typeface="New Century Schoolbook"/>
              </a:rPr>
              <a:t>: </a:t>
            </a:r>
            <a:r>
              <a:rPr b="1" lang="en-US" sz="1400" spc="-1" strike="noStrike">
                <a:solidFill>
                  <a:srgbClr val="0000ff"/>
                </a:solidFill>
                <a:latin typeface="New Century Schoolbook"/>
              </a:rPr>
              <a:t>radiative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New Century Schoolbook"/>
              </a:rPr>
              <a:t>processes 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New Century Schoolbook"/>
              </a:rPr>
              <a:t>fluctuations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280" y="51735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New Century Schoolbook"/>
              </a:rPr>
              <a:t>Multi-TeV muon transpor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200988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New Century Schoolbook"/>
              </a:rPr>
              <a:t>Primary p, He, ..., Fe nuclei with lab. energy from  1 TeV/nucleon up to &gt;10000 TeV/nucleon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6080" y="182520"/>
            <a:ext cx="846756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eV muons in underground laboratories (and locally generated background: neutrons...!!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234240" y="58784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condary particl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27720" y="6146640"/>
            <a:ext cx="231840" cy="4716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78480" y="6162840"/>
            <a:ext cx="347760" cy="2394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BD3-D315-4D36-BEA3-36AB6ACEA8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High energy cosmic ray library (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eV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15720" y="1061640"/>
            <a:ext cx="3600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ow: Comparisons with other dedicated MC codes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enchmark with underground muon experiments of previous generation (ex.: MACRO@ LNGS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ext steps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test different cosmic ray composition model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mparisons with new experimental data, e.g.: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ahoma"/>
              </a:rPr>
              <a:t>Muon charge ratio with OPERA/MINOS spectrometer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62520" y="1244520"/>
            <a:ext cx="4976640" cy="5372280"/>
            <a:chOff x="3962520" y="1244520"/>
            <a:chExt cx="4976640" cy="5372280"/>
          </a:xfrm>
        </p:grpSpPr>
        <p:sp>
          <p:nvSpPr>
            <p:cNvPr id="320" name=""/>
            <p:cNvSpPr/>
            <p:nvPr/>
          </p:nvSpPr>
          <p:spPr>
            <a:xfrm>
              <a:off x="4343400" y="4876920"/>
              <a:ext cx="4495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parison with OPERA data (black points). FLUKA has been ran with DPMJET II-53 and MACRO-fit composition model. Note that normalization is absolute (events/day): ratio DATA/FLUKA = (0.96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± 0.03)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962520" y="1244520"/>
              <a:ext cx="4976640" cy="3541680"/>
              <a:chOff x="3962520" y="1244520"/>
              <a:chExt cx="4976640" cy="35416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1244520"/>
                <a:ext cx="4976640" cy="35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 rot="19912200">
                <a:off x="5317200" y="300492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Preliminary!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310320" y="57405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M. Sioli et al FLUKA and OPER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3F0-B515-4671-9B7B-4D68364BA0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33112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pplication to ICARUS exp. at LNG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210600" y="5486400"/>
            <a:ext cx="231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 Century Schoolbook"/>
              </a:rPr>
              <a:t>Fe nuclei,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 Century Schoolbook"/>
              </a:rPr>
              <a:t>1000 TeV/nucle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905440" cy="43704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6134040" cy="46738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49840" y="6276960"/>
            <a:ext cx="305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attistoni, Ferrari, Muraro, Sala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LUKA and ICARU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5A9-C4EF-44F7-B5DD-203D8D5F76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457200"/>
            <a:ext cx="84596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Neutrons  on the ER-2 plane at 21 km altitud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Picture 3" descr="nflx01-north2-rpsd"/>
          <p:cNvPicPr/>
          <p:nvPr/>
        </p:nvPicPr>
        <p:blipFill>
          <a:blip r:embed="rId1"/>
          <a:stretch/>
        </p:blipFill>
        <p:spPr>
          <a:xfrm>
            <a:off x="152280" y="1295280"/>
            <a:ext cx="4507200" cy="2764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nflx02-south1-rpsd"/>
          <p:cNvPicPr/>
          <p:nvPr/>
        </p:nvPicPr>
        <p:blipFill>
          <a:blip r:embed="rId2"/>
          <a:stretch/>
        </p:blipFill>
        <p:spPr>
          <a:xfrm>
            <a:off x="4637160" y="3505320"/>
            <a:ext cx="4506840" cy="27637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4508640" y="1600200"/>
            <a:ext cx="44193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ements: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ldhagen et al., NIM A476, 42 (200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228600" y="4495680"/>
            <a:ext cx="41911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UKA calculations: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oesler et al., Rad. Prot. Dosim. 98,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367 (2002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648320" y="2438280"/>
            <a:ext cx="40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ote one order of magnitude difference depending on latitud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56A-F800-40E2-B711-AF45E6FA0C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819520" y="640080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FLUKA course, CERN 200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2C5F-5BA3-4A91-B379-47662080C2F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8215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he FLUKA international Collabor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77720" y="878040"/>
            <a:ext cx="8199720" cy="59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.Brugger,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F. Cerutti,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. Ferrari, M. Mauri, G. Lukasik, S. Roesler, L. Sarchiapone, G. Smirnov, F. Sommerer ,C. Theis, S. Trovati, H. Vinke, V.Vlachoudis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CERN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. Fassò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SLAC, USA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J. Ranft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Univ. of Siege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, German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G. Battistoni, F. Broggi,  M. Campanella, P. Colleoni, E. Gadioli, S. Muraro, P.R. Sala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INFN &amp; Univ. Milano, Ital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. Carboni, C. D’Ambrosio, A. Ferrari, A. Mostacci, V. Patera, M. Pelliccioni, R. Villari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INFN Frascat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.C. Moron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Univ. Roma II, Ital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. Margiotta, M. Siol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INFN &amp; Univ. Bologna, Ital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. Mairani, K. Parod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DKFZ &amp; HIT, Heidelberg, German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. Empl, L. Pin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Univ. of Houston, USA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K.T. Lee,  T. Wilson, N. Zap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NASA-Houston, USA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S. Rollet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ARC Seibersdorf Research, Austria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. Lantz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03"/>
                </a:solidFill>
                <a:latin typeface="Tahoma"/>
              </a:rPr>
              <a:t>Chalmers Univ. of Technology, Sweden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8112240" y="5144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uhbig_shad"/>
          <p:cNvPicPr/>
          <p:nvPr/>
        </p:nvPicPr>
        <p:blipFill>
          <a:blip r:embed="rId2"/>
          <a:stretch/>
        </p:blipFill>
        <p:spPr>
          <a:xfrm>
            <a:off x="8021520" y="499284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INFNLogo"/>
          <p:cNvPicPr/>
          <p:nvPr/>
        </p:nvPicPr>
        <p:blipFill>
          <a:blip r:embed="rId3"/>
          <a:stretch/>
        </p:blipFill>
        <p:spPr>
          <a:xfrm>
            <a:off x="7934400" y="2513160"/>
            <a:ext cx="91440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79E-1498-4807-8F29-0EEE8C9EB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920" y="247680"/>
            <a:ext cx="81568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6600"/>
                </a:solidFill>
                <a:latin typeface="Tahoma"/>
              </a:rPr>
              <a:t>Dosimetry Appl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762120" y="5126400"/>
            <a:ext cx="7619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Ambient dose equivalent from neutrons at solar maximum on commercial flights from Seattle to Hamburg and from Frankfurt  to Johannesburg.</a:t>
            </a:r>
            <a:r>
              <a:rPr b="0" lang="en-GB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ff"/>
                </a:solidFill>
                <a:latin typeface="Comic Sans MS"/>
              </a:rPr>
              <a:t>                                 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</a:rPr>
              <a:t>Solid lines: FLUKA simul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65040" y="163980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685800" y="1676520"/>
            <a:ext cx="23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oesler et al.,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d. Prot. Dosim.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98, 367 (2002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0" name="Picture 6" descr="amb-flt-nut-GSF1-rpsd"/>
          <p:cNvPicPr/>
          <p:nvPr/>
        </p:nvPicPr>
        <p:blipFill>
          <a:blip r:embed="rId1"/>
          <a:stretch/>
        </p:blipFill>
        <p:spPr>
          <a:xfrm>
            <a:off x="2971800" y="1219320"/>
            <a:ext cx="5438880" cy="388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2E4-193D-47F3-9A70-5E71713033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 flipH="1">
            <a:off x="3885840" y="3178080"/>
            <a:ext cx="857160" cy="215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838080" y="4419720"/>
            <a:ext cx="1582920" cy="282600"/>
            <a:chOff x="838080" y="4419720"/>
            <a:chExt cx="1582920" cy="282600"/>
          </a:xfrm>
        </p:grpSpPr>
        <p:sp>
          <p:nvSpPr>
            <p:cNvPr id="343" name="AutoShape 4"/>
            <p:cNvSpPr/>
            <p:nvPr/>
          </p:nvSpPr>
          <p:spPr>
            <a:xfrm>
              <a:off x="838080" y="4419720"/>
              <a:ext cx="1582920" cy="282600"/>
            </a:xfrm>
            <a:prstGeom prst="roundRect">
              <a:avLst>
                <a:gd name="adj" fmla="val 56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Text Box 5"/>
            <p:cNvSpPr/>
            <p:nvPr/>
          </p:nvSpPr>
          <p:spPr>
            <a:xfrm>
              <a:off x="838080" y="4419720"/>
              <a:ext cx="1582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usiness Clas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5" name="Group 6"/>
          <p:cNvGrpSpPr/>
          <p:nvPr/>
        </p:nvGrpSpPr>
        <p:grpSpPr>
          <a:xfrm>
            <a:off x="2514600" y="4419720"/>
            <a:ext cx="1503360" cy="266760"/>
            <a:chOff x="2514600" y="4419720"/>
            <a:chExt cx="1503360" cy="266760"/>
          </a:xfrm>
        </p:grpSpPr>
        <p:sp>
          <p:nvSpPr>
            <p:cNvPr id="346" name="AutoShape 7"/>
            <p:cNvSpPr/>
            <p:nvPr/>
          </p:nvSpPr>
          <p:spPr>
            <a:xfrm>
              <a:off x="2514600" y="4419720"/>
              <a:ext cx="1503360" cy="266760"/>
            </a:xfrm>
            <a:prstGeom prst="roundRect">
              <a:avLst>
                <a:gd name="adj" fmla="val 5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7" name="Text Box 8"/>
            <p:cNvSpPr/>
            <p:nvPr/>
          </p:nvSpPr>
          <p:spPr>
            <a:xfrm>
              <a:off x="2514600" y="4419720"/>
              <a:ext cx="1503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conomic Clas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8" name="Line 9"/>
          <p:cNvSpPr/>
          <p:nvPr/>
        </p:nvSpPr>
        <p:spPr>
          <a:xfrm flipH="1" flipV="1">
            <a:off x="2809440" y="2172960"/>
            <a:ext cx="4842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49" name="Group 10"/>
          <p:cNvGrpSpPr/>
          <p:nvPr/>
        </p:nvGrpSpPr>
        <p:grpSpPr>
          <a:xfrm>
            <a:off x="2212920" y="1728720"/>
            <a:ext cx="811440" cy="673200"/>
            <a:chOff x="2212920" y="1728720"/>
            <a:chExt cx="811440" cy="673200"/>
          </a:xfrm>
        </p:grpSpPr>
        <p:grpSp>
          <p:nvGrpSpPr>
            <p:cNvPr id="350" name="Group 11"/>
            <p:cNvGrpSpPr/>
            <p:nvPr/>
          </p:nvGrpSpPr>
          <p:grpSpPr>
            <a:xfrm>
              <a:off x="2443320" y="1774800"/>
              <a:ext cx="258120" cy="351000"/>
              <a:chOff x="2443320" y="1774800"/>
              <a:chExt cx="258120" cy="351000"/>
            </a:xfrm>
          </p:grpSpPr>
          <p:sp>
            <p:nvSpPr>
              <p:cNvPr id="351" name="Freeform 12"/>
              <p:cNvSpPr/>
              <p:nvPr/>
            </p:nvSpPr>
            <p:spPr>
              <a:xfrm>
                <a:off x="2443320" y="1774800"/>
                <a:ext cx="242640" cy="351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2" name="Freeform 13"/>
              <p:cNvSpPr/>
              <p:nvPr/>
            </p:nvSpPr>
            <p:spPr>
              <a:xfrm>
                <a:off x="2443320" y="1774800"/>
                <a:ext cx="242640" cy="1983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3" name="Freeform 14"/>
              <p:cNvSpPr/>
              <p:nvPr/>
            </p:nvSpPr>
            <p:spPr>
              <a:xfrm>
                <a:off x="2513880" y="1774800"/>
                <a:ext cx="187560" cy="35100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5"/>
            <p:cNvGrpSpPr/>
            <p:nvPr/>
          </p:nvGrpSpPr>
          <p:grpSpPr>
            <a:xfrm>
              <a:off x="2259000" y="2097000"/>
              <a:ext cx="351000" cy="219240"/>
              <a:chOff x="2259000" y="2097000"/>
              <a:chExt cx="351000" cy="219240"/>
            </a:xfrm>
          </p:grpSpPr>
          <p:sp>
            <p:nvSpPr>
              <p:cNvPr id="355" name="Freeform 16"/>
              <p:cNvSpPr/>
              <p:nvPr/>
            </p:nvSpPr>
            <p:spPr>
              <a:xfrm>
                <a:off x="2259000" y="2097000"/>
                <a:ext cx="351000" cy="21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6" name="Freeform 17"/>
              <p:cNvSpPr/>
              <p:nvPr/>
            </p:nvSpPr>
            <p:spPr>
              <a:xfrm>
                <a:off x="2259000" y="2097000"/>
                <a:ext cx="351000" cy="81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7" name="Freeform 18"/>
              <p:cNvSpPr/>
              <p:nvPr/>
            </p:nvSpPr>
            <p:spPr>
              <a:xfrm>
                <a:off x="2529000" y="2097000"/>
                <a:ext cx="81000" cy="21924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9"/>
            <p:cNvGrpSpPr/>
            <p:nvPr/>
          </p:nvGrpSpPr>
          <p:grpSpPr>
            <a:xfrm>
              <a:off x="2212920" y="1728720"/>
              <a:ext cx="811440" cy="673200"/>
              <a:chOff x="2212920" y="1728720"/>
              <a:chExt cx="811440" cy="673200"/>
            </a:xfrm>
          </p:grpSpPr>
          <p:sp>
            <p:nvSpPr>
              <p:cNvPr id="359" name="Freeform 20"/>
              <p:cNvSpPr/>
              <p:nvPr/>
            </p:nvSpPr>
            <p:spPr>
              <a:xfrm>
                <a:off x="2212920" y="1728720"/>
                <a:ext cx="809640" cy="67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0" name="Freeform 21"/>
              <p:cNvSpPr/>
              <p:nvPr/>
            </p:nvSpPr>
            <p:spPr>
              <a:xfrm>
                <a:off x="2212920" y="1728720"/>
                <a:ext cx="809640" cy="390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1" name="Freeform 22"/>
              <p:cNvSpPr/>
              <p:nvPr/>
            </p:nvSpPr>
            <p:spPr>
              <a:xfrm>
                <a:off x="2635200" y="1728720"/>
                <a:ext cx="389160" cy="67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23"/>
          <p:cNvGrpSpPr/>
          <p:nvPr/>
        </p:nvGrpSpPr>
        <p:grpSpPr>
          <a:xfrm>
            <a:off x="1219320" y="1576440"/>
            <a:ext cx="974520" cy="441360"/>
            <a:chOff x="1219320" y="1576440"/>
            <a:chExt cx="974520" cy="441360"/>
          </a:xfrm>
        </p:grpSpPr>
        <p:sp>
          <p:nvSpPr>
            <p:cNvPr id="363" name="AutoShape 24"/>
            <p:cNvSpPr/>
            <p:nvPr/>
          </p:nvSpPr>
          <p:spPr>
            <a:xfrm>
              <a:off x="1219320" y="1576440"/>
              <a:ext cx="974520" cy="441360"/>
            </a:xfrm>
            <a:prstGeom prst="roundRect">
              <a:avLst>
                <a:gd name="adj" fmla="val 35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4" name="Text Box 25"/>
            <p:cNvSpPr/>
            <p:nvPr/>
          </p:nvSpPr>
          <p:spPr>
            <a:xfrm>
              <a:off x="1219320" y="1576440"/>
              <a:ext cx="9745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ilet or Galley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65" name="Group 26"/>
          <p:cNvGrpSpPr/>
          <p:nvPr/>
        </p:nvGrpSpPr>
        <p:grpSpPr>
          <a:xfrm>
            <a:off x="380880" y="2262240"/>
            <a:ext cx="811440" cy="673200"/>
            <a:chOff x="380880" y="2262240"/>
            <a:chExt cx="811440" cy="673200"/>
          </a:xfrm>
        </p:grpSpPr>
        <p:grpSp>
          <p:nvGrpSpPr>
            <p:cNvPr id="366" name="Group 27"/>
            <p:cNvGrpSpPr/>
            <p:nvPr/>
          </p:nvGrpSpPr>
          <p:grpSpPr>
            <a:xfrm>
              <a:off x="457200" y="2338560"/>
              <a:ext cx="563400" cy="517320"/>
              <a:chOff x="457200" y="2338560"/>
              <a:chExt cx="563400" cy="517320"/>
            </a:xfrm>
          </p:grpSpPr>
          <p:sp>
            <p:nvSpPr>
              <p:cNvPr id="367" name="Freeform 28"/>
              <p:cNvSpPr/>
              <p:nvPr/>
            </p:nvSpPr>
            <p:spPr>
              <a:xfrm>
                <a:off x="457200" y="2338560"/>
                <a:ext cx="560520" cy="5173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>
                <a:off x="457200" y="2338560"/>
                <a:ext cx="560520" cy="361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>
                <a:off x="654120" y="2338560"/>
                <a:ext cx="366480" cy="51732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31"/>
            <p:cNvGrpSpPr/>
            <p:nvPr/>
          </p:nvGrpSpPr>
          <p:grpSpPr>
            <a:xfrm>
              <a:off x="762120" y="2414520"/>
              <a:ext cx="288360" cy="363600"/>
              <a:chOff x="762120" y="2414520"/>
              <a:chExt cx="288360" cy="363600"/>
            </a:xfrm>
          </p:grpSpPr>
          <p:grpSp>
            <p:nvGrpSpPr>
              <p:cNvPr id="371" name="Group 32"/>
              <p:cNvGrpSpPr/>
              <p:nvPr/>
            </p:nvGrpSpPr>
            <p:grpSpPr>
              <a:xfrm>
                <a:off x="762120" y="2567160"/>
                <a:ext cx="288360" cy="210960"/>
                <a:chOff x="762120" y="2567160"/>
                <a:chExt cx="288360" cy="210960"/>
              </a:xfrm>
            </p:grpSpPr>
            <p:sp>
              <p:nvSpPr>
                <p:cNvPr id="372" name="Freeform 33"/>
                <p:cNvSpPr/>
                <p:nvPr/>
              </p:nvSpPr>
              <p:spPr>
                <a:xfrm>
                  <a:off x="762120" y="2567160"/>
                  <a:ext cx="282240" cy="2109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4"/>
                <p:cNvSpPr/>
                <p:nvPr/>
              </p:nvSpPr>
              <p:spPr>
                <a:xfrm>
                  <a:off x="762120" y="2567160"/>
                  <a:ext cx="282240" cy="110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5"/>
                <p:cNvSpPr/>
                <p:nvPr/>
              </p:nvSpPr>
              <p:spPr>
                <a:xfrm>
                  <a:off x="936720" y="2567160"/>
                  <a:ext cx="113760" cy="210960"/>
                </a:xfrm>
                <a:prstGeom prst="pie">
                  <a:avLst/>
                </a:prstGeom>
                <a:solidFill>
                  <a:srgbClr val="db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36"/>
              <p:cNvGrpSpPr/>
              <p:nvPr/>
            </p:nvGrpSpPr>
            <p:grpSpPr>
              <a:xfrm>
                <a:off x="876240" y="2414520"/>
                <a:ext cx="135000" cy="173160"/>
                <a:chOff x="876240" y="2414520"/>
                <a:chExt cx="135000" cy="173160"/>
              </a:xfrm>
            </p:grpSpPr>
            <p:sp>
              <p:nvSpPr>
                <p:cNvPr id="376" name="Freeform 37"/>
                <p:cNvSpPr/>
                <p:nvPr/>
              </p:nvSpPr>
              <p:spPr>
                <a:xfrm>
                  <a:off x="876240" y="241452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8"/>
                <p:cNvSpPr/>
                <p:nvPr/>
              </p:nvSpPr>
              <p:spPr>
                <a:xfrm>
                  <a:off x="876240" y="241452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39"/>
              <p:cNvGrpSpPr/>
              <p:nvPr/>
            </p:nvGrpSpPr>
            <p:grpSpPr>
              <a:xfrm>
                <a:off x="800280" y="2490840"/>
                <a:ext cx="134640" cy="173160"/>
                <a:chOff x="800280" y="2490840"/>
                <a:chExt cx="134640" cy="173160"/>
              </a:xfrm>
            </p:grpSpPr>
            <p:sp>
              <p:nvSpPr>
                <p:cNvPr id="379" name="Freeform 40"/>
                <p:cNvSpPr/>
                <p:nvPr/>
              </p:nvSpPr>
              <p:spPr>
                <a:xfrm>
                  <a:off x="800280" y="2490840"/>
                  <a:ext cx="13464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1"/>
                <p:cNvSpPr/>
                <p:nvPr/>
              </p:nvSpPr>
              <p:spPr>
                <a:xfrm>
                  <a:off x="800280" y="2490840"/>
                  <a:ext cx="13464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Group 42"/>
            <p:cNvGrpSpPr/>
            <p:nvPr/>
          </p:nvGrpSpPr>
          <p:grpSpPr>
            <a:xfrm>
              <a:off x="380880" y="2262240"/>
              <a:ext cx="811440" cy="673200"/>
              <a:chOff x="380880" y="2262240"/>
              <a:chExt cx="811440" cy="673200"/>
            </a:xfrm>
          </p:grpSpPr>
          <p:sp>
            <p:nvSpPr>
              <p:cNvPr id="382" name="Freeform 43"/>
              <p:cNvSpPr/>
              <p:nvPr/>
            </p:nvSpPr>
            <p:spPr>
              <a:xfrm>
                <a:off x="380880" y="2262240"/>
                <a:ext cx="806400" cy="67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3" name="Freeform 44"/>
              <p:cNvSpPr/>
              <p:nvPr/>
            </p:nvSpPr>
            <p:spPr>
              <a:xfrm>
                <a:off x="380880" y="2262240"/>
                <a:ext cx="806400" cy="388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4" name="Freeform 45"/>
              <p:cNvSpPr/>
              <p:nvPr/>
            </p:nvSpPr>
            <p:spPr>
              <a:xfrm>
                <a:off x="803160" y="2262240"/>
                <a:ext cx="389160" cy="67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Line 46"/>
          <p:cNvSpPr/>
          <p:nvPr/>
        </p:nvSpPr>
        <p:spPr>
          <a:xfrm flipV="1">
            <a:off x="5873760" y="1944360"/>
            <a:ext cx="137304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Freeform 47"/>
          <p:cNvSpPr/>
          <p:nvPr/>
        </p:nvSpPr>
        <p:spPr>
          <a:xfrm>
            <a:off x="3900600" y="1682640"/>
            <a:ext cx="2638440" cy="1925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87" name="Group 48"/>
          <p:cNvGrpSpPr/>
          <p:nvPr/>
        </p:nvGrpSpPr>
        <p:grpSpPr>
          <a:xfrm>
            <a:off x="7246800" y="1728720"/>
            <a:ext cx="1270080" cy="311040"/>
            <a:chOff x="7246800" y="1728720"/>
            <a:chExt cx="1270080" cy="311040"/>
          </a:xfrm>
        </p:grpSpPr>
        <p:sp>
          <p:nvSpPr>
            <p:cNvPr id="388" name="AutoShape 49"/>
            <p:cNvSpPr/>
            <p:nvPr/>
          </p:nvSpPr>
          <p:spPr>
            <a:xfrm>
              <a:off x="7246800" y="1728720"/>
              <a:ext cx="1270080" cy="311040"/>
            </a:xfrm>
            <a:prstGeom prst="roundRect">
              <a:avLst>
                <a:gd name="adj" fmla="val 50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Text Box 50"/>
            <p:cNvSpPr/>
            <p:nvPr/>
          </p:nvSpPr>
          <p:spPr>
            <a:xfrm>
              <a:off x="7246800" y="1728720"/>
              <a:ext cx="127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ing fuel tank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90" name="Group 51"/>
          <p:cNvGrpSpPr/>
          <p:nvPr/>
        </p:nvGrpSpPr>
        <p:grpSpPr>
          <a:xfrm>
            <a:off x="1449360" y="2544480"/>
            <a:ext cx="6882480" cy="972000"/>
            <a:chOff x="1449360" y="2544480"/>
            <a:chExt cx="6882480" cy="972000"/>
          </a:xfrm>
        </p:grpSpPr>
        <p:grpSp>
          <p:nvGrpSpPr>
            <p:cNvPr id="391" name="Group 52"/>
            <p:cNvGrpSpPr/>
            <p:nvPr/>
          </p:nvGrpSpPr>
          <p:grpSpPr>
            <a:xfrm>
              <a:off x="1449360" y="2544840"/>
              <a:ext cx="5763960" cy="944640"/>
              <a:chOff x="1449360" y="2544840"/>
              <a:chExt cx="5763960" cy="944640"/>
            </a:xfrm>
          </p:grpSpPr>
          <p:grpSp>
            <p:nvGrpSpPr>
              <p:cNvPr id="392" name="Group 53"/>
              <p:cNvGrpSpPr/>
              <p:nvPr/>
            </p:nvGrpSpPr>
            <p:grpSpPr>
              <a:xfrm>
                <a:off x="2422080" y="2544840"/>
                <a:ext cx="4791240" cy="938160"/>
                <a:chOff x="2422080" y="2544840"/>
                <a:chExt cx="4791240" cy="938160"/>
              </a:xfrm>
            </p:grpSpPr>
            <p:sp>
              <p:nvSpPr>
                <p:cNvPr id="393" name="Freeform 54"/>
                <p:cNvSpPr/>
                <p:nvPr/>
              </p:nvSpPr>
              <p:spPr>
                <a:xfrm>
                  <a:off x="2422080" y="2544840"/>
                  <a:ext cx="4791240" cy="938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5"/>
                <p:cNvSpPr/>
                <p:nvPr/>
              </p:nvSpPr>
              <p:spPr>
                <a:xfrm>
                  <a:off x="7022880" y="2544840"/>
                  <a:ext cx="177480" cy="938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56"/>
              <p:cNvGrpSpPr/>
              <p:nvPr/>
            </p:nvGrpSpPr>
            <p:grpSpPr>
              <a:xfrm>
                <a:off x="2763360" y="2986200"/>
                <a:ext cx="1415520" cy="384120"/>
                <a:chOff x="2763360" y="2986200"/>
                <a:chExt cx="1415520" cy="384120"/>
              </a:xfrm>
            </p:grpSpPr>
            <p:sp>
              <p:nvSpPr>
                <p:cNvPr id="396" name="Freeform 57"/>
                <p:cNvSpPr/>
                <p:nvPr/>
              </p:nvSpPr>
              <p:spPr>
                <a:xfrm>
                  <a:off x="2763360" y="2986200"/>
                  <a:ext cx="1415520" cy="384120"/>
                </a:xfrm>
                <a:prstGeom prst="pi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58"/>
                <p:cNvSpPr/>
                <p:nvPr/>
              </p:nvSpPr>
              <p:spPr>
                <a:xfrm>
                  <a:off x="2763360" y="2986200"/>
                  <a:ext cx="1415520" cy="163440"/>
                </a:xfrm>
                <a:prstGeom prst="pie">
                  <a:avLst/>
                </a:prstGeom>
                <a:solidFill>
                  <a:srgbClr val="d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59"/>
                <p:cNvSpPr/>
                <p:nvPr/>
              </p:nvSpPr>
              <p:spPr>
                <a:xfrm>
                  <a:off x="4007520" y="2986200"/>
                  <a:ext cx="168120" cy="384120"/>
                </a:xfrm>
                <a:prstGeom prst="pie">
                  <a:avLst/>
                </a:prstGeom>
                <a:solidFill>
                  <a:srgbClr val="af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60"/>
              <p:cNvSpPr/>
              <p:nvPr/>
            </p:nvSpPr>
            <p:spPr>
              <a:xfrm>
                <a:off x="1449360" y="2544840"/>
                <a:ext cx="1085400" cy="9446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534760" y="2585880"/>
                <a:ext cx="269640" cy="424080"/>
                <a:chOff x="2534760" y="2585880"/>
                <a:chExt cx="269640" cy="424080"/>
              </a:xfrm>
            </p:grpSpPr>
            <p:sp>
              <p:nvSpPr>
                <p:cNvPr id="401" name="Freeform 62"/>
                <p:cNvSpPr/>
                <p:nvPr/>
              </p:nvSpPr>
              <p:spPr>
                <a:xfrm>
                  <a:off x="2534760" y="2585880"/>
                  <a:ext cx="269640" cy="424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63"/>
                <p:cNvSpPr/>
                <p:nvPr/>
              </p:nvSpPr>
              <p:spPr>
                <a:xfrm>
                  <a:off x="2534760" y="2585880"/>
                  <a:ext cx="269640" cy="233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64"/>
                <p:cNvSpPr/>
                <p:nvPr/>
              </p:nvSpPr>
              <p:spPr>
                <a:xfrm>
                  <a:off x="2569320" y="2585880"/>
                  <a:ext cx="226800" cy="424080"/>
                </a:xfrm>
                <a:prstGeom prst="pie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65"/>
              <p:cNvGrpSpPr/>
              <p:nvPr/>
            </p:nvGrpSpPr>
            <p:grpSpPr>
              <a:xfrm>
                <a:off x="4134600" y="2982960"/>
                <a:ext cx="842040" cy="385560"/>
                <a:chOff x="4134600" y="2982960"/>
                <a:chExt cx="842040" cy="385560"/>
              </a:xfrm>
            </p:grpSpPr>
            <p:sp>
              <p:nvSpPr>
                <p:cNvPr id="405" name="Freeform 66"/>
                <p:cNvSpPr/>
                <p:nvPr/>
              </p:nvSpPr>
              <p:spPr>
                <a:xfrm>
                  <a:off x="4134600" y="2982960"/>
                  <a:ext cx="842040" cy="3855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67"/>
                <p:cNvSpPr/>
                <p:nvPr/>
              </p:nvSpPr>
              <p:spPr>
                <a:xfrm>
                  <a:off x="4134600" y="2982960"/>
                  <a:ext cx="842040" cy="166680"/>
                </a:xfrm>
                <a:prstGeom prst="pie">
                  <a:avLst/>
                </a:prstGeom>
                <a:solidFill>
                  <a:srgbClr val="8c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8"/>
                <p:cNvSpPr/>
                <p:nvPr/>
              </p:nvSpPr>
              <p:spPr>
                <a:xfrm>
                  <a:off x="4809960" y="2982960"/>
                  <a:ext cx="166680" cy="385560"/>
                </a:xfrm>
                <a:prstGeom prst="pie">
                  <a:avLst/>
                </a:prstGeom>
                <a:solidFill>
                  <a:srgbClr val="6e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69"/>
              <p:cNvGrpSpPr/>
              <p:nvPr/>
            </p:nvGrpSpPr>
            <p:grpSpPr>
              <a:xfrm>
                <a:off x="4947120" y="2986200"/>
                <a:ext cx="1585080" cy="384120"/>
                <a:chOff x="4947120" y="2986200"/>
                <a:chExt cx="1585080" cy="384120"/>
              </a:xfrm>
            </p:grpSpPr>
            <p:sp>
              <p:nvSpPr>
                <p:cNvPr id="409" name="Freeform 70"/>
                <p:cNvSpPr/>
                <p:nvPr/>
              </p:nvSpPr>
              <p:spPr>
                <a:xfrm>
                  <a:off x="4947120" y="2986200"/>
                  <a:ext cx="1585080" cy="384120"/>
                </a:xfrm>
                <a:prstGeom prst="pi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71"/>
                <p:cNvSpPr/>
                <p:nvPr/>
              </p:nvSpPr>
              <p:spPr>
                <a:xfrm>
                  <a:off x="4947120" y="2986200"/>
                  <a:ext cx="1585080" cy="163440"/>
                </a:xfrm>
                <a:prstGeom prst="pie">
                  <a:avLst/>
                </a:prstGeom>
                <a:solidFill>
                  <a:srgbClr val="d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72"/>
                <p:cNvSpPr/>
                <p:nvPr/>
              </p:nvSpPr>
              <p:spPr>
                <a:xfrm>
                  <a:off x="6362280" y="2986200"/>
                  <a:ext cx="168120" cy="384120"/>
                </a:xfrm>
                <a:prstGeom prst="pie">
                  <a:avLst/>
                </a:prstGeom>
                <a:solidFill>
                  <a:srgbClr val="af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73"/>
              <p:cNvGrpSpPr/>
              <p:nvPr/>
            </p:nvGrpSpPr>
            <p:grpSpPr>
              <a:xfrm>
                <a:off x="2650680" y="2944800"/>
                <a:ext cx="4275720" cy="465120"/>
                <a:chOff x="2650680" y="2944800"/>
                <a:chExt cx="4275720" cy="465120"/>
              </a:xfrm>
            </p:grpSpPr>
            <p:sp>
              <p:nvSpPr>
                <p:cNvPr id="413" name="Freeform 74"/>
                <p:cNvSpPr/>
                <p:nvPr/>
              </p:nvSpPr>
              <p:spPr>
                <a:xfrm>
                  <a:off x="2650680" y="2944800"/>
                  <a:ext cx="4275720" cy="465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75"/>
                <p:cNvSpPr/>
                <p:nvPr/>
              </p:nvSpPr>
              <p:spPr>
                <a:xfrm>
                  <a:off x="2650680" y="2944800"/>
                  <a:ext cx="4275720" cy="117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76"/>
                <p:cNvSpPr/>
                <p:nvPr/>
              </p:nvSpPr>
              <p:spPr>
                <a:xfrm>
                  <a:off x="6797520" y="2944800"/>
                  <a:ext cx="115560" cy="465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Freeform 77"/>
              <p:cNvSpPr/>
              <p:nvPr/>
            </p:nvSpPr>
            <p:spPr>
              <a:xfrm>
                <a:off x="2022120" y="2746440"/>
                <a:ext cx="567720" cy="276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417" name="Group 78"/>
              <p:cNvGrpSpPr/>
              <p:nvPr/>
            </p:nvGrpSpPr>
            <p:grpSpPr>
              <a:xfrm>
                <a:off x="2650680" y="2585880"/>
                <a:ext cx="4275000" cy="424080"/>
                <a:chOff x="2650680" y="2585880"/>
                <a:chExt cx="4275000" cy="424080"/>
              </a:xfrm>
            </p:grpSpPr>
            <p:grpSp>
              <p:nvGrpSpPr>
                <p:cNvPr id="418" name="Group 79"/>
                <p:cNvGrpSpPr/>
                <p:nvPr/>
              </p:nvGrpSpPr>
              <p:grpSpPr>
                <a:xfrm>
                  <a:off x="2650680" y="2585880"/>
                  <a:ext cx="326520" cy="424080"/>
                  <a:chOff x="2650680" y="2585880"/>
                  <a:chExt cx="326520" cy="424080"/>
                </a:xfrm>
              </p:grpSpPr>
              <p:sp>
                <p:nvSpPr>
                  <p:cNvPr id="419" name="Freeform 80"/>
                  <p:cNvSpPr/>
                  <p:nvPr/>
                </p:nvSpPr>
                <p:spPr>
                  <a:xfrm>
                    <a:off x="2650680" y="2585880"/>
                    <a:ext cx="32652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81"/>
                  <p:cNvSpPr/>
                  <p:nvPr/>
                </p:nvSpPr>
                <p:spPr>
                  <a:xfrm>
                    <a:off x="2650680" y="2585880"/>
                    <a:ext cx="32652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Freeform 82"/>
                  <p:cNvSpPr/>
                  <p:nvPr/>
                </p:nvSpPr>
                <p:spPr>
                  <a:xfrm>
                    <a:off x="2774160" y="2585880"/>
                    <a:ext cx="20124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3"/>
                <p:cNvGrpSpPr/>
                <p:nvPr/>
              </p:nvGrpSpPr>
              <p:grpSpPr>
                <a:xfrm>
                  <a:off x="2821680" y="2585880"/>
                  <a:ext cx="329760" cy="424080"/>
                  <a:chOff x="2821680" y="2585880"/>
                  <a:chExt cx="329760" cy="424080"/>
                </a:xfrm>
              </p:grpSpPr>
              <p:sp>
                <p:nvSpPr>
                  <p:cNvPr id="423" name="Freeform 84"/>
                  <p:cNvSpPr/>
                  <p:nvPr/>
                </p:nvSpPr>
                <p:spPr>
                  <a:xfrm>
                    <a:off x="2821680" y="2585880"/>
                    <a:ext cx="32976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85"/>
                  <p:cNvSpPr/>
                  <p:nvPr/>
                </p:nvSpPr>
                <p:spPr>
                  <a:xfrm>
                    <a:off x="2821680" y="2585880"/>
                    <a:ext cx="32976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86"/>
                  <p:cNvSpPr/>
                  <p:nvPr/>
                </p:nvSpPr>
                <p:spPr>
                  <a:xfrm>
                    <a:off x="2945160" y="2585880"/>
                    <a:ext cx="20592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7"/>
                <p:cNvGrpSpPr/>
                <p:nvPr/>
              </p:nvGrpSpPr>
              <p:grpSpPr>
                <a:xfrm>
                  <a:off x="2991600" y="2585880"/>
                  <a:ext cx="334440" cy="424080"/>
                  <a:chOff x="2991600" y="2585880"/>
                  <a:chExt cx="334440" cy="424080"/>
                </a:xfrm>
              </p:grpSpPr>
              <p:sp>
                <p:nvSpPr>
                  <p:cNvPr id="427" name="Freeform 88"/>
                  <p:cNvSpPr/>
                  <p:nvPr/>
                </p:nvSpPr>
                <p:spPr>
                  <a:xfrm>
                    <a:off x="2991600" y="2585880"/>
                    <a:ext cx="334440" cy="4240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89"/>
                  <p:cNvSpPr/>
                  <p:nvPr/>
                </p:nvSpPr>
                <p:spPr>
                  <a:xfrm>
                    <a:off x="2991600" y="2585880"/>
                    <a:ext cx="334440" cy="142920"/>
                  </a:xfrm>
                  <a:prstGeom prst="pie">
                    <a:avLst/>
                  </a:prstGeom>
                  <a:solidFill>
                    <a:srgbClr val="ffdfa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90"/>
                  <p:cNvSpPr/>
                  <p:nvPr/>
                </p:nvSpPr>
                <p:spPr>
                  <a:xfrm>
                    <a:off x="3119760" y="2585880"/>
                    <a:ext cx="205920" cy="424080"/>
                  </a:xfrm>
                  <a:prstGeom prst="pie">
                    <a:avLst/>
                  </a:prstGeom>
                  <a:solidFill>
                    <a:srgbClr val="dbaf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91"/>
                <p:cNvGrpSpPr/>
                <p:nvPr/>
              </p:nvGrpSpPr>
              <p:grpSpPr>
                <a:xfrm>
                  <a:off x="3166200" y="2585880"/>
                  <a:ext cx="326520" cy="424080"/>
                  <a:chOff x="3166200" y="2585880"/>
                  <a:chExt cx="326520" cy="424080"/>
                </a:xfrm>
              </p:grpSpPr>
              <p:sp>
                <p:nvSpPr>
                  <p:cNvPr id="431" name="Freeform 92"/>
                  <p:cNvSpPr/>
                  <p:nvPr/>
                </p:nvSpPr>
                <p:spPr>
                  <a:xfrm>
                    <a:off x="3166200" y="2585880"/>
                    <a:ext cx="32652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93"/>
                  <p:cNvSpPr/>
                  <p:nvPr/>
                </p:nvSpPr>
                <p:spPr>
                  <a:xfrm>
                    <a:off x="3166200" y="2585880"/>
                    <a:ext cx="32652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94"/>
                  <p:cNvSpPr/>
                  <p:nvPr/>
                </p:nvSpPr>
                <p:spPr>
                  <a:xfrm>
                    <a:off x="3289680" y="2585880"/>
                    <a:ext cx="20124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95"/>
                <p:cNvGrpSpPr/>
                <p:nvPr/>
              </p:nvGrpSpPr>
              <p:grpSpPr>
                <a:xfrm>
                  <a:off x="3336120" y="2585880"/>
                  <a:ext cx="326520" cy="424080"/>
                  <a:chOff x="3336120" y="2585880"/>
                  <a:chExt cx="326520" cy="424080"/>
                </a:xfrm>
              </p:grpSpPr>
              <p:sp>
                <p:nvSpPr>
                  <p:cNvPr id="435" name="Freeform 96"/>
                  <p:cNvSpPr/>
                  <p:nvPr/>
                </p:nvSpPr>
                <p:spPr>
                  <a:xfrm>
                    <a:off x="3336120" y="2585880"/>
                    <a:ext cx="32652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97"/>
                  <p:cNvSpPr/>
                  <p:nvPr/>
                </p:nvSpPr>
                <p:spPr>
                  <a:xfrm>
                    <a:off x="3336120" y="2585880"/>
                    <a:ext cx="32652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98"/>
                  <p:cNvSpPr/>
                  <p:nvPr/>
                </p:nvSpPr>
                <p:spPr>
                  <a:xfrm>
                    <a:off x="3461040" y="2585880"/>
                    <a:ext cx="20124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99"/>
                <p:cNvGrpSpPr/>
                <p:nvPr/>
              </p:nvGrpSpPr>
              <p:grpSpPr>
                <a:xfrm>
                  <a:off x="3507480" y="2585880"/>
                  <a:ext cx="326520" cy="424080"/>
                  <a:chOff x="3507480" y="2585880"/>
                  <a:chExt cx="326520" cy="424080"/>
                </a:xfrm>
              </p:grpSpPr>
              <p:sp>
                <p:nvSpPr>
                  <p:cNvPr id="439" name="Freeform 100"/>
                  <p:cNvSpPr/>
                  <p:nvPr/>
                </p:nvSpPr>
                <p:spPr>
                  <a:xfrm>
                    <a:off x="3507480" y="2585880"/>
                    <a:ext cx="32652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101"/>
                  <p:cNvSpPr/>
                  <p:nvPr/>
                </p:nvSpPr>
                <p:spPr>
                  <a:xfrm>
                    <a:off x="3507480" y="2585880"/>
                    <a:ext cx="32652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02"/>
                  <p:cNvSpPr/>
                  <p:nvPr/>
                </p:nvSpPr>
                <p:spPr>
                  <a:xfrm>
                    <a:off x="3632400" y="2585880"/>
                    <a:ext cx="20124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3"/>
                <p:cNvGrpSpPr/>
                <p:nvPr/>
              </p:nvGrpSpPr>
              <p:grpSpPr>
                <a:xfrm>
                  <a:off x="3682080" y="2585880"/>
                  <a:ext cx="329760" cy="424080"/>
                  <a:chOff x="3682080" y="2585880"/>
                  <a:chExt cx="329760" cy="424080"/>
                </a:xfrm>
              </p:grpSpPr>
              <p:sp>
                <p:nvSpPr>
                  <p:cNvPr id="443" name="Freeform 104"/>
                  <p:cNvSpPr/>
                  <p:nvPr/>
                </p:nvSpPr>
                <p:spPr>
                  <a:xfrm>
                    <a:off x="3682080" y="2585880"/>
                    <a:ext cx="329760" cy="424080"/>
                  </a:xfrm>
                  <a:prstGeom prst="pie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105"/>
                  <p:cNvSpPr/>
                  <p:nvPr/>
                </p:nvSpPr>
                <p:spPr>
                  <a:xfrm>
                    <a:off x="3682080" y="2585880"/>
                    <a:ext cx="329760" cy="142920"/>
                  </a:xfrm>
                  <a:prstGeom prst="pie">
                    <a:avLst/>
                  </a:prstGeom>
                  <a:solidFill>
                    <a:srgbClr val="dfffd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Freeform 106"/>
                  <p:cNvSpPr/>
                  <p:nvPr/>
                </p:nvSpPr>
                <p:spPr>
                  <a:xfrm>
                    <a:off x="3805560" y="2585880"/>
                    <a:ext cx="199800" cy="424080"/>
                  </a:xfrm>
                  <a:prstGeom prst="pie">
                    <a:avLst/>
                  </a:prstGeom>
                  <a:solidFill>
                    <a:srgbClr val="afdba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7"/>
                <p:cNvGrpSpPr/>
                <p:nvPr/>
              </p:nvGrpSpPr>
              <p:grpSpPr>
                <a:xfrm>
                  <a:off x="3852000" y="2585880"/>
                  <a:ext cx="329760" cy="424080"/>
                  <a:chOff x="3852000" y="2585880"/>
                  <a:chExt cx="329760" cy="424080"/>
                </a:xfrm>
              </p:grpSpPr>
              <p:sp>
                <p:nvSpPr>
                  <p:cNvPr id="447" name="Freeform 108"/>
                  <p:cNvSpPr/>
                  <p:nvPr/>
                </p:nvSpPr>
                <p:spPr>
                  <a:xfrm>
                    <a:off x="3852000" y="2585880"/>
                    <a:ext cx="329760" cy="4240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109"/>
                  <p:cNvSpPr/>
                  <p:nvPr/>
                </p:nvSpPr>
                <p:spPr>
                  <a:xfrm>
                    <a:off x="3852000" y="2585880"/>
                    <a:ext cx="329760" cy="142920"/>
                  </a:xfrm>
                  <a:prstGeom prst="pie">
                    <a:avLst/>
                  </a:prstGeom>
                  <a:solidFill>
                    <a:srgbClr val="ffdfa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110"/>
                  <p:cNvSpPr/>
                  <p:nvPr/>
                </p:nvSpPr>
                <p:spPr>
                  <a:xfrm>
                    <a:off x="3980160" y="2585880"/>
                    <a:ext cx="199800" cy="424080"/>
                  </a:xfrm>
                  <a:prstGeom prst="pie">
                    <a:avLst/>
                  </a:prstGeom>
                  <a:solidFill>
                    <a:srgbClr val="dbaf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111"/>
                <p:cNvGrpSpPr/>
                <p:nvPr/>
              </p:nvGrpSpPr>
              <p:grpSpPr>
                <a:xfrm>
                  <a:off x="4026600" y="2585880"/>
                  <a:ext cx="326520" cy="424080"/>
                  <a:chOff x="4026600" y="2585880"/>
                  <a:chExt cx="326520" cy="424080"/>
                </a:xfrm>
              </p:grpSpPr>
              <p:sp>
                <p:nvSpPr>
                  <p:cNvPr id="451" name="Freeform 112"/>
                  <p:cNvSpPr/>
                  <p:nvPr/>
                </p:nvSpPr>
                <p:spPr>
                  <a:xfrm>
                    <a:off x="4026600" y="2585880"/>
                    <a:ext cx="32652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113"/>
                  <p:cNvSpPr/>
                  <p:nvPr/>
                </p:nvSpPr>
                <p:spPr>
                  <a:xfrm>
                    <a:off x="4026600" y="2585880"/>
                    <a:ext cx="3265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114"/>
                  <p:cNvSpPr/>
                  <p:nvPr/>
                </p:nvSpPr>
                <p:spPr>
                  <a:xfrm>
                    <a:off x="4148640" y="2585880"/>
                    <a:ext cx="1980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115"/>
                <p:cNvGrpSpPr/>
                <p:nvPr/>
              </p:nvGrpSpPr>
              <p:grpSpPr>
                <a:xfrm>
                  <a:off x="4196160" y="2585880"/>
                  <a:ext cx="326520" cy="424080"/>
                  <a:chOff x="4196160" y="2585880"/>
                  <a:chExt cx="326520" cy="424080"/>
                </a:xfrm>
              </p:grpSpPr>
              <p:sp>
                <p:nvSpPr>
                  <p:cNvPr id="455" name="Freeform 116"/>
                  <p:cNvSpPr/>
                  <p:nvPr/>
                </p:nvSpPr>
                <p:spPr>
                  <a:xfrm>
                    <a:off x="4196160" y="2585880"/>
                    <a:ext cx="32652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17"/>
                  <p:cNvSpPr/>
                  <p:nvPr/>
                </p:nvSpPr>
                <p:spPr>
                  <a:xfrm>
                    <a:off x="4196160" y="2585880"/>
                    <a:ext cx="3265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118"/>
                  <p:cNvSpPr/>
                  <p:nvPr/>
                </p:nvSpPr>
                <p:spPr>
                  <a:xfrm>
                    <a:off x="4319640" y="2585880"/>
                    <a:ext cx="1994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119"/>
                <p:cNvGrpSpPr/>
                <p:nvPr/>
              </p:nvGrpSpPr>
              <p:grpSpPr>
                <a:xfrm>
                  <a:off x="4366080" y="2585880"/>
                  <a:ext cx="326520" cy="424080"/>
                  <a:chOff x="4366080" y="2585880"/>
                  <a:chExt cx="326520" cy="424080"/>
                </a:xfrm>
              </p:grpSpPr>
              <p:sp>
                <p:nvSpPr>
                  <p:cNvPr id="459" name="Freeform 120"/>
                  <p:cNvSpPr/>
                  <p:nvPr/>
                </p:nvSpPr>
                <p:spPr>
                  <a:xfrm>
                    <a:off x="4366080" y="2585880"/>
                    <a:ext cx="32652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21"/>
                  <p:cNvSpPr/>
                  <p:nvPr/>
                </p:nvSpPr>
                <p:spPr>
                  <a:xfrm>
                    <a:off x="4366080" y="2585880"/>
                    <a:ext cx="3265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122"/>
                  <p:cNvSpPr/>
                  <p:nvPr/>
                </p:nvSpPr>
                <p:spPr>
                  <a:xfrm>
                    <a:off x="4491000" y="2585880"/>
                    <a:ext cx="2012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123"/>
                <p:cNvGrpSpPr/>
                <p:nvPr/>
              </p:nvGrpSpPr>
              <p:grpSpPr>
                <a:xfrm>
                  <a:off x="4537440" y="2585880"/>
                  <a:ext cx="329400" cy="424080"/>
                  <a:chOff x="4537440" y="2585880"/>
                  <a:chExt cx="329400" cy="424080"/>
                </a:xfrm>
              </p:grpSpPr>
              <p:sp>
                <p:nvSpPr>
                  <p:cNvPr id="463" name="Freeform 124"/>
                  <p:cNvSpPr/>
                  <p:nvPr/>
                </p:nvSpPr>
                <p:spPr>
                  <a:xfrm>
                    <a:off x="4537440" y="2585880"/>
                    <a:ext cx="32832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125"/>
                  <p:cNvSpPr/>
                  <p:nvPr/>
                </p:nvSpPr>
                <p:spPr>
                  <a:xfrm>
                    <a:off x="4537440" y="2585880"/>
                    <a:ext cx="3283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126"/>
                  <p:cNvSpPr/>
                  <p:nvPr/>
                </p:nvSpPr>
                <p:spPr>
                  <a:xfrm>
                    <a:off x="4664160" y="2585880"/>
                    <a:ext cx="20268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127"/>
                <p:cNvGrpSpPr/>
                <p:nvPr/>
              </p:nvGrpSpPr>
              <p:grpSpPr>
                <a:xfrm>
                  <a:off x="4708800" y="2585880"/>
                  <a:ext cx="326520" cy="424080"/>
                  <a:chOff x="4708800" y="2585880"/>
                  <a:chExt cx="326520" cy="424080"/>
                </a:xfrm>
              </p:grpSpPr>
              <p:sp>
                <p:nvSpPr>
                  <p:cNvPr id="467" name="Freeform 128"/>
                  <p:cNvSpPr/>
                  <p:nvPr/>
                </p:nvSpPr>
                <p:spPr>
                  <a:xfrm>
                    <a:off x="4708800" y="2585880"/>
                    <a:ext cx="3250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129"/>
                  <p:cNvSpPr/>
                  <p:nvPr/>
                </p:nvSpPr>
                <p:spPr>
                  <a:xfrm>
                    <a:off x="4708800" y="2585880"/>
                    <a:ext cx="3250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130"/>
                  <p:cNvSpPr/>
                  <p:nvPr/>
                </p:nvSpPr>
                <p:spPr>
                  <a:xfrm>
                    <a:off x="4835520" y="2585880"/>
                    <a:ext cx="1998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131"/>
                <p:cNvGrpSpPr/>
                <p:nvPr/>
              </p:nvGrpSpPr>
              <p:grpSpPr>
                <a:xfrm>
                  <a:off x="4880160" y="2585880"/>
                  <a:ext cx="326880" cy="424080"/>
                  <a:chOff x="4880160" y="2585880"/>
                  <a:chExt cx="326880" cy="424080"/>
                </a:xfrm>
              </p:grpSpPr>
              <p:sp>
                <p:nvSpPr>
                  <p:cNvPr id="471" name="Freeform 132"/>
                  <p:cNvSpPr/>
                  <p:nvPr/>
                </p:nvSpPr>
                <p:spPr>
                  <a:xfrm>
                    <a:off x="4880160" y="2585880"/>
                    <a:ext cx="3268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Freeform 133"/>
                  <p:cNvSpPr/>
                  <p:nvPr/>
                </p:nvSpPr>
                <p:spPr>
                  <a:xfrm>
                    <a:off x="4880160" y="2585880"/>
                    <a:ext cx="3268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134"/>
                  <p:cNvSpPr/>
                  <p:nvPr/>
                </p:nvSpPr>
                <p:spPr>
                  <a:xfrm>
                    <a:off x="5008680" y="2585880"/>
                    <a:ext cx="1980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35"/>
                <p:cNvGrpSpPr/>
                <p:nvPr/>
              </p:nvGrpSpPr>
              <p:grpSpPr>
                <a:xfrm>
                  <a:off x="5053320" y="2585880"/>
                  <a:ext cx="326880" cy="424080"/>
                  <a:chOff x="5053320" y="2585880"/>
                  <a:chExt cx="326880" cy="424080"/>
                </a:xfrm>
              </p:grpSpPr>
              <p:sp>
                <p:nvSpPr>
                  <p:cNvPr id="475" name="Freeform 136"/>
                  <p:cNvSpPr/>
                  <p:nvPr/>
                </p:nvSpPr>
                <p:spPr>
                  <a:xfrm>
                    <a:off x="5053320" y="2585880"/>
                    <a:ext cx="3268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37"/>
                  <p:cNvSpPr/>
                  <p:nvPr/>
                </p:nvSpPr>
                <p:spPr>
                  <a:xfrm>
                    <a:off x="5053320" y="2585880"/>
                    <a:ext cx="3268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38"/>
                  <p:cNvSpPr/>
                  <p:nvPr/>
                </p:nvSpPr>
                <p:spPr>
                  <a:xfrm>
                    <a:off x="5178600" y="2585880"/>
                    <a:ext cx="2012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139"/>
                <p:cNvGrpSpPr/>
                <p:nvPr/>
              </p:nvGrpSpPr>
              <p:grpSpPr>
                <a:xfrm>
                  <a:off x="5224680" y="2585880"/>
                  <a:ext cx="326880" cy="424080"/>
                  <a:chOff x="5224680" y="2585880"/>
                  <a:chExt cx="326880" cy="424080"/>
                </a:xfrm>
              </p:grpSpPr>
              <p:sp>
                <p:nvSpPr>
                  <p:cNvPr id="479" name="Freeform 140"/>
                  <p:cNvSpPr/>
                  <p:nvPr/>
                </p:nvSpPr>
                <p:spPr>
                  <a:xfrm>
                    <a:off x="5224680" y="2585880"/>
                    <a:ext cx="326880" cy="4240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141"/>
                  <p:cNvSpPr/>
                  <p:nvPr/>
                </p:nvSpPr>
                <p:spPr>
                  <a:xfrm>
                    <a:off x="5224680" y="2585880"/>
                    <a:ext cx="326880" cy="142920"/>
                  </a:xfrm>
                  <a:prstGeom prst="pie">
                    <a:avLst/>
                  </a:prstGeom>
                  <a:solidFill>
                    <a:srgbClr val="ffdfa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142"/>
                  <p:cNvSpPr/>
                  <p:nvPr/>
                </p:nvSpPr>
                <p:spPr>
                  <a:xfrm>
                    <a:off x="5351400" y="2585880"/>
                    <a:ext cx="199800" cy="424080"/>
                  </a:xfrm>
                  <a:prstGeom prst="pie">
                    <a:avLst/>
                  </a:prstGeom>
                  <a:solidFill>
                    <a:srgbClr val="dbaf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Group 143"/>
                <p:cNvGrpSpPr/>
                <p:nvPr/>
              </p:nvGrpSpPr>
              <p:grpSpPr>
                <a:xfrm>
                  <a:off x="5396400" y="2585880"/>
                  <a:ext cx="327600" cy="424080"/>
                  <a:chOff x="5396400" y="2585880"/>
                  <a:chExt cx="327600" cy="424080"/>
                </a:xfrm>
              </p:grpSpPr>
              <p:sp>
                <p:nvSpPr>
                  <p:cNvPr id="483" name="Freeform 144"/>
                  <p:cNvSpPr/>
                  <p:nvPr/>
                </p:nvSpPr>
                <p:spPr>
                  <a:xfrm>
                    <a:off x="5396400" y="2585880"/>
                    <a:ext cx="3232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145"/>
                  <p:cNvSpPr/>
                  <p:nvPr/>
                </p:nvSpPr>
                <p:spPr>
                  <a:xfrm>
                    <a:off x="5396400" y="2585880"/>
                    <a:ext cx="3232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46"/>
                  <p:cNvSpPr/>
                  <p:nvPr/>
                </p:nvSpPr>
                <p:spPr>
                  <a:xfrm>
                    <a:off x="5524560" y="2585880"/>
                    <a:ext cx="1994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47"/>
                <p:cNvGrpSpPr/>
                <p:nvPr/>
              </p:nvGrpSpPr>
              <p:grpSpPr>
                <a:xfrm>
                  <a:off x="5568840" y="2585880"/>
                  <a:ext cx="328320" cy="424080"/>
                  <a:chOff x="5568840" y="2585880"/>
                  <a:chExt cx="328320" cy="424080"/>
                </a:xfrm>
              </p:grpSpPr>
              <p:sp>
                <p:nvSpPr>
                  <p:cNvPr id="487" name="Freeform 148"/>
                  <p:cNvSpPr/>
                  <p:nvPr/>
                </p:nvSpPr>
                <p:spPr>
                  <a:xfrm>
                    <a:off x="5568840" y="2585880"/>
                    <a:ext cx="32832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149"/>
                  <p:cNvSpPr/>
                  <p:nvPr/>
                </p:nvSpPr>
                <p:spPr>
                  <a:xfrm>
                    <a:off x="5568840" y="2585880"/>
                    <a:ext cx="3283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150"/>
                  <p:cNvSpPr/>
                  <p:nvPr/>
                </p:nvSpPr>
                <p:spPr>
                  <a:xfrm>
                    <a:off x="5695560" y="2585880"/>
                    <a:ext cx="2012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Group 151"/>
                <p:cNvGrpSpPr/>
                <p:nvPr/>
              </p:nvGrpSpPr>
              <p:grpSpPr>
                <a:xfrm>
                  <a:off x="5740560" y="2585880"/>
                  <a:ext cx="326160" cy="424080"/>
                  <a:chOff x="5740560" y="2585880"/>
                  <a:chExt cx="326160" cy="424080"/>
                </a:xfrm>
              </p:grpSpPr>
              <p:sp>
                <p:nvSpPr>
                  <p:cNvPr id="491" name="Freeform 152"/>
                  <p:cNvSpPr/>
                  <p:nvPr/>
                </p:nvSpPr>
                <p:spPr>
                  <a:xfrm>
                    <a:off x="5740560" y="2585880"/>
                    <a:ext cx="3232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153"/>
                  <p:cNvSpPr/>
                  <p:nvPr/>
                </p:nvSpPr>
                <p:spPr>
                  <a:xfrm>
                    <a:off x="5740560" y="2585880"/>
                    <a:ext cx="3232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54"/>
                  <p:cNvSpPr/>
                  <p:nvPr/>
                </p:nvSpPr>
                <p:spPr>
                  <a:xfrm>
                    <a:off x="5866920" y="2585880"/>
                    <a:ext cx="1998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55"/>
                <p:cNvGrpSpPr/>
                <p:nvPr/>
              </p:nvGrpSpPr>
              <p:grpSpPr>
                <a:xfrm>
                  <a:off x="5911920" y="2585880"/>
                  <a:ext cx="326160" cy="424080"/>
                  <a:chOff x="5911920" y="2585880"/>
                  <a:chExt cx="326160" cy="424080"/>
                </a:xfrm>
              </p:grpSpPr>
              <p:sp>
                <p:nvSpPr>
                  <p:cNvPr id="495" name="Freeform 156"/>
                  <p:cNvSpPr/>
                  <p:nvPr/>
                </p:nvSpPr>
                <p:spPr>
                  <a:xfrm>
                    <a:off x="5911920" y="2585880"/>
                    <a:ext cx="3232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157"/>
                  <p:cNvSpPr/>
                  <p:nvPr/>
                </p:nvSpPr>
                <p:spPr>
                  <a:xfrm>
                    <a:off x="5911920" y="2585880"/>
                    <a:ext cx="3232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158"/>
                  <p:cNvSpPr/>
                  <p:nvPr/>
                </p:nvSpPr>
                <p:spPr>
                  <a:xfrm>
                    <a:off x="6038640" y="2585880"/>
                    <a:ext cx="19944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159"/>
                <p:cNvGrpSpPr/>
                <p:nvPr/>
              </p:nvGrpSpPr>
              <p:grpSpPr>
                <a:xfrm>
                  <a:off x="6083280" y="2585880"/>
                  <a:ext cx="327960" cy="424080"/>
                  <a:chOff x="6083280" y="2585880"/>
                  <a:chExt cx="327960" cy="424080"/>
                </a:xfrm>
              </p:grpSpPr>
              <p:sp>
                <p:nvSpPr>
                  <p:cNvPr id="499" name="Freeform 160"/>
                  <p:cNvSpPr/>
                  <p:nvPr/>
                </p:nvSpPr>
                <p:spPr>
                  <a:xfrm>
                    <a:off x="6083280" y="2585880"/>
                    <a:ext cx="3250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161"/>
                  <p:cNvSpPr/>
                  <p:nvPr/>
                </p:nvSpPr>
                <p:spPr>
                  <a:xfrm>
                    <a:off x="6083280" y="2585880"/>
                    <a:ext cx="3250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162"/>
                  <p:cNvSpPr/>
                  <p:nvPr/>
                </p:nvSpPr>
                <p:spPr>
                  <a:xfrm>
                    <a:off x="6211440" y="2585880"/>
                    <a:ext cx="1998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63"/>
                <p:cNvGrpSpPr/>
                <p:nvPr/>
              </p:nvGrpSpPr>
              <p:grpSpPr>
                <a:xfrm>
                  <a:off x="6254640" y="2585880"/>
                  <a:ext cx="326520" cy="424080"/>
                  <a:chOff x="6254640" y="2585880"/>
                  <a:chExt cx="326520" cy="424080"/>
                </a:xfrm>
              </p:grpSpPr>
              <p:sp>
                <p:nvSpPr>
                  <p:cNvPr id="503" name="Freeform 164"/>
                  <p:cNvSpPr/>
                  <p:nvPr/>
                </p:nvSpPr>
                <p:spPr>
                  <a:xfrm>
                    <a:off x="6254640" y="2585880"/>
                    <a:ext cx="3250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165"/>
                  <p:cNvSpPr/>
                  <p:nvPr/>
                </p:nvSpPr>
                <p:spPr>
                  <a:xfrm>
                    <a:off x="6254640" y="2585880"/>
                    <a:ext cx="3250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166"/>
                  <p:cNvSpPr/>
                  <p:nvPr/>
                </p:nvSpPr>
                <p:spPr>
                  <a:xfrm>
                    <a:off x="6381360" y="2585880"/>
                    <a:ext cx="19980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167"/>
                <p:cNvGrpSpPr/>
                <p:nvPr/>
              </p:nvGrpSpPr>
              <p:grpSpPr>
                <a:xfrm>
                  <a:off x="6426360" y="2585880"/>
                  <a:ext cx="327600" cy="424080"/>
                  <a:chOff x="6426360" y="2585880"/>
                  <a:chExt cx="327600" cy="424080"/>
                </a:xfrm>
              </p:grpSpPr>
              <p:sp>
                <p:nvSpPr>
                  <p:cNvPr id="507" name="Freeform 168"/>
                  <p:cNvSpPr/>
                  <p:nvPr/>
                </p:nvSpPr>
                <p:spPr>
                  <a:xfrm>
                    <a:off x="6426360" y="2585880"/>
                    <a:ext cx="323280" cy="42408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169"/>
                  <p:cNvSpPr/>
                  <p:nvPr/>
                </p:nvSpPr>
                <p:spPr>
                  <a:xfrm>
                    <a:off x="6426360" y="2585880"/>
                    <a:ext cx="32328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170"/>
                  <p:cNvSpPr/>
                  <p:nvPr/>
                </p:nvSpPr>
                <p:spPr>
                  <a:xfrm>
                    <a:off x="6555240" y="2585880"/>
                    <a:ext cx="198720" cy="424080"/>
                  </a:xfrm>
                  <a:prstGeom prst="pie">
                    <a:avLst/>
                  </a:prstGeom>
                  <a:solidFill>
                    <a:srgbClr val="dbdbdb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171"/>
                <p:cNvGrpSpPr/>
                <p:nvPr/>
              </p:nvGrpSpPr>
              <p:grpSpPr>
                <a:xfrm>
                  <a:off x="6599160" y="2585880"/>
                  <a:ext cx="326520" cy="424080"/>
                  <a:chOff x="6599160" y="2585880"/>
                  <a:chExt cx="326520" cy="424080"/>
                </a:xfrm>
              </p:grpSpPr>
              <p:sp>
                <p:nvSpPr>
                  <p:cNvPr id="511" name="Freeform 172"/>
                  <p:cNvSpPr/>
                  <p:nvPr/>
                </p:nvSpPr>
                <p:spPr>
                  <a:xfrm>
                    <a:off x="6599160" y="2585880"/>
                    <a:ext cx="320400" cy="4240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73"/>
                  <p:cNvSpPr/>
                  <p:nvPr/>
                </p:nvSpPr>
                <p:spPr>
                  <a:xfrm>
                    <a:off x="6599160" y="2585880"/>
                    <a:ext cx="320400" cy="142920"/>
                  </a:xfrm>
                  <a:prstGeom prst="pie">
                    <a:avLst/>
                  </a:prstGeom>
                  <a:solidFill>
                    <a:srgbClr val="ffdfa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174"/>
                  <p:cNvSpPr/>
                  <p:nvPr/>
                </p:nvSpPr>
                <p:spPr>
                  <a:xfrm>
                    <a:off x="6727320" y="2585880"/>
                    <a:ext cx="198360" cy="424080"/>
                  </a:xfrm>
                  <a:prstGeom prst="pie">
                    <a:avLst/>
                  </a:prstGeom>
                  <a:solidFill>
                    <a:srgbClr val="dbaf8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4" name="Line 175"/>
              <p:cNvSpPr/>
              <p:nvPr/>
            </p:nvSpPr>
            <p:spPr>
              <a:xfrm flipH="1">
                <a:off x="2005560" y="2705040"/>
                <a:ext cx="252360" cy="1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5" name="Line 176"/>
              <p:cNvSpPr/>
              <p:nvPr/>
            </p:nvSpPr>
            <p:spPr>
              <a:xfrm flipH="1">
                <a:off x="2225160" y="2606760"/>
                <a:ext cx="5457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6" name="Line 177"/>
              <p:cNvSpPr/>
              <p:nvPr/>
            </p:nvSpPr>
            <p:spPr>
              <a:xfrm flipH="1">
                <a:off x="2574360" y="2625840"/>
                <a:ext cx="19656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178"/>
            <p:cNvGrpSpPr/>
            <p:nvPr/>
          </p:nvGrpSpPr>
          <p:grpSpPr>
            <a:xfrm>
              <a:off x="6865920" y="2544480"/>
              <a:ext cx="1465920" cy="972000"/>
              <a:chOff x="6865920" y="2544480"/>
              <a:chExt cx="1465920" cy="972000"/>
            </a:xfrm>
          </p:grpSpPr>
          <p:sp>
            <p:nvSpPr>
              <p:cNvPr id="518" name="Freeform 179"/>
              <p:cNvSpPr/>
              <p:nvPr/>
            </p:nvSpPr>
            <p:spPr>
              <a:xfrm>
                <a:off x="6865920" y="2595600"/>
                <a:ext cx="1455840" cy="4773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9" name="Oval 180"/>
              <p:cNvSpPr/>
              <p:nvPr/>
            </p:nvSpPr>
            <p:spPr>
              <a:xfrm rot="1740000">
                <a:off x="7859520" y="2544480"/>
                <a:ext cx="252360" cy="9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0" name="Line 181"/>
              <p:cNvSpPr/>
              <p:nvPr/>
            </p:nvSpPr>
            <p:spPr>
              <a:xfrm>
                <a:off x="6867360" y="2606760"/>
                <a:ext cx="1800" cy="44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182"/>
          <p:cNvGrpSpPr/>
          <p:nvPr/>
        </p:nvGrpSpPr>
        <p:grpSpPr>
          <a:xfrm>
            <a:off x="3278160" y="5487840"/>
            <a:ext cx="1660680" cy="668520"/>
            <a:chOff x="3278160" y="5487840"/>
            <a:chExt cx="1660680" cy="668520"/>
          </a:xfrm>
        </p:grpSpPr>
        <p:grpSp>
          <p:nvGrpSpPr>
            <p:cNvPr id="522" name="Group 183"/>
            <p:cNvGrpSpPr/>
            <p:nvPr/>
          </p:nvGrpSpPr>
          <p:grpSpPr>
            <a:xfrm>
              <a:off x="3278160" y="5716440"/>
              <a:ext cx="1660680" cy="439920"/>
              <a:chOff x="3278160" y="5716440"/>
              <a:chExt cx="1660680" cy="439920"/>
            </a:xfrm>
          </p:grpSpPr>
          <p:sp>
            <p:nvSpPr>
              <p:cNvPr id="523" name="Freeform 184"/>
              <p:cNvSpPr/>
              <p:nvPr/>
            </p:nvSpPr>
            <p:spPr>
              <a:xfrm>
                <a:off x="3278160" y="5716440"/>
                <a:ext cx="1660680" cy="4399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4" name="Freeform 185"/>
              <p:cNvSpPr/>
              <p:nvPr/>
            </p:nvSpPr>
            <p:spPr>
              <a:xfrm>
                <a:off x="3278160" y="5716440"/>
                <a:ext cx="1660680" cy="374760"/>
              </a:xfrm>
              <a:prstGeom prst="pie">
                <a:avLst/>
              </a:pr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5" name="Freeform 186"/>
              <p:cNvSpPr/>
              <p:nvPr/>
            </p:nvSpPr>
            <p:spPr>
              <a:xfrm>
                <a:off x="4653000" y="5716440"/>
                <a:ext cx="285840" cy="439920"/>
              </a:xfrm>
              <a:prstGeom prst="pie">
                <a:avLst/>
              </a:prstGeom>
              <a:solidFill>
                <a:srgbClr val="6e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87"/>
            <p:cNvGrpSpPr/>
            <p:nvPr/>
          </p:nvGrpSpPr>
          <p:grpSpPr>
            <a:xfrm>
              <a:off x="3278160" y="5640480"/>
              <a:ext cx="1660680" cy="439560"/>
              <a:chOff x="3278160" y="5640480"/>
              <a:chExt cx="1660680" cy="439560"/>
            </a:xfrm>
          </p:grpSpPr>
          <p:sp>
            <p:nvSpPr>
              <p:cNvPr id="527" name="Freeform 188"/>
              <p:cNvSpPr/>
              <p:nvPr/>
            </p:nvSpPr>
            <p:spPr>
              <a:xfrm>
                <a:off x="3278160" y="5640480"/>
                <a:ext cx="1660680" cy="4395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8" name="Freeform 189"/>
              <p:cNvSpPr/>
              <p:nvPr/>
            </p:nvSpPr>
            <p:spPr>
              <a:xfrm>
                <a:off x="3278160" y="5640480"/>
                <a:ext cx="1660680" cy="368280"/>
              </a:xfrm>
              <a:prstGeom prst="pie">
                <a:avLst/>
              </a:pr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9" name="Freeform 190"/>
              <p:cNvSpPr/>
              <p:nvPr/>
            </p:nvSpPr>
            <p:spPr>
              <a:xfrm>
                <a:off x="4653000" y="5640480"/>
                <a:ext cx="285840" cy="439560"/>
              </a:xfrm>
              <a:prstGeom prst="pie">
                <a:avLst/>
              </a:prstGeom>
              <a:solidFill>
                <a:srgbClr val="6e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91"/>
            <p:cNvGrpSpPr/>
            <p:nvPr/>
          </p:nvGrpSpPr>
          <p:grpSpPr>
            <a:xfrm>
              <a:off x="3278160" y="5564160"/>
              <a:ext cx="1660680" cy="439920"/>
              <a:chOff x="3278160" y="5564160"/>
              <a:chExt cx="1660680" cy="439920"/>
            </a:xfrm>
          </p:grpSpPr>
          <p:sp>
            <p:nvSpPr>
              <p:cNvPr id="531" name="Freeform 192"/>
              <p:cNvSpPr/>
              <p:nvPr/>
            </p:nvSpPr>
            <p:spPr>
              <a:xfrm>
                <a:off x="3278160" y="5564160"/>
                <a:ext cx="1660680" cy="4399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2" name="Freeform 193"/>
              <p:cNvSpPr/>
              <p:nvPr/>
            </p:nvSpPr>
            <p:spPr>
              <a:xfrm>
                <a:off x="3278160" y="5564160"/>
                <a:ext cx="1660680" cy="370080"/>
              </a:xfrm>
              <a:prstGeom prst="pie">
                <a:avLst/>
              </a:pr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3" name="Freeform 194"/>
              <p:cNvSpPr/>
              <p:nvPr/>
            </p:nvSpPr>
            <p:spPr>
              <a:xfrm>
                <a:off x="4651560" y="5564160"/>
                <a:ext cx="287280" cy="439920"/>
              </a:xfrm>
              <a:prstGeom prst="pie">
                <a:avLst/>
              </a:prstGeom>
              <a:solidFill>
                <a:srgbClr val="6e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95"/>
            <p:cNvGrpSpPr/>
            <p:nvPr/>
          </p:nvGrpSpPr>
          <p:grpSpPr>
            <a:xfrm>
              <a:off x="3278160" y="5487840"/>
              <a:ext cx="1660680" cy="439920"/>
              <a:chOff x="3278160" y="5487840"/>
              <a:chExt cx="1660680" cy="439920"/>
            </a:xfrm>
          </p:grpSpPr>
          <p:sp>
            <p:nvSpPr>
              <p:cNvPr id="535" name="Freeform 196"/>
              <p:cNvSpPr/>
              <p:nvPr/>
            </p:nvSpPr>
            <p:spPr>
              <a:xfrm>
                <a:off x="3278160" y="5487840"/>
                <a:ext cx="1660680" cy="4399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6" name="Freeform 197"/>
              <p:cNvSpPr/>
              <p:nvPr/>
            </p:nvSpPr>
            <p:spPr>
              <a:xfrm>
                <a:off x="3278160" y="5487840"/>
                <a:ext cx="1660680" cy="374760"/>
              </a:xfrm>
              <a:prstGeom prst="pie">
                <a:avLst/>
              </a:pr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7" name="Freeform 198"/>
              <p:cNvSpPr/>
              <p:nvPr/>
            </p:nvSpPr>
            <p:spPr>
              <a:xfrm>
                <a:off x="4653000" y="5487840"/>
                <a:ext cx="285840" cy="439920"/>
              </a:xfrm>
              <a:prstGeom prst="pie">
                <a:avLst/>
              </a:prstGeom>
              <a:solidFill>
                <a:srgbClr val="6e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199"/>
          <p:cNvGrpSpPr/>
          <p:nvPr/>
        </p:nvGrpSpPr>
        <p:grpSpPr>
          <a:xfrm>
            <a:off x="3276720" y="5181480"/>
            <a:ext cx="1838160" cy="977760"/>
            <a:chOff x="3276720" y="5181480"/>
            <a:chExt cx="1838160" cy="977760"/>
          </a:xfrm>
        </p:grpSpPr>
        <p:sp>
          <p:nvSpPr>
            <p:cNvPr id="539" name="Freeform 200"/>
            <p:cNvSpPr/>
            <p:nvPr/>
          </p:nvSpPr>
          <p:spPr>
            <a:xfrm>
              <a:off x="3276720" y="5429160"/>
              <a:ext cx="1377720" cy="730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0" name="Freeform 201"/>
            <p:cNvSpPr/>
            <p:nvPr/>
          </p:nvSpPr>
          <p:spPr>
            <a:xfrm>
              <a:off x="4655880" y="5181480"/>
              <a:ext cx="458640" cy="974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1" name="Freeform 202"/>
            <p:cNvSpPr/>
            <p:nvPr/>
          </p:nvSpPr>
          <p:spPr>
            <a:xfrm>
              <a:off x="3276720" y="5181480"/>
              <a:ext cx="1838160" cy="24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2" name="Group 203"/>
          <p:cNvGrpSpPr/>
          <p:nvPr/>
        </p:nvGrpSpPr>
        <p:grpSpPr>
          <a:xfrm>
            <a:off x="7238880" y="2133720"/>
            <a:ext cx="1051200" cy="287280"/>
            <a:chOff x="7238880" y="2133720"/>
            <a:chExt cx="1051200" cy="287280"/>
          </a:xfrm>
        </p:grpSpPr>
        <p:grpSp>
          <p:nvGrpSpPr>
            <p:cNvPr id="543" name="Group 204"/>
            <p:cNvGrpSpPr/>
            <p:nvPr/>
          </p:nvGrpSpPr>
          <p:grpSpPr>
            <a:xfrm>
              <a:off x="7315200" y="2210040"/>
              <a:ext cx="897120" cy="135000"/>
              <a:chOff x="7315200" y="2210040"/>
              <a:chExt cx="897120" cy="135000"/>
            </a:xfrm>
          </p:grpSpPr>
          <p:sp>
            <p:nvSpPr>
              <p:cNvPr id="544" name="Freeform 205"/>
              <p:cNvSpPr/>
              <p:nvPr/>
            </p:nvSpPr>
            <p:spPr>
              <a:xfrm>
                <a:off x="7315200" y="2210040"/>
                <a:ext cx="897120" cy="13500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5" name="Freeform 206"/>
              <p:cNvSpPr/>
              <p:nvPr/>
            </p:nvSpPr>
            <p:spPr>
              <a:xfrm>
                <a:off x="7315200" y="2210040"/>
                <a:ext cx="897120" cy="81000"/>
              </a:xfrm>
              <a:prstGeom prst="pie">
                <a:avLst/>
              </a:pr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6" name="Freeform 207"/>
              <p:cNvSpPr/>
              <p:nvPr/>
            </p:nvSpPr>
            <p:spPr>
              <a:xfrm>
                <a:off x="8128080" y="2210040"/>
                <a:ext cx="84240" cy="135000"/>
              </a:xfrm>
              <a:prstGeom prst="pie">
                <a:avLst/>
              </a:prstGeom>
              <a:solidFill>
                <a:srgbClr val="6e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208"/>
            <p:cNvGrpSpPr/>
            <p:nvPr/>
          </p:nvGrpSpPr>
          <p:grpSpPr>
            <a:xfrm>
              <a:off x="7238880" y="2133720"/>
              <a:ext cx="1051200" cy="287280"/>
              <a:chOff x="7238880" y="2133720"/>
              <a:chExt cx="1051200" cy="287280"/>
            </a:xfrm>
          </p:grpSpPr>
          <p:sp>
            <p:nvSpPr>
              <p:cNvPr id="548" name="Freeform 209"/>
              <p:cNvSpPr/>
              <p:nvPr/>
            </p:nvSpPr>
            <p:spPr>
              <a:xfrm>
                <a:off x="7238880" y="2133720"/>
                <a:ext cx="1051200" cy="28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9" name="Freeform 210"/>
              <p:cNvSpPr/>
              <p:nvPr/>
            </p:nvSpPr>
            <p:spPr>
              <a:xfrm>
                <a:off x="7238880" y="2133720"/>
                <a:ext cx="1051200" cy="16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Freeform 211"/>
              <p:cNvSpPr/>
              <p:nvPr/>
            </p:nvSpPr>
            <p:spPr>
              <a:xfrm>
                <a:off x="8116920" y="2133720"/>
                <a:ext cx="173160" cy="28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212"/>
          <p:cNvGrpSpPr/>
          <p:nvPr/>
        </p:nvGrpSpPr>
        <p:grpSpPr>
          <a:xfrm>
            <a:off x="5638680" y="5334120"/>
            <a:ext cx="2423880" cy="973080"/>
            <a:chOff x="5638680" y="5334120"/>
            <a:chExt cx="2423880" cy="973080"/>
          </a:xfrm>
        </p:grpSpPr>
        <p:grpSp>
          <p:nvGrpSpPr>
            <p:cNvPr id="552" name="Group 213"/>
            <p:cNvGrpSpPr/>
            <p:nvPr/>
          </p:nvGrpSpPr>
          <p:grpSpPr>
            <a:xfrm>
              <a:off x="6019560" y="5486400"/>
              <a:ext cx="822240" cy="439920"/>
              <a:chOff x="6019560" y="5486400"/>
              <a:chExt cx="822240" cy="439920"/>
            </a:xfrm>
          </p:grpSpPr>
          <p:sp>
            <p:nvSpPr>
              <p:cNvPr id="553" name="Freeform 214"/>
              <p:cNvSpPr/>
              <p:nvPr/>
            </p:nvSpPr>
            <p:spPr>
              <a:xfrm>
                <a:off x="6019560" y="5486400"/>
                <a:ext cx="822240" cy="439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Freeform 215"/>
              <p:cNvSpPr/>
              <p:nvPr/>
            </p:nvSpPr>
            <p:spPr>
              <a:xfrm>
                <a:off x="6019560" y="5486400"/>
                <a:ext cx="822240" cy="109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Freeform 216"/>
              <p:cNvSpPr/>
              <p:nvPr/>
            </p:nvSpPr>
            <p:spPr>
              <a:xfrm>
                <a:off x="6732360" y="5486400"/>
                <a:ext cx="109440" cy="43992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217"/>
            <p:cNvGrpSpPr/>
            <p:nvPr/>
          </p:nvGrpSpPr>
          <p:grpSpPr>
            <a:xfrm>
              <a:off x="5790960" y="5639040"/>
              <a:ext cx="822240" cy="439560"/>
              <a:chOff x="5790960" y="5639040"/>
              <a:chExt cx="822240" cy="439560"/>
            </a:xfrm>
          </p:grpSpPr>
          <p:sp>
            <p:nvSpPr>
              <p:cNvPr id="557" name="Freeform 218"/>
              <p:cNvSpPr/>
              <p:nvPr/>
            </p:nvSpPr>
            <p:spPr>
              <a:xfrm>
                <a:off x="5790960" y="5639040"/>
                <a:ext cx="822240" cy="4395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Freeform 219"/>
              <p:cNvSpPr/>
              <p:nvPr/>
            </p:nvSpPr>
            <p:spPr>
              <a:xfrm>
                <a:off x="5790960" y="5639040"/>
                <a:ext cx="822240" cy="1094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Freeform 220"/>
              <p:cNvSpPr/>
              <p:nvPr/>
            </p:nvSpPr>
            <p:spPr>
              <a:xfrm>
                <a:off x="6503760" y="5639040"/>
                <a:ext cx="109440" cy="43956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221"/>
            <p:cNvGrpSpPr/>
            <p:nvPr/>
          </p:nvGrpSpPr>
          <p:grpSpPr>
            <a:xfrm>
              <a:off x="6859440" y="5486400"/>
              <a:ext cx="822240" cy="439920"/>
              <a:chOff x="6859440" y="5486400"/>
              <a:chExt cx="822240" cy="439920"/>
            </a:xfrm>
          </p:grpSpPr>
          <p:sp>
            <p:nvSpPr>
              <p:cNvPr id="561" name="Freeform 222"/>
              <p:cNvSpPr/>
              <p:nvPr/>
            </p:nvSpPr>
            <p:spPr>
              <a:xfrm>
                <a:off x="6859440" y="5486400"/>
                <a:ext cx="822240" cy="439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2" name="Freeform 223"/>
              <p:cNvSpPr/>
              <p:nvPr/>
            </p:nvSpPr>
            <p:spPr>
              <a:xfrm>
                <a:off x="6859440" y="5486400"/>
                <a:ext cx="822240" cy="109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3" name="Freeform 224"/>
              <p:cNvSpPr/>
              <p:nvPr/>
            </p:nvSpPr>
            <p:spPr>
              <a:xfrm>
                <a:off x="7572240" y="5486400"/>
                <a:ext cx="109440" cy="43992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25"/>
            <p:cNvGrpSpPr/>
            <p:nvPr/>
          </p:nvGrpSpPr>
          <p:grpSpPr>
            <a:xfrm>
              <a:off x="6706800" y="5639040"/>
              <a:ext cx="822600" cy="439560"/>
              <a:chOff x="6706800" y="5639040"/>
              <a:chExt cx="822600" cy="439560"/>
            </a:xfrm>
          </p:grpSpPr>
          <p:sp>
            <p:nvSpPr>
              <p:cNvPr id="565" name="Freeform 226"/>
              <p:cNvSpPr/>
              <p:nvPr/>
            </p:nvSpPr>
            <p:spPr>
              <a:xfrm>
                <a:off x="6706800" y="5639040"/>
                <a:ext cx="822600" cy="4395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6" name="Freeform 227"/>
              <p:cNvSpPr/>
              <p:nvPr/>
            </p:nvSpPr>
            <p:spPr>
              <a:xfrm>
                <a:off x="6706800" y="5639040"/>
                <a:ext cx="822600" cy="1094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7" name="Freeform 228"/>
              <p:cNvSpPr/>
              <p:nvPr/>
            </p:nvSpPr>
            <p:spPr>
              <a:xfrm>
                <a:off x="7418160" y="5639040"/>
                <a:ext cx="111240" cy="439560"/>
              </a:xfrm>
              <a:prstGeom prst="pie">
                <a:avLst/>
              </a:prstGeom>
              <a:solidFill>
                <a:srgbClr val="dbd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229"/>
            <p:cNvGrpSpPr/>
            <p:nvPr/>
          </p:nvGrpSpPr>
          <p:grpSpPr>
            <a:xfrm>
              <a:off x="5638680" y="5334120"/>
              <a:ext cx="2423880" cy="973080"/>
              <a:chOff x="5638680" y="5334120"/>
              <a:chExt cx="2423880" cy="973080"/>
            </a:xfrm>
          </p:grpSpPr>
          <p:sp>
            <p:nvSpPr>
              <p:cNvPr id="569" name="Freeform 230"/>
              <p:cNvSpPr/>
              <p:nvPr/>
            </p:nvSpPr>
            <p:spPr>
              <a:xfrm>
                <a:off x="5638680" y="5334120"/>
                <a:ext cx="2423880" cy="973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0" name="Freeform 231"/>
              <p:cNvSpPr/>
              <p:nvPr/>
            </p:nvSpPr>
            <p:spPr>
              <a:xfrm>
                <a:off x="5638680" y="5334120"/>
                <a:ext cx="2423880" cy="47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1" name="Freeform 232"/>
              <p:cNvSpPr/>
              <p:nvPr/>
            </p:nvSpPr>
            <p:spPr>
              <a:xfrm>
                <a:off x="7584840" y="5334120"/>
                <a:ext cx="477720" cy="973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233"/>
          <p:cNvGrpSpPr/>
          <p:nvPr/>
        </p:nvGrpSpPr>
        <p:grpSpPr>
          <a:xfrm>
            <a:off x="609480" y="4800600"/>
            <a:ext cx="1508040" cy="1363680"/>
            <a:chOff x="609480" y="4800600"/>
            <a:chExt cx="1508040" cy="1363680"/>
          </a:xfrm>
        </p:grpSpPr>
        <p:grpSp>
          <p:nvGrpSpPr>
            <p:cNvPr id="573" name="Group 234"/>
            <p:cNvGrpSpPr/>
            <p:nvPr/>
          </p:nvGrpSpPr>
          <p:grpSpPr>
            <a:xfrm>
              <a:off x="1447560" y="4961160"/>
              <a:ext cx="441360" cy="441360"/>
              <a:chOff x="1447560" y="4961160"/>
              <a:chExt cx="441360" cy="441360"/>
            </a:xfrm>
          </p:grpSpPr>
          <p:grpSp>
            <p:nvGrpSpPr>
              <p:cNvPr id="574" name="Group 235"/>
              <p:cNvGrpSpPr/>
              <p:nvPr/>
            </p:nvGrpSpPr>
            <p:grpSpPr>
              <a:xfrm>
                <a:off x="1447560" y="5075280"/>
                <a:ext cx="441360" cy="327240"/>
                <a:chOff x="1447560" y="5075280"/>
                <a:chExt cx="441360" cy="327240"/>
              </a:xfrm>
            </p:grpSpPr>
            <p:sp>
              <p:nvSpPr>
                <p:cNvPr id="575" name="Freeform 236"/>
                <p:cNvSpPr/>
                <p:nvPr/>
              </p:nvSpPr>
              <p:spPr>
                <a:xfrm>
                  <a:off x="1447560" y="5075280"/>
                  <a:ext cx="438120" cy="3272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237"/>
                <p:cNvSpPr/>
                <p:nvPr/>
              </p:nvSpPr>
              <p:spPr>
                <a:xfrm>
                  <a:off x="1447560" y="5075280"/>
                  <a:ext cx="438120" cy="1746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8"/>
                <p:cNvSpPr/>
                <p:nvPr/>
              </p:nvSpPr>
              <p:spPr>
                <a:xfrm>
                  <a:off x="1714320" y="5075280"/>
                  <a:ext cx="174600" cy="327240"/>
                </a:xfrm>
                <a:prstGeom prst="pie">
                  <a:avLst/>
                </a:prstGeom>
                <a:solidFill>
                  <a:srgbClr val="db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Group 239"/>
              <p:cNvGrpSpPr/>
              <p:nvPr/>
            </p:nvGrpSpPr>
            <p:grpSpPr>
              <a:xfrm>
                <a:off x="1677600" y="4961160"/>
                <a:ext cx="135000" cy="172800"/>
                <a:chOff x="1677600" y="4961160"/>
                <a:chExt cx="135000" cy="172800"/>
              </a:xfrm>
            </p:grpSpPr>
            <p:sp>
              <p:nvSpPr>
                <p:cNvPr id="579" name="Freeform 240"/>
                <p:cNvSpPr/>
                <p:nvPr/>
              </p:nvSpPr>
              <p:spPr>
                <a:xfrm>
                  <a:off x="1677600" y="4961160"/>
                  <a:ext cx="135000" cy="172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241"/>
                <p:cNvSpPr/>
                <p:nvPr/>
              </p:nvSpPr>
              <p:spPr>
                <a:xfrm>
                  <a:off x="1677600" y="496116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242"/>
              <p:cNvGrpSpPr/>
              <p:nvPr/>
            </p:nvGrpSpPr>
            <p:grpSpPr>
              <a:xfrm>
                <a:off x="1525320" y="5037120"/>
                <a:ext cx="135000" cy="173160"/>
                <a:chOff x="1525320" y="5037120"/>
                <a:chExt cx="135000" cy="173160"/>
              </a:xfrm>
            </p:grpSpPr>
            <p:sp>
              <p:nvSpPr>
                <p:cNvPr id="582" name="Freeform 243"/>
                <p:cNvSpPr/>
                <p:nvPr/>
              </p:nvSpPr>
              <p:spPr>
                <a:xfrm>
                  <a:off x="1525320" y="503712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244"/>
                <p:cNvSpPr/>
                <p:nvPr/>
              </p:nvSpPr>
              <p:spPr>
                <a:xfrm>
                  <a:off x="1525320" y="503712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" name="Group 245"/>
            <p:cNvGrpSpPr/>
            <p:nvPr/>
          </p:nvGrpSpPr>
          <p:grpSpPr>
            <a:xfrm>
              <a:off x="1142640" y="5265720"/>
              <a:ext cx="439920" cy="441360"/>
              <a:chOff x="1142640" y="5265720"/>
              <a:chExt cx="439920" cy="441360"/>
            </a:xfrm>
          </p:grpSpPr>
          <p:grpSp>
            <p:nvGrpSpPr>
              <p:cNvPr id="585" name="Group 246"/>
              <p:cNvGrpSpPr/>
              <p:nvPr/>
            </p:nvGrpSpPr>
            <p:grpSpPr>
              <a:xfrm>
                <a:off x="1142640" y="5380200"/>
                <a:ext cx="439920" cy="326880"/>
                <a:chOff x="1142640" y="5380200"/>
                <a:chExt cx="439920" cy="326880"/>
              </a:xfrm>
            </p:grpSpPr>
            <p:sp>
              <p:nvSpPr>
                <p:cNvPr id="586" name="Freeform 247"/>
                <p:cNvSpPr/>
                <p:nvPr/>
              </p:nvSpPr>
              <p:spPr>
                <a:xfrm>
                  <a:off x="1142640" y="5380200"/>
                  <a:ext cx="438120" cy="326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48"/>
                <p:cNvSpPr/>
                <p:nvPr/>
              </p:nvSpPr>
              <p:spPr>
                <a:xfrm>
                  <a:off x="1142640" y="5380200"/>
                  <a:ext cx="438120" cy="1746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249"/>
                <p:cNvSpPr/>
                <p:nvPr/>
              </p:nvSpPr>
              <p:spPr>
                <a:xfrm>
                  <a:off x="1409400" y="5380200"/>
                  <a:ext cx="173160" cy="326880"/>
                </a:xfrm>
                <a:prstGeom prst="pie">
                  <a:avLst/>
                </a:prstGeom>
                <a:solidFill>
                  <a:srgbClr val="db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250"/>
              <p:cNvGrpSpPr/>
              <p:nvPr/>
            </p:nvGrpSpPr>
            <p:grpSpPr>
              <a:xfrm>
                <a:off x="1373040" y="5265720"/>
                <a:ext cx="135000" cy="173160"/>
                <a:chOff x="1373040" y="5265720"/>
                <a:chExt cx="135000" cy="173160"/>
              </a:xfrm>
            </p:grpSpPr>
            <p:sp>
              <p:nvSpPr>
                <p:cNvPr id="590" name="Freeform 251"/>
                <p:cNvSpPr/>
                <p:nvPr/>
              </p:nvSpPr>
              <p:spPr>
                <a:xfrm>
                  <a:off x="1373040" y="526572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52"/>
                <p:cNvSpPr/>
                <p:nvPr/>
              </p:nvSpPr>
              <p:spPr>
                <a:xfrm>
                  <a:off x="1373040" y="526572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253"/>
              <p:cNvGrpSpPr/>
              <p:nvPr/>
            </p:nvGrpSpPr>
            <p:grpSpPr>
              <a:xfrm>
                <a:off x="1218960" y="5342040"/>
                <a:ext cx="135000" cy="173160"/>
                <a:chOff x="1218960" y="5342040"/>
                <a:chExt cx="135000" cy="173160"/>
              </a:xfrm>
            </p:grpSpPr>
            <p:sp>
              <p:nvSpPr>
                <p:cNvPr id="593" name="Freeform 254"/>
                <p:cNvSpPr/>
                <p:nvPr/>
              </p:nvSpPr>
              <p:spPr>
                <a:xfrm>
                  <a:off x="1218960" y="534204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55"/>
                <p:cNvSpPr/>
                <p:nvPr/>
              </p:nvSpPr>
              <p:spPr>
                <a:xfrm>
                  <a:off x="1218960" y="534204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5" name="Group 256"/>
            <p:cNvGrpSpPr/>
            <p:nvPr/>
          </p:nvGrpSpPr>
          <p:grpSpPr>
            <a:xfrm>
              <a:off x="838080" y="5570640"/>
              <a:ext cx="441360" cy="441360"/>
              <a:chOff x="838080" y="5570640"/>
              <a:chExt cx="441360" cy="441360"/>
            </a:xfrm>
          </p:grpSpPr>
          <p:grpSp>
            <p:nvGrpSpPr>
              <p:cNvPr id="596" name="Group 257"/>
              <p:cNvGrpSpPr/>
              <p:nvPr/>
            </p:nvGrpSpPr>
            <p:grpSpPr>
              <a:xfrm>
                <a:off x="838080" y="5686560"/>
                <a:ext cx="441360" cy="325440"/>
                <a:chOff x="838080" y="5686560"/>
                <a:chExt cx="441360" cy="325440"/>
              </a:xfrm>
            </p:grpSpPr>
            <p:sp>
              <p:nvSpPr>
                <p:cNvPr id="597" name="Freeform 258"/>
                <p:cNvSpPr/>
                <p:nvPr/>
              </p:nvSpPr>
              <p:spPr>
                <a:xfrm>
                  <a:off x="838080" y="5686560"/>
                  <a:ext cx="441360" cy="3254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259"/>
                <p:cNvSpPr/>
                <p:nvPr/>
              </p:nvSpPr>
              <p:spPr>
                <a:xfrm>
                  <a:off x="838080" y="5686560"/>
                  <a:ext cx="44136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60"/>
                <p:cNvSpPr/>
                <p:nvPr/>
              </p:nvSpPr>
              <p:spPr>
                <a:xfrm>
                  <a:off x="1103040" y="5686560"/>
                  <a:ext cx="176400" cy="325440"/>
                </a:xfrm>
                <a:prstGeom prst="pie">
                  <a:avLst/>
                </a:prstGeom>
                <a:solidFill>
                  <a:srgbClr val="dbdbd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Group 261"/>
              <p:cNvGrpSpPr/>
              <p:nvPr/>
            </p:nvGrpSpPr>
            <p:grpSpPr>
              <a:xfrm>
                <a:off x="1066680" y="5570640"/>
                <a:ext cx="135000" cy="173160"/>
                <a:chOff x="1066680" y="5570640"/>
                <a:chExt cx="135000" cy="173160"/>
              </a:xfrm>
            </p:grpSpPr>
            <p:sp>
              <p:nvSpPr>
                <p:cNvPr id="601" name="Freeform 262"/>
                <p:cNvSpPr/>
                <p:nvPr/>
              </p:nvSpPr>
              <p:spPr>
                <a:xfrm>
                  <a:off x="1066680" y="557064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63"/>
                <p:cNvSpPr/>
                <p:nvPr/>
              </p:nvSpPr>
              <p:spPr>
                <a:xfrm>
                  <a:off x="1066680" y="557064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264"/>
              <p:cNvGrpSpPr/>
              <p:nvPr/>
            </p:nvGrpSpPr>
            <p:grpSpPr>
              <a:xfrm>
                <a:off x="914040" y="5648400"/>
                <a:ext cx="135000" cy="173160"/>
                <a:chOff x="914040" y="5648400"/>
                <a:chExt cx="135000" cy="173160"/>
              </a:xfrm>
            </p:grpSpPr>
            <p:sp>
              <p:nvSpPr>
                <p:cNvPr id="604" name="Freeform 265"/>
                <p:cNvSpPr/>
                <p:nvPr/>
              </p:nvSpPr>
              <p:spPr>
                <a:xfrm>
                  <a:off x="914040" y="5648400"/>
                  <a:ext cx="135000" cy="173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66"/>
                <p:cNvSpPr/>
                <p:nvPr/>
              </p:nvSpPr>
              <p:spPr>
                <a:xfrm>
                  <a:off x="914040" y="5648400"/>
                  <a:ext cx="135000" cy="42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267"/>
            <p:cNvGrpSpPr/>
            <p:nvPr/>
          </p:nvGrpSpPr>
          <p:grpSpPr>
            <a:xfrm>
              <a:off x="685440" y="4884840"/>
              <a:ext cx="1355760" cy="1204920"/>
              <a:chOff x="685440" y="4884840"/>
              <a:chExt cx="1355760" cy="1204920"/>
            </a:xfrm>
          </p:grpSpPr>
          <p:sp>
            <p:nvSpPr>
              <p:cNvPr id="607" name="Freeform 268"/>
              <p:cNvSpPr/>
              <p:nvPr/>
            </p:nvSpPr>
            <p:spPr>
              <a:xfrm>
                <a:off x="685440" y="4884840"/>
                <a:ext cx="1354320" cy="1204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8" name="Freeform 269"/>
              <p:cNvSpPr/>
              <p:nvPr/>
            </p:nvSpPr>
            <p:spPr>
              <a:xfrm>
                <a:off x="685440" y="4884840"/>
                <a:ext cx="1354320" cy="723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9" name="Freeform 270"/>
              <p:cNvSpPr/>
              <p:nvPr/>
            </p:nvSpPr>
            <p:spPr>
              <a:xfrm>
                <a:off x="1319040" y="4884840"/>
                <a:ext cx="722160" cy="1204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271"/>
            <p:cNvGrpSpPr/>
            <p:nvPr/>
          </p:nvGrpSpPr>
          <p:grpSpPr>
            <a:xfrm>
              <a:off x="609480" y="4800600"/>
              <a:ext cx="1508040" cy="1363680"/>
              <a:chOff x="609480" y="4800600"/>
              <a:chExt cx="1508040" cy="1363680"/>
            </a:xfrm>
          </p:grpSpPr>
          <p:sp>
            <p:nvSpPr>
              <p:cNvPr id="611" name="Freeform 272"/>
              <p:cNvSpPr/>
              <p:nvPr/>
            </p:nvSpPr>
            <p:spPr>
              <a:xfrm>
                <a:off x="609480" y="4800600"/>
                <a:ext cx="1504800" cy="136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2" name="Freeform 273"/>
              <p:cNvSpPr/>
              <p:nvPr/>
            </p:nvSpPr>
            <p:spPr>
              <a:xfrm>
                <a:off x="609480" y="4800600"/>
                <a:ext cx="1504800" cy="72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3" name="Freeform 274"/>
              <p:cNvSpPr/>
              <p:nvPr/>
            </p:nvSpPr>
            <p:spPr>
              <a:xfrm>
                <a:off x="1396800" y="4800600"/>
                <a:ext cx="720720" cy="136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275"/>
          <p:cNvGrpSpPr/>
          <p:nvPr/>
        </p:nvGrpSpPr>
        <p:grpSpPr>
          <a:xfrm>
            <a:off x="1828800" y="4800600"/>
            <a:ext cx="1508040" cy="1363680"/>
            <a:chOff x="1828800" y="4800600"/>
            <a:chExt cx="1508040" cy="1363680"/>
          </a:xfrm>
        </p:grpSpPr>
        <p:grpSp>
          <p:nvGrpSpPr>
            <p:cNvPr id="615" name="Group 276"/>
            <p:cNvGrpSpPr/>
            <p:nvPr/>
          </p:nvGrpSpPr>
          <p:grpSpPr>
            <a:xfrm>
              <a:off x="1905120" y="4876920"/>
              <a:ext cx="1357200" cy="1204920"/>
              <a:chOff x="1905120" y="4876920"/>
              <a:chExt cx="1357200" cy="1204920"/>
            </a:xfrm>
          </p:grpSpPr>
          <p:grpSp>
            <p:nvGrpSpPr>
              <p:cNvPr id="616" name="Group 277"/>
              <p:cNvGrpSpPr/>
              <p:nvPr/>
            </p:nvGrpSpPr>
            <p:grpSpPr>
              <a:xfrm>
                <a:off x="1981080" y="4952880"/>
                <a:ext cx="1241640" cy="1052640"/>
                <a:chOff x="1981080" y="4952880"/>
                <a:chExt cx="1241640" cy="1052640"/>
              </a:xfrm>
            </p:grpSpPr>
            <p:grpSp>
              <p:nvGrpSpPr>
                <p:cNvPr id="617" name="Group 278"/>
                <p:cNvGrpSpPr/>
                <p:nvPr/>
              </p:nvGrpSpPr>
              <p:grpSpPr>
                <a:xfrm>
                  <a:off x="1981080" y="4952880"/>
                  <a:ext cx="936720" cy="1052640"/>
                  <a:chOff x="1981080" y="4952880"/>
                  <a:chExt cx="936720" cy="1052640"/>
                </a:xfrm>
              </p:grpSpPr>
              <p:grpSp>
                <p:nvGrpSpPr>
                  <p:cNvPr id="618" name="Group 279"/>
                  <p:cNvGrpSpPr/>
                  <p:nvPr/>
                </p:nvGrpSpPr>
                <p:grpSpPr>
                  <a:xfrm>
                    <a:off x="2629080" y="4952880"/>
                    <a:ext cx="288720" cy="366840"/>
                    <a:chOff x="2629080" y="4952880"/>
                    <a:chExt cx="288720" cy="366840"/>
                  </a:xfrm>
                </p:grpSpPr>
                <p:grpSp>
                  <p:nvGrpSpPr>
                    <p:cNvPr id="619" name="Group 280"/>
                    <p:cNvGrpSpPr/>
                    <p:nvPr/>
                  </p:nvGrpSpPr>
                  <p:grpSpPr>
                    <a:xfrm>
                      <a:off x="2629080" y="5106960"/>
                      <a:ext cx="288720" cy="212760"/>
                      <a:chOff x="2629080" y="5106960"/>
                      <a:chExt cx="288720" cy="212760"/>
                    </a:xfrm>
                  </p:grpSpPr>
                  <p:sp>
                    <p:nvSpPr>
                      <p:cNvPr id="620" name="Freeform 281"/>
                      <p:cNvSpPr/>
                      <p:nvPr/>
                    </p:nvSpPr>
                    <p:spPr>
                      <a:xfrm>
                        <a:off x="2629080" y="5106960"/>
                        <a:ext cx="285480" cy="2127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282"/>
                      <p:cNvSpPr/>
                      <p:nvPr/>
                    </p:nvSpPr>
                    <p:spPr>
                      <a:xfrm>
                        <a:off x="2629080" y="5106960"/>
                        <a:ext cx="285480" cy="1144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Freeform 283"/>
                      <p:cNvSpPr/>
                      <p:nvPr/>
                    </p:nvSpPr>
                    <p:spPr>
                      <a:xfrm>
                        <a:off x="2803680" y="5106960"/>
                        <a:ext cx="114120" cy="212760"/>
                      </a:xfrm>
                      <a:prstGeom prst="pie">
                        <a:avLst/>
                      </a:prstGeom>
                      <a:solidFill>
                        <a:srgbClr val="dbdbdb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3" name="Group 284"/>
                    <p:cNvGrpSpPr/>
                    <p:nvPr/>
                  </p:nvGrpSpPr>
                  <p:grpSpPr>
                    <a:xfrm>
                      <a:off x="2743200" y="4952880"/>
                      <a:ext cx="135000" cy="174600"/>
                      <a:chOff x="2743200" y="4952880"/>
                      <a:chExt cx="135000" cy="174600"/>
                    </a:xfrm>
                  </p:grpSpPr>
                  <p:sp>
                    <p:nvSpPr>
                      <p:cNvPr id="624" name="Freeform 285"/>
                      <p:cNvSpPr/>
                      <p:nvPr/>
                    </p:nvSpPr>
                    <p:spPr>
                      <a:xfrm>
                        <a:off x="2743200" y="4952880"/>
                        <a:ext cx="135000" cy="17460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286"/>
                      <p:cNvSpPr/>
                      <p:nvPr/>
                    </p:nvSpPr>
                    <p:spPr>
                      <a:xfrm>
                        <a:off x="2743200" y="4952880"/>
                        <a:ext cx="135000" cy="428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0" bIns="-36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287"/>
                    <p:cNvGrpSpPr/>
                    <p:nvPr/>
                  </p:nvGrpSpPr>
                  <p:grpSpPr>
                    <a:xfrm>
                      <a:off x="2666880" y="5029200"/>
                      <a:ext cx="135000" cy="174600"/>
                      <a:chOff x="2666880" y="5029200"/>
                      <a:chExt cx="135000" cy="174600"/>
                    </a:xfrm>
                  </p:grpSpPr>
                  <p:sp>
                    <p:nvSpPr>
                      <p:cNvPr id="627" name="Freeform 288"/>
                      <p:cNvSpPr/>
                      <p:nvPr/>
                    </p:nvSpPr>
                    <p:spPr>
                      <a:xfrm>
                        <a:off x="2666880" y="5029200"/>
                        <a:ext cx="135000" cy="17460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289"/>
                      <p:cNvSpPr/>
                      <p:nvPr/>
                    </p:nvSpPr>
                    <p:spPr>
                      <a:xfrm>
                        <a:off x="2666880" y="5029200"/>
                        <a:ext cx="135000" cy="428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0" bIns="-36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290"/>
                  <p:cNvGrpSpPr/>
                  <p:nvPr/>
                </p:nvGrpSpPr>
                <p:grpSpPr>
                  <a:xfrm>
                    <a:off x="2209680" y="5295960"/>
                    <a:ext cx="517680" cy="442800"/>
                    <a:chOff x="2209680" y="5295960"/>
                    <a:chExt cx="517680" cy="442800"/>
                  </a:xfrm>
                </p:grpSpPr>
                <p:sp>
                  <p:nvSpPr>
                    <p:cNvPr id="630" name="Freeform 291"/>
                    <p:cNvSpPr/>
                    <p:nvPr/>
                  </p:nvSpPr>
                  <p:spPr>
                    <a:xfrm>
                      <a:off x="2209680" y="5295960"/>
                      <a:ext cx="514440" cy="442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Freeform 292"/>
                    <p:cNvSpPr/>
                    <p:nvPr/>
                  </p:nvSpPr>
                  <p:spPr>
                    <a:xfrm>
                      <a:off x="2209680" y="5295960"/>
                      <a:ext cx="514440" cy="3268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293"/>
                    <p:cNvSpPr/>
                    <p:nvPr/>
                  </p:nvSpPr>
                  <p:spPr>
                    <a:xfrm>
                      <a:off x="2400480" y="5295960"/>
                      <a:ext cx="326880" cy="442800"/>
                    </a:xfrm>
                    <a:prstGeom prst="pie">
                      <a:avLst/>
                    </a:prstGeom>
                    <a:solidFill>
                      <a:srgbClr val="dbdbdb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294"/>
                  <p:cNvGrpSpPr/>
                  <p:nvPr/>
                </p:nvGrpSpPr>
                <p:grpSpPr>
                  <a:xfrm>
                    <a:off x="2476440" y="5219640"/>
                    <a:ext cx="135000" cy="174600"/>
                    <a:chOff x="2476440" y="5219640"/>
                    <a:chExt cx="135000" cy="174600"/>
                  </a:xfrm>
                </p:grpSpPr>
                <p:sp>
                  <p:nvSpPr>
                    <p:cNvPr id="634" name="Freeform 295"/>
                    <p:cNvSpPr/>
                    <p:nvPr/>
                  </p:nvSpPr>
                  <p:spPr>
                    <a:xfrm>
                      <a:off x="2476440" y="5219640"/>
                      <a:ext cx="1350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296"/>
                    <p:cNvSpPr/>
                    <p:nvPr/>
                  </p:nvSpPr>
                  <p:spPr>
                    <a:xfrm>
                      <a:off x="2476440" y="521964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Group 297"/>
                  <p:cNvGrpSpPr/>
                  <p:nvPr/>
                </p:nvGrpSpPr>
                <p:grpSpPr>
                  <a:xfrm>
                    <a:off x="2401920" y="5295960"/>
                    <a:ext cx="135000" cy="174600"/>
                    <a:chOff x="2401920" y="5295960"/>
                    <a:chExt cx="135000" cy="174600"/>
                  </a:xfrm>
                </p:grpSpPr>
                <p:sp>
                  <p:nvSpPr>
                    <p:cNvPr id="637" name="Freeform 298"/>
                    <p:cNvSpPr/>
                    <p:nvPr/>
                  </p:nvSpPr>
                  <p:spPr>
                    <a:xfrm>
                      <a:off x="2401920" y="5295960"/>
                      <a:ext cx="1350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299"/>
                    <p:cNvSpPr/>
                    <p:nvPr/>
                  </p:nvSpPr>
                  <p:spPr>
                    <a:xfrm>
                      <a:off x="2401920" y="529596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300"/>
                  <p:cNvGrpSpPr/>
                  <p:nvPr/>
                </p:nvGrpSpPr>
                <p:grpSpPr>
                  <a:xfrm>
                    <a:off x="2324160" y="5373720"/>
                    <a:ext cx="135000" cy="173160"/>
                    <a:chOff x="2324160" y="5373720"/>
                    <a:chExt cx="135000" cy="173160"/>
                  </a:xfrm>
                </p:grpSpPr>
                <p:sp>
                  <p:nvSpPr>
                    <p:cNvPr id="640" name="Freeform 301"/>
                    <p:cNvSpPr/>
                    <p:nvPr/>
                  </p:nvSpPr>
                  <p:spPr>
                    <a:xfrm>
                      <a:off x="2324160" y="5373720"/>
                      <a:ext cx="135000" cy="1731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302"/>
                    <p:cNvSpPr/>
                    <p:nvPr/>
                  </p:nvSpPr>
                  <p:spPr>
                    <a:xfrm>
                      <a:off x="2324160" y="537372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303"/>
                  <p:cNvGrpSpPr/>
                  <p:nvPr/>
                </p:nvGrpSpPr>
                <p:grpSpPr>
                  <a:xfrm>
                    <a:off x="2247840" y="5451480"/>
                    <a:ext cx="135000" cy="173160"/>
                    <a:chOff x="2247840" y="5451480"/>
                    <a:chExt cx="135000" cy="173160"/>
                  </a:xfrm>
                </p:grpSpPr>
                <p:sp>
                  <p:nvSpPr>
                    <p:cNvPr id="643" name="Freeform 304"/>
                    <p:cNvSpPr/>
                    <p:nvPr/>
                  </p:nvSpPr>
                  <p:spPr>
                    <a:xfrm>
                      <a:off x="2247840" y="5451480"/>
                      <a:ext cx="135000" cy="1731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305"/>
                    <p:cNvSpPr/>
                    <p:nvPr/>
                  </p:nvSpPr>
                  <p:spPr>
                    <a:xfrm>
                      <a:off x="2247840" y="545148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306"/>
                  <p:cNvGrpSpPr/>
                  <p:nvPr/>
                </p:nvGrpSpPr>
                <p:grpSpPr>
                  <a:xfrm>
                    <a:off x="1981080" y="5792760"/>
                    <a:ext cx="289080" cy="212760"/>
                    <a:chOff x="1981080" y="5792760"/>
                    <a:chExt cx="289080" cy="212760"/>
                  </a:xfrm>
                </p:grpSpPr>
                <p:sp>
                  <p:nvSpPr>
                    <p:cNvPr id="646" name="Freeform 307"/>
                    <p:cNvSpPr/>
                    <p:nvPr/>
                  </p:nvSpPr>
                  <p:spPr>
                    <a:xfrm>
                      <a:off x="1981080" y="5792760"/>
                      <a:ext cx="287640" cy="212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308"/>
                    <p:cNvSpPr/>
                    <p:nvPr/>
                  </p:nvSpPr>
                  <p:spPr>
                    <a:xfrm>
                      <a:off x="1981080" y="5792760"/>
                      <a:ext cx="287640" cy="1144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Freeform 309"/>
                    <p:cNvSpPr/>
                    <p:nvPr/>
                  </p:nvSpPr>
                  <p:spPr>
                    <a:xfrm>
                      <a:off x="2157480" y="5792760"/>
                      <a:ext cx="112680" cy="212760"/>
                    </a:xfrm>
                    <a:prstGeom prst="pie">
                      <a:avLst/>
                    </a:prstGeom>
                    <a:solidFill>
                      <a:srgbClr val="dbdbdb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310"/>
                  <p:cNvGrpSpPr/>
                  <p:nvPr/>
                </p:nvGrpSpPr>
                <p:grpSpPr>
                  <a:xfrm>
                    <a:off x="2095560" y="5640480"/>
                    <a:ext cx="135000" cy="174600"/>
                    <a:chOff x="2095560" y="5640480"/>
                    <a:chExt cx="135000" cy="174600"/>
                  </a:xfrm>
                </p:grpSpPr>
                <p:sp>
                  <p:nvSpPr>
                    <p:cNvPr id="650" name="Freeform 311"/>
                    <p:cNvSpPr/>
                    <p:nvPr/>
                  </p:nvSpPr>
                  <p:spPr>
                    <a:xfrm>
                      <a:off x="2095560" y="5640480"/>
                      <a:ext cx="1350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Freeform 312"/>
                    <p:cNvSpPr/>
                    <p:nvPr/>
                  </p:nvSpPr>
                  <p:spPr>
                    <a:xfrm>
                      <a:off x="2095560" y="564048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Group 313"/>
                  <p:cNvGrpSpPr/>
                  <p:nvPr/>
                </p:nvGrpSpPr>
                <p:grpSpPr>
                  <a:xfrm>
                    <a:off x="2019240" y="5716440"/>
                    <a:ext cx="135000" cy="176400"/>
                    <a:chOff x="2019240" y="5716440"/>
                    <a:chExt cx="135000" cy="176400"/>
                  </a:xfrm>
                </p:grpSpPr>
                <p:sp>
                  <p:nvSpPr>
                    <p:cNvPr id="653" name="Freeform 314"/>
                    <p:cNvSpPr/>
                    <p:nvPr/>
                  </p:nvSpPr>
                  <p:spPr>
                    <a:xfrm>
                      <a:off x="2019240" y="5716440"/>
                      <a:ext cx="135000" cy="1764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Freeform 315"/>
                    <p:cNvSpPr/>
                    <p:nvPr/>
                  </p:nvSpPr>
                  <p:spPr>
                    <a:xfrm>
                      <a:off x="2019240" y="571644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5" name="Group 316"/>
                <p:cNvGrpSpPr/>
                <p:nvPr/>
              </p:nvGrpSpPr>
              <p:grpSpPr>
                <a:xfrm>
                  <a:off x="2286000" y="4952880"/>
                  <a:ext cx="936720" cy="1052640"/>
                  <a:chOff x="2286000" y="4952880"/>
                  <a:chExt cx="936720" cy="1052640"/>
                </a:xfrm>
              </p:grpSpPr>
              <p:grpSp>
                <p:nvGrpSpPr>
                  <p:cNvPr id="656" name="Group 317"/>
                  <p:cNvGrpSpPr/>
                  <p:nvPr/>
                </p:nvGrpSpPr>
                <p:grpSpPr>
                  <a:xfrm>
                    <a:off x="2933640" y="4952880"/>
                    <a:ext cx="289080" cy="366840"/>
                    <a:chOff x="2933640" y="4952880"/>
                    <a:chExt cx="289080" cy="366840"/>
                  </a:xfrm>
                </p:grpSpPr>
                <p:grpSp>
                  <p:nvGrpSpPr>
                    <p:cNvPr id="657" name="Group 318"/>
                    <p:cNvGrpSpPr/>
                    <p:nvPr/>
                  </p:nvGrpSpPr>
                  <p:grpSpPr>
                    <a:xfrm>
                      <a:off x="2933640" y="5106960"/>
                      <a:ext cx="289080" cy="212760"/>
                      <a:chOff x="2933640" y="5106960"/>
                      <a:chExt cx="289080" cy="212760"/>
                    </a:xfrm>
                  </p:grpSpPr>
                  <p:sp>
                    <p:nvSpPr>
                      <p:cNvPr id="658" name="Freeform 319"/>
                      <p:cNvSpPr/>
                      <p:nvPr/>
                    </p:nvSpPr>
                    <p:spPr>
                      <a:xfrm>
                        <a:off x="2933640" y="5106960"/>
                        <a:ext cx="284400" cy="2127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Freeform 320"/>
                      <p:cNvSpPr/>
                      <p:nvPr/>
                    </p:nvSpPr>
                    <p:spPr>
                      <a:xfrm>
                        <a:off x="2933640" y="5106960"/>
                        <a:ext cx="284400" cy="1144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Freeform 321"/>
                      <p:cNvSpPr/>
                      <p:nvPr/>
                    </p:nvSpPr>
                    <p:spPr>
                      <a:xfrm>
                        <a:off x="3110040" y="5106960"/>
                        <a:ext cx="112680" cy="212760"/>
                      </a:xfrm>
                      <a:prstGeom prst="pie">
                        <a:avLst/>
                      </a:prstGeom>
                      <a:solidFill>
                        <a:srgbClr val="dbdbdb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1" name="Group 322"/>
                    <p:cNvGrpSpPr/>
                    <p:nvPr/>
                  </p:nvGrpSpPr>
                  <p:grpSpPr>
                    <a:xfrm>
                      <a:off x="3048120" y="4952880"/>
                      <a:ext cx="135000" cy="174600"/>
                      <a:chOff x="3048120" y="4952880"/>
                      <a:chExt cx="135000" cy="174600"/>
                    </a:xfrm>
                  </p:grpSpPr>
                  <p:sp>
                    <p:nvSpPr>
                      <p:cNvPr id="662" name="Freeform 323"/>
                      <p:cNvSpPr/>
                      <p:nvPr/>
                    </p:nvSpPr>
                    <p:spPr>
                      <a:xfrm>
                        <a:off x="3048120" y="4952880"/>
                        <a:ext cx="135000" cy="17460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Freeform 324"/>
                      <p:cNvSpPr/>
                      <p:nvPr/>
                    </p:nvSpPr>
                    <p:spPr>
                      <a:xfrm>
                        <a:off x="3048120" y="4952880"/>
                        <a:ext cx="135000" cy="428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0" bIns="-36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4" name="Group 325"/>
                    <p:cNvGrpSpPr/>
                    <p:nvPr/>
                  </p:nvGrpSpPr>
                  <p:grpSpPr>
                    <a:xfrm>
                      <a:off x="2971800" y="5029200"/>
                      <a:ext cx="135000" cy="174600"/>
                      <a:chOff x="2971800" y="5029200"/>
                      <a:chExt cx="135000" cy="174600"/>
                    </a:xfrm>
                  </p:grpSpPr>
                  <p:sp>
                    <p:nvSpPr>
                      <p:cNvPr id="665" name="Freeform 326"/>
                      <p:cNvSpPr/>
                      <p:nvPr/>
                    </p:nvSpPr>
                    <p:spPr>
                      <a:xfrm>
                        <a:off x="2971800" y="5029200"/>
                        <a:ext cx="135000" cy="17460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Freeform 327"/>
                      <p:cNvSpPr/>
                      <p:nvPr/>
                    </p:nvSpPr>
                    <p:spPr>
                      <a:xfrm>
                        <a:off x="2971800" y="5029200"/>
                        <a:ext cx="135000" cy="428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0" bIns="-36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67" name="Group 328"/>
                  <p:cNvGrpSpPr/>
                  <p:nvPr/>
                </p:nvGrpSpPr>
                <p:grpSpPr>
                  <a:xfrm>
                    <a:off x="2516040" y="5295960"/>
                    <a:ext cx="517680" cy="442800"/>
                    <a:chOff x="2516040" y="5295960"/>
                    <a:chExt cx="517680" cy="442800"/>
                  </a:xfrm>
                </p:grpSpPr>
                <p:sp>
                  <p:nvSpPr>
                    <p:cNvPr id="668" name="Freeform 329"/>
                    <p:cNvSpPr/>
                    <p:nvPr/>
                  </p:nvSpPr>
                  <p:spPr>
                    <a:xfrm>
                      <a:off x="2516040" y="5295960"/>
                      <a:ext cx="516240" cy="442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Freeform 330"/>
                    <p:cNvSpPr/>
                    <p:nvPr/>
                  </p:nvSpPr>
                  <p:spPr>
                    <a:xfrm>
                      <a:off x="2516040" y="5295960"/>
                      <a:ext cx="516240" cy="3268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331"/>
                    <p:cNvSpPr/>
                    <p:nvPr/>
                  </p:nvSpPr>
                  <p:spPr>
                    <a:xfrm>
                      <a:off x="2705040" y="5295960"/>
                      <a:ext cx="328680" cy="442800"/>
                    </a:xfrm>
                    <a:prstGeom prst="pie">
                      <a:avLst/>
                    </a:prstGeom>
                    <a:solidFill>
                      <a:srgbClr val="dbdbdb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Group 332"/>
                  <p:cNvGrpSpPr/>
                  <p:nvPr/>
                </p:nvGrpSpPr>
                <p:grpSpPr>
                  <a:xfrm>
                    <a:off x="2781360" y="5219640"/>
                    <a:ext cx="135000" cy="174600"/>
                    <a:chOff x="2781360" y="5219640"/>
                    <a:chExt cx="135000" cy="174600"/>
                  </a:xfrm>
                </p:grpSpPr>
                <p:sp>
                  <p:nvSpPr>
                    <p:cNvPr id="672" name="Freeform 333"/>
                    <p:cNvSpPr/>
                    <p:nvPr/>
                  </p:nvSpPr>
                  <p:spPr>
                    <a:xfrm>
                      <a:off x="2781360" y="5219640"/>
                      <a:ext cx="1350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334"/>
                    <p:cNvSpPr/>
                    <p:nvPr/>
                  </p:nvSpPr>
                  <p:spPr>
                    <a:xfrm>
                      <a:off x="2781360" y="521964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335"/>
                  <p:cNvGrpSpPr/>
                  <p:nvPr/>
                </p:nvGrpSpPr>
                <p:grpSpPr>
                  <a:xfrm>
                    <a:off x="2706840" y="5295960"/>
                    <a:ext cx="134640" cy="174600"/>
                    <a:chOff x="2706840" y="5295960"/>
                    <a:chExt cx="134640" cy="174600"/>
                  </a:xfrm>
                </p:grpSpPr>
                <p:sp>
                  <p:nvSpPr>
                    <p:cNvPr id="675" name="Freeform 336"/>
                    <p:cNvSpPr/>
                    <p:nvPr/>
                  </p:nvSpPr>
                  <p:spPr>
                    <a:xfrm>
                      <a:off x="2706840" y="5295960"/>
                      <a:ext cx="13464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337"/>
                    <p:cNvSpPr/>
                    <p:nvPr/>
                  </p:nvSpPr>
                  <p:spPr>
                    <a:xfrm>
                      <a:off x="2706840" y="5295960"/>
                      <a:ext cx="13464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Group 338"/>
                  <p:cNvGrpSpPr/>
                  <p:nvPr/>
                </p:nvGrpSpPr>
                <p:grpSpPr>
                  <a:xfrm>
                    <a:off x="2630520" y="5373720"/>
                    <a:ext cx="135000" cy="173160"/>
                    <a:chOff x="2630520" y="5373720"/>
                    <a:chExt cx="135000" cy="173160"/>
                  </a:xfrm>
                </p:grpSpPr>
                <p:sp>
                  <p:nvSpPr>
                    <p:cNvPr id="678" name="Freeform 339"/>
                    <p:cNvSpPr/>
                    <p:nvPr/>
                  </p:nvSpPr>
                  <p:spPr>
                    <a:xfrm>
                      <a:off x="2630520" y="5373720"/>
                      <a:ext cx="135000" cy="1731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340"/>
                    <p:cNvSpPr/>
                    <p:nvPr/>
                  </p:nvSpPr>
                  <p:spPr>
                    <a:xfrm>
                      <a:off x="2630520" y="537372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341"/>
                  <p:cNvGrpSpPr/>
                  <p:nvPr/>
                </p:nvGrpSpPr>
                <p:grpSpPr>
                  <a:xfrm>
                    <a:off x="2552760" y="5451480"/>
                    <a:ext cx="135000" cy="173160"/>
                    <a:chOff x="2552760" y="5451480"/>
                    <a:chExt cx="135000" cy="173160"/>
                  </a:xfrm>
                </p:grpSpPr>
                <p:sp>
                  <p:nvSpPr>
                    <p:cNvPr id="681" name="Freeform 342"/>
                    <p:cNvSpPr/>
                    <p:nvPr/>
                  </p:nvSpPr>
                  <p:spPr>
                    <a:xfrm>
                      <a:off x="2552760" y="5451480"/>
                      <a:ext cx="135000" cy="1731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343"/>
                    <p:cNvSpPr/>
                    <p:nvPr/>
                  </p:nvSpPr>
                  <p:spPr>
                    <a:xfrm>
                      <a:off x="2552760" y="545148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Group 344"/>
                  <p:cNvGrpSpPr/>
                  <p:nvPr/>
                </p:nvGrpSpPr>
                <p:grpSpPr>
                  <a:xfrm>
                    <a:off x="2286000" y="5792760"/>
                    <a:ext cx="289080" cy="212760"/>
                    <a:chOff x="2286000" y="5792760"/>
                    <a:chExt cx="289080" cy="212760"/>
                  </a:xfrm>
                </p:grpSpPr>
                <p:sp>
                  <p:nvSpPr>
                    <p:cNvPr id="684" name="Freeform 345"/>
                    <p:cNvSpPr/>
                    <p:nvPr/>
                  </p:nvSpPr>
                  <p:spPr>
                    <a:xfrm>
                      <a:off x="2286000" y="5792760"/>
                      <a:ext cx="287280" cy="212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346"/>
                    <p:cNvSpPr/>
                    <p:nvPr/>
                  </p:nvSpPr>
                  <p:spPr>
                    <a:xfrm>
                      <a:off x="2286000" y="5792760"/>
                      <a:ext cx="287280" cy="1144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347"/>
                    <p:cNvSpPr/>
                    <p:nvPr/>
                  </p:nvSpPr>
                  <p:spPr>
                    <a:xfrm>
                      <a:off x="2460600" y="5792760"/>
                      <a:ext cx="114480" cy="212760"/>
                    </a:xfrm>
                    <a:prstGeom prst="pie">
                      <a:avLst/>
                    </a:prstGeom>
                    <a:solidFill>
                      <a:srgbClr val="dbdbdb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348"/>
                  <p:cNvGrpSpPr/>
                  <p:nvPr/>
                </p:nvGrpSpPr>
                <p:grpSpPr>
                  <a:xfrm>
                    <a:off x="2400480" y="5640480"/>
                    <a:ext cx="134640" cy="174600"/>
                    <a:chOff x="2400480" y="5640480"/>
                    <a:chExt cx="134640" cy="174600"/>
                  </a:xfrm>
                </p:grpSpPr>
                <p:sp>
                  <p:nvSpPr>
                    <p:cNvPr id="688" name="Freeform 349"/>
                    <p:cNvSpPr/>
                    <p:nvPr/>
                  </p:nvSpPr>
                  <p:spPr>
                    <a:xfrm>
                      <a:off x="2400480" y="5640480"/>
                      <a:ext cx="13464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350"/>
                    <p:cNvSpPr/>
                    <p:nvPr/>
                  </p:nvSpPr>
                  <p:spPr>
                    <a:xfrm>
                      <a:off x="2400480" y="5640480"/>
                      <a:ext cx="13464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Group 351"/>
                  <p:cNvGrpSpPr/>
                  <p:nvPr/>
                </p:nvGrpSpPr>
                <p:grpSpPr>
                  <a:xfrm>
                    <a:off x="2324160" y="5716440"/>
                    <a:ext cx="135000" cy="176400"/>
                    <a:chOff x="2324160" y="5716440"/>
                    <a:chExt cx="135000" cy="176400"/>
                  </a:xfrm>
                </p:grpSpPr>
                <p:sp>
                  <p:nvSpPr>
                    <p:cNvPr id="691" name="Freeform 352"/>
                    <p:cNvSpPr/>
                    <p:nvPr/>
                  </p:nvSpPr>
                  <p:spPr>
                    <a:xfrm>
                      <a:off x="2324160" y="5716440"/>
                      <a:ext cx="135000" cy="1764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353"/>
                    <p:cNvSpPr/>
                    <p:nvPr/>
                  </p:nvSpPr>
                  <p:spPr>
                    <a:xfrm>
                      <a:off x="2324160" y="5716440"/>
                      <a:ext cx="135000" cy="4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3" name="Group 354"/>
              <p:cNvGrpSpPr/>
              <p:nvPr/>
            </p:nvGrpSpPr>
            <p:grpSpPr>
              <a:xfrm>
                <a:off x="1905120" y="4876920"/>
                <a:ext cx="1357200" cy="1204920"/>
                <a:chOff x="1905120" y="4876920"/>
                <a:chExt cx="1357200" cy="1204920"/>
              </a:xfrm>
            </p:grpSpPr>
            <p:sp>
              <p:nvSpPr>
                <p:cNvPr id="694" name="Freeform 355"/>
                <p:cNvSpPr/>
                <p:nvPr/>
              </p:nvSpPr>
              <p:spPr>
                <a:xfrm>
                  <a:off x="1905120" y="4876920"/>
                  <a:ext cx="1349280" cy="1204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6"/>
                <p:cNvSpPr/>
                <p:nvPr/>
              </p:nvSpPr>
              <p:spPr>
                <a:xfrm>
                  <a:off x="1905120" y="4876920"/>
                  <a:ext cx="1349280" cy="72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57"/>
                <p:cNvSpPr/>
                <p:nvPr/>
              </p:nvSpPr>
              <p:spPr>
                <a:xfrm>
                  <a:off x="2540160" y="4876920"/>
                  <a:ext cx="722160" cy="1204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7" name="Group 358"/>
            <p:cNvGrpSpPr/>
            <p:nvPr/>
          </p:nvGrpSpPr>
          <p:grpSpPr>
            <a:xfrm>
              <a:off x="1828800" y="4800600"/>
              <a:ext cx="1508040" cy="1363680"/>
              <a:chOff x="1828800" y="4800600"/>
              <a:chExt cx="1508040" cy="1363680"/>
            </a:xfrm>
          </p:grpSpPr>
          <p:sp>
            <p:nvSpPr>
              <p:cNvPr id="698" name="Freeform 359"/>
              <p:cNvSpPr/>
              <p:nvPr/>
            </p:nvSpPr>
            <p:spPr>
              <a:xfrm>
                <a:off x="1828800" y="4800600"/>
                <a:ext cx="1501920" cy="136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9" name="Freeform 360"/>
              <p:cNvSpPr/>
              <p:nvPr/>
            </p:nvSpPr>
            <p:spPr>
              <a:xfrm>
                <a:off x="1828800" y="4800600"/>
                <a:ext cx="1501920" cy="72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0" name="Freeform 361"/>
              <p:cNvSpPr/>
              <p:nvPr/>
            </p:nvSpPr>
            <p:spPr>
              <a:xfrm>
                <a:off x="2619360" y="4800600"/>
                <a:ext cx="717480" cy="136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362"/>
          <p:cNvGrpSpPr/>
          <p:nvPr/>
        </p:nvGrpSpPr>
        <p:grpSpPr>
          <a:xfrm>
            <a:off x="3276720" y="1447920"/>
            <a:ext cx="2111400" cy="465120"/>
            <a:chOff x="3276720" y="1447920"/>
            <a:chExt cx="2111400" cy="465120"/>
          </a:xfrm>
        </p:grpSpPr>
        <p:sp>
          <p:nvSpPr>
            <p:cNvPr id="702" name="AutoShape 363"/>
            <p:cNvSpPr/>
            <p:nvPr/>
          </p:nvSpPr>
          <p:spPr>
            <a:xfrm>
              <a:off x="3276720" y="1447920"/>
              <a:ext cx="2111400" cy="465120"/>
            </a:xfrm>
            <a:prstGeom prst="roundRect">
              <a:avLst>
                <a:gd name="adj" fmla="val 338"/>
              </a:avLst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Text Box 364"/>
            <p:cNvSpPr/>
            <p:nvPr/>
          </p:nvSpPr>
          <p:spPr>
            <a:xfrm>
              <a:off x="3276720" y="1447920"/>
              <a:ext cx="2111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ffff"/>
                  </a:solidFill>
                  <a:latin typeface="Arial"/>
                </a:rPr>
                <a:t>AIRBUS 340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04" name="Freeform 365"/>
          <p:cNvSpPr/>
          <p:nvPr/>
        </p:nvSpPr>
        <p:spPr>
          <a:xfrm>
            <a:off x="3662280" y="3025800"/>
            <a:ext cx="2530440" cy="2587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5" name="Group 366"/>
          <p:cNvGrpSpPr/>
          <p:nvPr/>
        </p:nvGrpSpPr>
        <p:grpSpPr>
          <a:xfrm>
            <a:off x="4267080" y="4724280"/>
            <a:ext cx="1501920" cy="306360"/>
            <a:chOff x="4267080" y="4724280"/>
            <a:chExt cx="1501920" cy="306360"/>
          </a:xfrm>
        </p:grpSpPr>
        <p:sp>
          <p:nvSpPr>
            <p:cNvPr id="706" name="AutoShape 367"/>
            <p:cNvSpPr/>
            <p:nvPr/>
          </p:nvSpPr>
          <p:spPr>
            <a:xfrm>
              <a:off x="4267080" y="4724280"/>
              <a:ext cx="1501920" cy="306360"/>
            </a:xfrm>
            <a:prstGeom prst="roundRect">
              <a:avLst>
                <a:gd name="adj" fmla="val 514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7" name="Text Box 368"/>
            <p:cNvSpPr/>
            <p:nvPr/>
          </p:nvSpPr>
          <p:spPr>
            <a:xfrm>
              <a:off x="4267080" y="4724280"/>
              <a:ext cx="1501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enter fuel tank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08" name="Line 369"/>
          <p:cNvSpPr/>
          <p:nvPr/>
        </p:nvSpPr>
        <p:spPr>
          <a:xfrm>
            <a:off x="6102360" y="3406680"/>
            <a:ext cx="450720" cy="192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9" name="Line 370"/>
          <p:cNvSpPr/>
          <p:nvPr/>
        </p:nvSpPr>
        <p:spPr>
          <a:xfrm flipH="1">
            <a:off x="1981080" y="3025800"/>
            <a:ext cx="930240" cy="13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0" name="Line 371"/>
          <p:cNvSpPr/>
          <p:nvPr/>
        </p:nvSpPr>
        <p:spPr>
          <a:xfrm flipH="1" flipV="1">
            <a:off x="1283760" y="2554200"/>
            <a:ext cx="101628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1" name="Group 372"/>
          <p:cNvGrpSpPr/>
          <p:nvPr/>
        </p:nvGrpSpPr>
        <p:grpSpPr>
          <a:xfrm>
            <a:off x="533520" y="1981080"/>
            <a:ext cx="757080" cy="263520"/>
            <a:chOff x="533520" y="1981080"/>
            <a:chExt cx="757080" cy="263520"/>
          </a:xfrm>
        </p:grpSpPr>
        <p:sp>
          <p:nvSpPr>
            <p:cNvPr id="712" name="AutoShape 373"/>
            <p:cNvSpPr/>
            <p:nvPr/>
          </p:nvSpPr>
          <p:spPr>
            <a:xfrm>
              <a:off x="533520" y="1981080"/>
              <a:ext cx="757080" cy="217440"/>
            </a:xfrm>
            <a:prstGeom prst="roundRect">
              <a:avLst>
                <a:gd name="adj" fmla="val 72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3" name="Text Box 374"/>
            <p:cNvSpPr/>
            <p:nvPr/>
          </p:nvSpPr>
          <p:spPr>
            <a:xfrm>
              <a:off x="533520" y="1981080"/>
              <a:ext cx="757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ckpit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4" name="Group 375"/>
          <p:cNvGrpSpPr/>
          <p:nvPr/>
        </p:nvGrpSpPr>
        <p:grpSpPr>
          <a:xfrm>
            <a:off x="7315200" y="4800600"/>
            <a:ext cx="811080" cy="393840"/>
            <a:chOff x="7315200" y="4800600"/>
            <a:chExt cx="811080" cy="393840"/>
          </a:xfrm>
        </p:grpSpPr>
        <p:sp>
          <p:nvSpPr>
            <p:cNvPr id="715" name="AutoShape 376"/>
            <p:cNvSpPr/>
            <p:nvPr/>
          </p:nvSpPr>
          <p:spPr>
            <a:xfrm>
              <a:off x="7315200" y="4800600"/>
              <a:ext cx="811080" cy="393840"/>
            </a:xfrm>
            <a:prstGeom prst="roundRect">
              <a:avLst>
                <a:gd name="adj" fmla="val 4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6" name="Text Box 377"/>
            <p:cNvSpPr/>
            <p:nvPr/>
          </p:nvSpPr>
          <p:spPr>
            <a:xfrm>
              <a:off x="7315200" y="4800600"/>
              <a:ext cx="811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ol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7" name="Line 378"/>
          <p:cNvSpPr/>
          <p:nvPr/>
        </p:nvSpPr>
        <p:spPr>
          <a:xfrm flipH="1">
            <a:off x="3276360" y="2895480"/>
            <a:ext cx="941400" cy="15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8" name="Freeform 379"/>
          <p:cNvSpPr/>
          <p:nvPr/>
        </p:nvSpPr>
        <p:spPr>
          <a:xfrm>
            <a:off x="8121600" y="2513160"/>
            <a:ext cx="147600" cy="10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9" name="Freeform 380"/>
          <p:cNvSpPr/>
          <p:nvPr/>
        </p:nvSpPr>
        <p:spPr>
          <a:xfrm>
            <a:off x="7008840" y="2550960"/>
            <a:ext cx="2376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0" name="Freeform 381"/>
          <p:cNvSpPr/>
          <p:nvPr/>
        </p:nvSpPr>
        <p:spPr>
          <a:xfrm>
            <a:off x="6978600" y="3508200"/>
            <a:ext cx="7308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1" name="Freeform 382"/>
          <p:cNvSpPr/>
          <p:nvPr/>
        </p:nvSpPr>
        <p:spPr>
          <a:xfrm>
            <a:off x="6993000" y="3440160"/>
            <a:ext cx="4608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2" name="AutoShape 383"/>
          <p:cNvSpPr/>
          <p:nvPr/>
        </p:nvSpPr>
        <p:spPr>
          <a:xfrm>
            <a:off x="609480" y="1270080"/>
            <a:ext cx="7731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3" name="Text Box 384"/>
          <p:cNvSpPr/>
          <p:nvPr/>
        </p:nvSpPr>
        <p:spPr>
          <a:xfrm>
            <a:off x="594720" y="12787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4" name="Text Box 385"/>
          <p:cNvSpPr/>
          <p:nvPr/>
        </p:nvSpPr>
        <p:spPr>
          <a:xfrm>
            <a:off x="3048120" y="152280"/>
            <a:ext cx="59436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Dosimetry applications: doses to aircrew and passenger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Text Box 386"/>
          <p:cNvSpPr/>
          <p:nvPr/>
        </p:nvSpPr>
        <p:spPr>
          <a:xfrm>
            <a:off x="6779160" y="3733920"/>
            <a:ext cx="2099520" cy="8244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2286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errari et al,  Rad. Prot.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osim. 108, 91 (2004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665-5B47-4869-A4D7-664E4E538C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75564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27" name="Group 3"/>
          <p:cNvGrpSpPr/>
          <p:nvPr/>
        </p:nvGrpSpPr>
        <p:grpSpPr>
          <a:xfrm>
            <a:off x="401760" y="1511280"/>
            <a:ext cx="4177080" cy="3404880"/>
            <a:chOff x="401760" y="1511280"/>
            <a:chExt cx="4177080" cy="3404880"/>
          </a:xfrm>
        </p:grpSpPr>
        <p:pic>
          <p:nvPicPr>
            <p:cNvPr id="728" name="Picture 4" descr="proton"/>
            <p:cNvPicPr/>
            <p:nvPr/>
          </p:nvPicPr>
          <p:blipFill>
            <a:blip r:embed="rId1"/>
            <a:stretch/>
          </p:blipFill>
          <p:spPr>
            <a:xfrm>
              <a:off x="401760" y="1511280"/>
              <a:ext cx="4177080" cy="34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"/>
            <p:cNvSpPr/>
            <p:nvPr/>
          </p:nvSpPr>
          <p:spPr>
            <a:xfrm rot="19755600">
              <a:off x="444960" y="2571480"/>
              <a:ext cx="41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cfdbfd"/>
                  </a:solidFill>
                  <a:latin typeface="Arial"/>
                  <a:ea typeface="Arial"/>
                </a:rPr>
                <a:t>Preliminary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30" name="Text Box 6"/>
          <p:cNvSpPr/>
          <p:nvPr/>
        </p:nvSpPr>
        <p:spPr>
          <a:xfrm rot="19570200">
            <a:off x="5499360" y="277740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dbfd"/>
                </a:solidFill>
                <a:latin typeface="Comic Sans MS"/>
                <a:ea typeface="Arial"/>
              </a:rPr>
              <a:t>Preliminar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5622840" y="3557520"/>
            <a:ext cx="133560" cy="2412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32" name="Picture 8" descr=""/>
          <p:cNvPicPr/>
          <p:nvPr/>
        </p:nvPicPr>
        <p:blipFill>
          <a:blip r:embed="rId2"/>
          <a:stretch/>
        </p:blipFill>
        <p:spPr>
          <a:xfrm>
            <a:off x="4541760" y="1620720"/>
            <a:ext cx="4278240" cy="3456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"/>
          <p:cNvPicPr/>
          <p:nvPr/>
        </p:nvPicPr>
        <p:blipFill>
          <a:blip r:embed="rId3"/>
          <a:stretch/>
        </p:blipFill>
        <p:spPr>
          <a:xfrm>
            <a:off x="4626000" y="1741320"/>
            <a:ext cx="2690640" cy="1729080"/>
          </a:xfrm>
          <a:prstGeom prst="rect">
            <a:avLst/>
          </a:prstGeom>
          <a:ln w="0">
            <a:noFill/>
          </a:ln>
        </p:spPr>
      </p:pic>
      <p:sp>
        <p:nvSpPr>
          <p:cNvPr id="734" name="AutoShape 10"/>
          <p:cNvSpPr/>
          <p:nvPr/>
        </p:nvSpPr>
        <p:spPr>
          <a:xfrm rot="993600">
            <a:off x="5609880" y="3467160"/>
            <a:ext cx="428760" cy="739800"/>
          </a:xfrm>
          <a:prstGeom prst="upArrow">
            <a:avLst>
              <a:gd name="adj1" fmla="val 50000"/>
              <a:gd name="adj2" fmla="val 43136"/>
            </a:avLst>
          </a:prstGeom>
          <a:solidFill>
            <a:srgbClr val="cfdbfd">
              <a:alpha val="68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7812000" y="1830240"/>
            <a:ext cx="960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LUK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1236600" y="5108400"/>
            <a:ext cx="326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Exp. Data (points) </a:t>
            </a:r>
            <a:r>
              <a:rPr b="0" i="1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taken at HIT</a:t>
            </a:r>
            <a:r>
              <a:rPr b="0" i="1" lang="en-GB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: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D. Schardt, </a:t>
            </a:r>
            <a:r>
              <a:rPr b="0" i="1" lang="it-IT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P. Steidl,</a:t>
            </a:r>
            <a:r>
              <a:rPr b="0" lang="it-IT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 </a:t>
            </a:r>
            <a:r>
              <a:rPr b="0" i="1" lang="en-GB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 K. Parodi, S. Brons et al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Simulation: K. Parodi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816912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Experimental validation against measured Bragg curve in Proton and Carbon ion therapy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4816440" y="5084640"/>
            <a:ext cx="3730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40458c"/>
                </a:solidFill>
                <a:latin typeface="Comic Sans MS"/>
                <a:ea typeface="SimSun"/>
              </a:rPr>
              <a:t>Exp. Data (points)  from Haettner et al, Rad. Prot. Dos. 2006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40458c"/>
                </a:solidFill>
                <a:latin typeface="Comic Sans MS"/>
                <a:ea typeface="SimSun"/>
              </a:rPr>
              <a:t>Simulation: A. Mairani,   PhD Thesis, Pavia, 2007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539640" y="1062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Comic Sans MS"/>
                <a:ea typeface="Arial"/>
              </a:rPr>
              <a:t>Protons (183 MeV/u) in Wate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4788000" y="988920"/>
            <a:ext cx="39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6633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C ions (400 MeV/u) in Wate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F08-DCEE-4569-8BB1-4B918E5A35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2360" y="475920"/>
            <a:ext cx="82803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mic Sans MS"/>
              </a:rPr>
              <a:t>Using the information from the patient CT in the MC I</a:t>
            </a:r>
            <a:endParaRPr b="0" lang="en-US" sz="2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4360" y="1846080"/>
            <a:ext cx="4695840" cy="25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KA can embed voxel structures within its standard combinatorial geomet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port through the voxels is optimized and effici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aw CT-scan outputs can be impor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43" name="Picture 4" descr=""/>
          <p:cNvPicPr/>
          <p:nvPr/>
        </p:nvPicPr>
        <p:blipFill>
          <a:blip r:embed="rId1"/>
          <a:stretch/>
        </p:blipFill>
        <p:spPr>
          <a:xfrm>
            <a:off x="6934320" y="1243080"/>
            <a:ext cx="1447560" cy="51051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5"/>
          <p:cNvSpPr/>
          <p:nvPr/>
        </p:nvSpPr>
        <p:spPr>
          <a:xfrm>
            <a:off x="52419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 rot="16200000">
            <a:off x="4371120" y="3172320"/>
            <a:ext cx="42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The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GOLEM phantom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Petoussi-Henss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et al, 200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2771640" y="90792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The Voxel Geometr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606-5092-4466-A8AB-95BAEC8D24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12720" y="188640"/>
            <a:ext cx="820728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ton therapy: MC vs Focus/XiO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or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livus      Chordoma Patient at MGH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48" name="Picture 3" descr="dose_MC"/>
          <p:cNvPicPr/>
          <p:nvPr/>
        </p:nvPicPr>
        <p:blipFill>
          <a:blip r:embed="rId1"/>
          <a:stretch/>
        </p:blipFill>
        <p:spPr>
          <a:xfrm>
            <a:off x="4645080" y="1204920"/>
            <a:ext cx="4287960" cy="38098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dose_TP"/>
          <p:cNvPicPr/>
          <p:nvPr/>
        </p:nvPicPr>
        <p:blipFill>
          <a:blip r:embed="rId2"/>
          <a:stretch/>
        </p:blipFill>
        <p:spPr>
          <a:xfrm>
            <a:off x="324000" y="1224000"/>
            <a:ext cx="4287600" cy="380988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5"/>
          <p:cNvSpPr/>
          <p:nvPr/>
        </p:nvSpPr>
        <p:spPr>
          <a:xfrm>
            <a:off x="1099800" y="16239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Treatment Plannin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6231240" y="16239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LUK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455760" y="5259240"/>
            <a:ext cx="78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Prescribed dose: 1 GyE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MC : ~ 5.5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 protons in 10 independent runs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        (11h each on Linux Cluster mostly using 2.2GHz Athlon processors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3456720" y="493092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40458c"/>
                </a:solidFill>
                <a:latin typeface="Comic Sans MS"/>
                <a:ea typeface="Arial"/>
              </a:rPr>
              <a:t>Parodi et al, JPCS 74, 2007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467880" y="155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m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7712640" y="155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Comic Sans MS"/>
                <a:ea typeface="Arial"/>
              </a:rPr>
              <a:t>m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ED4-0E01-4850-ACAC-5F980529F7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he FLUKA mailing lis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72760" y="96192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fluka-users@fluka.or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rs are automatically subscribed here when registering on the web site. It is used to communicate the availability of new versions, patche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fluka-discuss@fluka.or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rs are encouraged to subscribe at registration timed, but can uncheck the relevant box. It is used to have user-user and user-expert communication about problems, bugs, general inquiries about the code and its physics cont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sers are strongly encouraged to keep this subscrip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9B3-E49D-4458-BFD2-40C7F209DA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de complexit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657360" y="1011240"/>
            <a:ext cx="81388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elastic h-N: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72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oss sections (h-N and h-A), and elastic (h-N and h-A): </a:t>
            </a:r>
            <a:r>
              <a:rPr b="1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32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)INC and preequilibrium (PEANUT): </a:t>
            </a:r>
            <a:r>
              <a:rPr b="1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14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ap./Fragm./Fission/Deexc.: </a:t>
            </a:r>
            <a:r>
              <a:rPr b="1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7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N interactions: </a:t>
            </a:r>
            <a:r>
              <a:rPr b="1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35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-A interactions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KA native (including BME):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8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PMJET-3: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130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dified) rQMD-2.4: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42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FLUKA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in total (including transport, EM, geometry, scoring): </a:t>
            </a:r>
            <a:r>
              <a:rPr b="1" i="1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6666"/>
                </a:solidFill>
                <a:latin typeface="Tahoma"/>
              </a:rPr>
              <a:t>680000 li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+ </a:t>
            </a:r>
            <a:r>
              <a:rPr b="1" i="1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6666"/>
                </a:solidFill>
                <a:latin typeface="Tahoma"/>
              </a:rPr>
              <a:t>20000 lines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of ancillary off-line codes used for data pre-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and </a:t>
            </a:r>
            <a:r>
              <a:rPr b="1" i="1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006666"/>
                </a:solidFill>
                <a:latin typeface="Tahoma"/>
              </a:rPr>
              <a:t>30000 lines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of post-processing co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63A-BD28-4E4A-99E1-13C8C65CB4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833560" y="2522520"/>
            <a:ext cx="392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end</a:t>
            </a:r>
            <a:endParaRPr b="0" lang="en-US" sz="8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1E0-7DA2-47B2-BB0A-BBE22ED1B9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NGSlayout_2001p"/>
          <p:cNvPicPr/>
          <p:nvPr/>
        </p:nvPicPr>
        <p:blipFill>
          <a:blip r:embed="rId1"/>
          <a:stretch/>
        </p:blipFill>
        <p:spPr>
          <a:xfrm>
            <a:off x="425520" y="4559400"/>
            <a:ext cx="5297400" cy="1739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LUKA Applica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3280" y="1319040"/>
            <a:ext cx="864072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smic ray physic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utrino physic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ccelerator design (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n_ToF, CNGS, LHC systems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article physics: calorimetry, tracking and detector simulation etc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ALICE, ICARUS, ...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DS systems, waste transmutation, (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”Energy amplifier”, FEAT, TARC,…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hielding desig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simetry and radioprotec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pace radi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adrontherap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utronic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4" name="Picture 9" descr="LossRegionsLHC"/>
          <p:cNvPicPr/>
          <p:nvPr/>
        </p:nvPicPr>
        <p:blipFill>
          <a:blip r:embed="rId2"/>
          <a:stretch/>
        </p:blipFill>
        <p:spPr>
          <a:xfrm>
            <a:off x="5581800" y="85680"/>
            <a:ext cx="3582720" cy="230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12270330"/>
          <p:cNvPicPr/>
          <p:nvPr/>
        </p:nvPicPr>
        <p:blipFill>
          <a:blip r:embed="rId3"/>
          <a:srcRect l="6544" t="36647" r="10295" b="7293"/>
          <a:stretch/>
        </p:blipFill>
        <p:spPr>
          <a:xfrm>
            <a:off x="5686560" y="3086280"/>
            <a:ext cx="3271680" cy="3124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NEW"/>
          <p:cNvPicPr/>
          <p:nvPr/>
        </p:nvPicPr>
        <p:blipFill>
          <a:blip r:embed="rId4"/>
          <a:stretch/>
        </p:blipFill>
        <p:spPr>
          <a:xfrm>
            <a:off x="2771640" y="1628640"/>
            <a:ext cx="28764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E1B-7587-4089-AEAC-CD6959EEA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he FLUKA Code design - 1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7200" y="769680"/>
            <a:ext cx="834876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Sound and updated physics model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ased, as far as possible, on original and well-tested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microscopic mode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Optimized by comparing with experimental data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t single interaction level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: </a:t>
            </a:r>
            <a:r>
              <a:rPr b="1" i="1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“</a:t>
            </a:r>
            <a:r>
              <a:rPr b="1" i="1" lang="en-US" sz="1600" spc="-1" strike="noStrike" u="sng">
                <a:solidFill>
                  <a:srgbClr val="800080"/>
                </a:solidFill>
                <a:uFillTx/>
                <a:latin typeface="Tahoma"/>
              </a:rPr>
              <a:t>theory driven, benchmarked with data</a:t>
            </a:r>
            <a:r>
              <a:rPr b="1" i="1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inal predictions obtained with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minimal free parameters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ixed for all energies, targets and projectil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asic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onservation laws fulfilled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 prior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8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ahoma"/>
              </a:rPr>
              <a:t>Results in complex cases, as well as properties and scaling laws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rise naturally from the underlying physical mode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80"/>
                </a:solidFill>
                <a:latin typeface="Wingdings"/>
                <a:ea typeface="Wingdings"/>
              </a:rPr>
              <a:t></a:t>
            </a:r>
            <a:r>
              <a:rPr b="0" i="1" lang="en-US" sz="1600" spc="-1" strike="noStrike">
                <a:solidFill>
                  <a:srgbClr val="800080"/>
                </a:solidFill>
                <a:latin typeface="Tahoma"/>
                <a:ea typeface="Arial Unicode MS"/>
              </a:rPr>
              <a:t> </a:t>
            </a:r>
            <a:r>
              <a:rPr b="1" i="1" lang="en-US" sz="1600" spc="-1" strike="noStrike" u="sng">
                <a:solidFill>
                  <a:srgbClr val="800080"/>
                </a:solidFill>
                <a:uFillTx/>
                <a:latin typeface="Tahoma"/>
                <a:ea typeface="Arial Unicode MS"/>
              </a:rPr>
              <a:t>Predictivity where no experimental data are directly availab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57280" y="5016600"/>
            <a:ext cx="82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It is a “condensed history” MC code, with the possibility use of single instead of multiple scatteri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0D8-6A9A-4520-AAF8-0524A0CC1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he FLUKA Code design -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5240" y="985680"/>
            <a:ext cx="774216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lf-consisten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ull cross-talk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between all components: hadronic, electromagnetic, neutrons,  muons, heavy 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ffort to achieve th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me level of accuracy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or each compon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or all energi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rrelations</a:t>
            </a: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reserved fully</a:t>
            </a: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ithin interactions</a:t>
            </a: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mong shower componen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0080"/>
                </a:solidFill>
                <a:uFillTx/>
                <a:latin typeface="Tahoma"/>
              </a:rPr>
              <a:t>FLUKA is NOT a toolkit! Its physical models are fully integra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6DC-2B99-4177-B2BC-3775240BB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he Physics Content of FLUK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800280" y="1189080"/>
            <a:ext cx="832932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Nucleus-nucleus interactions 100 MeV/n </a:t>
            </a:r>
            <a:r>
              <a:rPr b="0" lang="en-US" sz="2100" spc="-1" strike="noStrike">
                <a:solidFill>
                  <a:srgbClr val="006600"/>
                </a:solidFill>
                <a:latin typeface="Tahoma"/>
                <a:ea typeface="Arial"/>
              </a:rPr>
              <a:t>– </a:t>
            </a: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10000 TeV/n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      </a:t>
            </a:r>
            <a:r>
              <a:rPr b="0" lang="en-US" sz="2100" spc="-1" strike="noStrike">
                <a:solidFill>
                  <a:srgbClr val="ff0066"/>
                </a:solidFill>
                <a:latin typeface="Tahoma"/>
              </a:rPr>
              <a:t>New model (BME, under development): from Coulomb Barrier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cc"/>
                </a:solidFill>
                <a:latin typeface="Tahoma"/>
              </a:rPr>
              <a:t>Electromagnetic and </a:t>
            </a:r>
            <a:r>
              <a:rPr b="0" lang="el-GR" sz="2100" spc="-1" strike="noStrike">
                <a:solidFill>
                  <a:srgbClr val="0000cc"/>
                </a:solidFill>
                <a:latin typeface="Tahoma"/>
                <a:ea typeface="Arial"/>
              </a:rPr>
              <a:t>μ</a:t>
            </a:r>
            <a:r>
              <a:rPr b="0" lang="en-US" sz="2100" spc="-1" strike="noStrike">
                <a:solidFill>
                  <a:srgbClr val="0000cc"/>
                </a:solidFill>
                <a:latin typeface="Tahoma"/>
                <a:ea typeface="Arial"/>
              </a:rPr>
              <a:t> interactions 1 keV –  </a:t>
            </a:r>
            <a:r>
              <a:rPr b="0" lang="en-US" sz="2100" spc="-1" strike="noStrike">
                <a:solidFill>
                  <a:srgbClr val="0000cc"/>
                </a:solidFill>
                <a:latin typeface="Tahoma"/>
              </a:rPr>
              <a:t>10000 TeV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Hadron-hadron and hadron-nucleus interactions 0</a:t>
            </a:r>
            <a:r>
              <a:rPr b="0" lang="en-US" sz="2100" spc="-1" strike="noStrike">
                <a:solidFill>
                  <a:srgbClr val="b2b2b2"/>
                </a:solidFill>
                <a:latin typeface="Tahoma"/>
                <a:ea typeface="Arial"/>
              </a:rPr>
              <a:t>–</a:t>
            </a: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10000 TeV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Neutrino interactions</a:t>
            </a:r>
            <a:r>
              <a:rPr b="0" lang="en-US" sz="2100" spc="-1" strike="noStrike">
                <a:solidFill>
                  <a:srgbClr val="b2b2b2"/>
                </a:solidFill>
                <a:latin typeface="Tahoma"/>
              </a:rPr>
              <a:t>          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Tahoma"/>
              </a:rPr>
              <a:t>(new DIS and RES generator!)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Charged particle transport including all relevant processes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ransport in magnetic field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eutron multigroup transport and interactions 0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Arial"/>
              </a:rPr>
              <a:t>– 20 MeV</a:t>
            </a:r>
            <a:r>
              <a:rPr b="0" lang="en-US" sz="2100" spc="-1" strike="noStrike">
                <a:solidFill>
                  <a:srgbClr val="b2b2b2"/>
                </a:solidFill>
                <a:latin typeface="Tahoma"/>
                <a:ea typeface="Arial"/>
              </a:rPr>
              <a:t> 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  <a:ea typeface="Arial Unicode MS"/>
              </a:rPr>
              <a:t>Analog calculations, or with variance reduction</a:t>
            </a:r>
            <a:endParaRPr b="0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4" name="Picture 4" descr="NEW"/>
          <p:cNvPicPr/>
          <p:nvPr/>
        </p:nvPicPr>
        <p:blipFill>
          <a:blip r:embed="rId1"/>
          <a:stretch/>
        </p:blipFill>
        <p:spPr>
          <a:xfrm>
            <a:off x="4081320" y="2814480"/>
            <a:ext cx="441360" cy="439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211560" y="4863960"/>
            <a:ext cx="3538800" cy="441360"/>
            <a:chOff x="3211560" y="4863960"/>
            <a:chExt cx="3538800" cy="441360"/>
          </a:xfrm>
        </p:grpSpPr>
        <p:pic>
          <p:nvPicPr>
            <p:cNvPr id="136" name="Picture 5" descr="NEW"/>
            <p:cNvPicPr/>
            <p:nvPr/>
          </p:nvPicPr>
          <p:blipFill>
            <a:blip r:embed="rId2"/>
            <a:stretch/>
          </p:blipFill>
          <p:spPr>
            <a:xfrm>
              <a:off x="3211560" y="4863960"/>
              <a:ext cx="444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8"/>
            <p:cNvSpPr/>
            <p:nvPr/>
          </p:nvSpPr>
          <p:spPr>
            <a:xfrm>
              <a:off x="3565800" y="4890960"/>
              <a:ext cx="31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new library with 260 groups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475-9A5B-4128-B001-8A9ADED53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5960" y="2965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 glimpse of FLU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0E1-5C76-4CB8-A115-F2550ABA53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he FLUKA ver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979560"/>
            <a:ext cx="792504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LUKA</a:t>
            </a: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2008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x)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(.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441880" y="258300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Major versi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903840" y="2131560"/>
            <a:ext cx="803160" cy="5540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5146560" y="2095560"/>
            <a:ext cx="568440" cy="15364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655080" y="349740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Minor versi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 flipV="1">
            <a:off x="6053040" y="2085480"/>
            <a:ext cx="720720" cy="13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432480" y="3540240"/>
            <a:ext cx="12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ch level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2040" y="4429080"/>
            <a:ext cx="84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Since 2006 each version is going to be maintained for 2 years max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640" y="4968720"/>
            <a:ext cx="78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this course we are using  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FLUKA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2008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3.6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857640" y="2184120"/>
            <a:ext cx="863640" cy="89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52400" y="3024360"/>
            <a:ext cx="18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Respi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B05-BB90-4FA3-BC72-5B899E51C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Battistoni</cp:lastModifiedBy>
  <dcterms:modified xsi:type="dcterms:W3CDTF">2009-02-04T11:46:17Z</dcterms:modified>
  <cp:revision>2</cp:revision>
  <dc:subject/>
  <dc:title>An introduction to FLUKA. </dc:title>
</cp:coreProperties>
</file>