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"/>
          <p:cNvSpPr/>
          <p:nvPr/>
        </p:nvSpPr>
        <p:spPr>
          <a:xfrm>
            <a:off x="0" y="0"/>
            <a:ext cx="6732720" cy="9856800"/>
          </a:xfrm>
          <a:custGeom>
            <a:avLst/>
            <a:gdLst>
              <a:gd name="textAreaLeft" fmla="*/ 360 w 6732720"/>
              <a:gd name="textAreaRight" fmla="*/ 6732360 w 67327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22">
                <a:moveTo>
                  <a:pt x="5" y="0"/>
                </a:moveTo>
                <a:arcTo wR="5" hR="5" stAng="16200000" swAng="-5400000"/>
                <a:lnTo>
                  <a:pt x="0" y="31617"/>
                </a:lnTo>
                <a:arcTo wR="5" hR="5" stAng="10800000" swAng="-5400000"/>
                <a:lnTo>
                  <a:pt x="21595" y="3162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52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00160" y="0"/>
            <a:ext cx="2963880" cy="52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909360" y="757080"/>
            <a:ext cx="4948200" cy="371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0280" cy="43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9394920"/>
            <a:ext cx="2887560" cy="4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00160" y="9394920"/>
            <a:ext cx="2963880" cy="4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095C3-62E4-4B83-A5D1-366738FEE4D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00520" y="9394920"/>
            <a:ext cx="2963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8E0FD-8789-4A58-AAD6-6096BBC340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909720" y="757080"/>
            <a:ext cx="4949640" cy="37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00520" y="9394920"/>
            <a:ext cx="2963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312D1-D878-4875-939C-E602DD66FD9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909720" y="757080"/>
            <a:ext cx="4949640" cy="37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00520" y="9394920"/>
            <a:ext cx="2963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4D285-5539-4759-B23E-20F312BDCA5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909720" y="757080"/>
            <a:ext cx="4949640" cy="37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76BE-7B84-4D04-B29D-8EEE33BE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0960" cy="6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792324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120" y="3848400"/>
            <a:ext cx="792324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6D0C-8020-4DEC-B5DC-C2FC40A5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0960" cy="6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86640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9200" y="1142640"/>
            <a:ext cx="386640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3848400"/>
            <a:ext cx="386640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9200" y="3848400"/>
            <a:ext cx="386640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DCD4-6F57-4004-AABA-70F9960A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0960" cy="6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255096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87880" y="1142640"/>
            <a:ext cx="255096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7000" y="1142640"/>
            <a:ext cx="255096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120" y="3848400"/>
            <a:ext cx="255096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87880" y="3848400"/>
            <a:ext cx="255096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7000" y="3848400"/>
            <a:ext cx="255096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07AB-8D25-409B-BB72-D8AC5B59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18BE-AE3C-4DF0-A062-7169E3B1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0960" cy="6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79232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2C6A-1953-438C-8F1F-AEC26A31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0960" cy="6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7923240" cy="51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14E5-8509-4501-ABBF-57553782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0960" cy="6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866400" cy="51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200" y="1142640"/>
            <a:ext cx="3866400" cy="51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163E-9BFF-4796-85DC-DAF165B0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0960" cy="6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966B-8A43-458F-B480-52D7B786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272880"/>
            <a:ext cx="777096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E84C-D532-43E9-8CA9-FD101B9C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0960" cy="6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86640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142640"/>
            <a:ext cx="3866400" cy="51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848400"/>
            <a:ext cx="386640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7ACD-2035-45ED-B22B-7C285A3E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0960" cy="6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79232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9A2A-3E89-4199-88DC-8979835C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0960" cy="6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866400" cy="51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200" y="1142640"/>
            <a:ext cx="386640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9200" y="3848400"/>
            <a:ext cx="386640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2B69-A4AA-4DC5-BF19-FE6452D7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0960" cy="6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86640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9200" y="1142640"/>
            <a:ext cx="386640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120" y="3848400"/>
            <a:ext cx="792324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77BA-DF54-4A7F-8D03-09D18D05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0960" cy="6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792324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9120" y="3848400"/>
            <a:ext cx="792324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509A-FEA8-46F3-B85C-B62060D4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0960" cy="6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86640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9200" y="1142640"/>
            <a:ext cx="386640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3848400"/>
            <a:ext cx="386640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9200" y="3848400"/>
            <a:ext cx="386640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A037-BE3F-4568-BDA7-D847908F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0960" cy="6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255096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87880" y="1142640"/>
            <a:ext cx="255096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67000" y="1142640"/>
            <a:ext cx="255096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09120" y="3848400"/>
            <a:ext cx="255096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87880" y="3848400"/>
            <a:ext cx="255096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67000" y="3848400"/>
            <a:ext cx="255096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AA9C-197F-4A4A-8E8A-10086EDF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0960" cy="6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7923240" cy="51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4E0D-832A-4415-B9A9-51695E33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0960" cy="6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866400" cy="51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200" y="1142640"/>
            <a:ext cx="3866400" cy="51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C0FB-CEF4-447E-A214-B75627C1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0960" cy="6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AE46-F918-4432-917B-10730157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272880"/>
            <a:ext cx="777096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E20B-5311-400F-B430-E9BB9E4F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0960" cy="6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86640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142640"/>
            <a:ext cx="3866400" cy="51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3848400"/>
            <a:ext cx="386640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576E-BDFA-49E1-A64C-BD1ADA1E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0960" cy="6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866400" cy="51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200" y="1142640"/>
            <a:ext cx="386640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9200" y="3848400"/>
            <a:ext cx="386640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5FE4-DE77-4C03-AA49-B0D0E54B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0960" cy="6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86640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200" y="1142640"/>
            <a:ext cx="386640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848400"/>
            <a:ext cx="7923240" cy="24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236A-9DF1-4AD0-A9AE-772231A0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8839080" y="0"/>
            <a:ext cx="1800" cy="23623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304920" y="533520"/>
            <a:ext cx="1892160" cy="2589120"/>
            <a:chOff x="304920" y="533520"/>
            <a:chExt cx="1892160" cy="2589120"/>
          </a:xfrm>
        </p:grpSpPr>
        <p:sp>
          <p:nvSpPr>
            <p:cNvPr id="3" name="Line 4"/>
            <p:cNvSpPr/>
            <p:nvPr/>
          </p:nvSpPr>
          <p:spPr>
            <a:xfrm flipH="1">
              <a:off x="304920" y="898200"/>
              <a:ext cx="1892160" cy="108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Line 5"/>
            <p:cNvSpPr/>
            <p:nvPr/>
          </p:nvSpPr>
          <p:spPr>
            <a:xfrm>
              <a:off x="608760" y="533520"/>
              <a:ext cx="1080" cy="25891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516960" y="802800"/>
              <a:ext cx="191520" cy="193320"/>
            </a:xfrm>
            <a:prstGeom prst="pie">
              <a:avLst/>
            </a:prstGeom>
            <a:noFill/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0960" cy="6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7923240" cy="51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440" y="6400800"/>
            <a:ext cx="1903320" cy="30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627280" y="6248160"/>
            <a:ext cx="446400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6th FLUKA Course, CERN, June 23-27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934320" y="6400800"/>
            <a:ext cx="1598400" cy="30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A30291-42F3-4546-81D8-C4CDB77741FE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"/>
          <p:cNvGrpSpPr/>
          <p:nvPr/>
        </p:nvGrpSpPr>
        <p:grpSpPr>
          <a:xfrm>
            <a:off x="1440" y="887400"/>
            <a:ext cx="6652800" cy="2849400"/>
            <a:chOff x="1440" y="887400"/>
            <a:chExt cx="6652800" cy="2849400"/>
          </a:xfrm>
        </p:grpSpPr>
        <p:sp>
          <p:nvSpPr>
            <p:cNvPr id="48" name="Line 2"/>
            <p:cNvSpPr/>
            <p:nvPr/>
          </p:nvSpPr>
          <p:spPr>
            <a:xfrm>
              <a:off x="803880" y="887400"/>
              <a:ext cx="1440" cy="284940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Line 3"/>
            <p:cNvSpPr/>
            <p:nvPr/>
          </p:nvSpPr>
          <p:spPr>
            <a:xfrm flipH="1" flipV="1">
              <a:off x="1440" y="3048120"/>
              <a:ext cx="5096880" cy="43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Line 4"/>
            <p:cNvSpPr/>
            <p:nvPr/>
          </p:nvSpPr>
          <p:spPr>
            <a:xfrm flipH="1" flipV="1">
              <a:off x="605160" y="1483560"/>
              <a:ext cx="6049080" cy="43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AutoShape 5"/>
            <p:cNvSpPr/>
            <p:nvPr/>
          </p:nvSpPr>
          <p:spPr>
            <a:xfrm rot="16200000">
              <a:off x="676080" y="1371600"/>
              <a:ext cx="247320" cy="248760"/>
            </a:xfrm>
            <a:prstGeom prst="pie">
              <a:avLst/>
            </a:prstGeom>
            <a:noFill/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" name="Group 6"/>
          <p:cNvGrpSpPr/>
          <p:nvPr/>
        </p:nvGrpSpPr>
        <p:grpSpPr>
          <a:xfrm>
            <a:off x="2349360" y="3098880"/>
            <a:ext cx="6043680" cy="2874960"/>
            <a:chOff x="2349360" y="3098880"/>
            <a:chExt cx="6043680" cy="2874960"/>
          </a:xfrm>
        </p:grpSpPr>
        <p:sp>
          <p:nvSpPr>
            <p:cNvPr id="53" name="Line 7"/>
            <p:cNvSpPr/>
            <p:nvPr/>
          </p:nvSpPr>
          <p:spPr>
            <a:xfrm>
              <a:off x="2349360" y="5462640"/>
              <a:ext cx="6043680" cy="144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8"/>
            <p:cNvSpPr/>
            <p:nvPr/>
          </p:nvSpPr>
          <p:spPr>
            <a:xfrm>
              <a:off x="8208720" y="3098880"/>
              <a:ext cx="1080" cy="28749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AutoShape 9"/>
            <p:cNvSpPr/>
            <p:nvPr/>
          </p:nvSpPr>
          <p:spPr>
            <a:xfrm rot="5400000">
              <a:off x="8093520" y="5317200"/>
              <a:ext cx="247320" cy="249120"/>
            </a:xfrm>
            <a:prstGeom prst="pie">
              <a:avLst/>
            </a:prstGeom>
            <a:noFill/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175068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C9017-1E1A-451A-A4E5-B5FE6B9C809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169992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Exercise 5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06" name="Picture 8" descr="logo3000x2000"/>
          <p:cNvPicPr/>
          <p:nvPr/>
        </p:nvPicPr>
        <p:blipFill>
          <a:blip r:embed="rId1"/>
          <a:stretch/>
        </p:blipFill>
        <p:spPr>
          <a:xfrm>
            <a:off x="6242040" y="0"/>
            <a:ext cx="2901960" cy="1054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411280" y="443700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 algn="ctr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45th Karpacz Winter School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eb. 2-8,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Ex #5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925040" cy="54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wnload ex4.inp into the ex5 direc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rename it to ex5.inp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open it using FLAI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dd a </a:t>
            </a:r>
            <a:r>
              <a:rPr b="0" lang="en-GB" sz="2000" spc="-1" strike="noStrike" u="sng">
                <a:solidFill>
                  <a:srgbClr val="40458c"/>
                </a:solidFill>
                <a:uFillTx/>
                <a:latin typeface="Tahoma"/>
              </a:rPr>
              <a:t>boundary crossing scoring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from target segment 2 (aluminum)</a:t>
            </a:r>
            <a:br>
              <a:rPr sz="2000"/>
            </a:b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o target segment 3 (lead)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Aft>
                <a:spcPts val="1250"/>
              </a:spcAft>
              <a:buClr>
                <a:srgbClr val="6f89f7"/>
              </a:buClr>
              <a:buSzPct val="8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800000"/>
                </a:solidFill>
                <a:latin typeface="Tahoma"/>
              </a:rPr>
              <a:t>to get </a:t>
            </a:r>
            <a:r>
              <a:rPr b="0" i="1" lang="en-GB" sz="2000" spc="-1" strike="noStrike" u="sng">
                <a:solidFill>
                  <a:srgbClr val="800000"/>
                </a:solidFill>
                <a:uFillTx/>
                <a:latin typeface="Tahoma"/>
              </a:rPr>
              <a:t>fluence</a:t>
            </a:r>
            <a:r>
              <a:rPr b="0" i="1" lang="en-GB" sz="2000" spc="-1" strike="noStrike">
                <a:solidFill>
                  <a:srgbClr val="800000"/>
                </a:solidFill>
                <a:latin typeface="Tahoma"/>
              </a:rPr>
              <a:t> of electrons and positrons with log-E bins </a:t>
            </a:r>
            <a:br>
              <a:rPr sz="2000"/>
            </a:br>
            <a:r>
              <a:rPr b="0" i="1" lang="en-GB" sz="2000" spc="-1" strike="noStrike">
                <a:solidFill>
                  <a:srgbClr val="800000"/>
                </a:solidFill>
                <a:latin typeface="Tahoma"/>
              </a:rPr>
              <a:t>(find a suitable energy range and # of bins) with 1 angular bin</a:t>
            </a:r>
            <a:br>
              <a:rPr sz="2000"/>
            </a:br>
            <a:r>
              <a:rPr b="0" i="1" lang="en-GB" sz="2000" spc="-1" strike="noStrike">
                <a:solidFill>
                  <a:srgbClr val="800000"/>
                </a:solidFill>
                <a:latin typeface="Tahoma"/>
              </a:rPr>
              <a:t>(unformatted output on unit 51)</a:t>
            </a:r>
            <a:r>
              <a:rPr b="0" i="1" lang="ar-SA" sz="2000" spc="-1" strike="noStrike">
                <a:solidFill>
                  <a:srgbClr val="800000"/>
                </a:solidFill>
                <a:latin typeface="Tahoma"/>
                <a:ea typeface="Arial"/>
              </a:rPr>
              <a:t>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Aft>
                <a:spcPts val="1250"/>
              </a:spcAft>
              <a:buClr>
                <a:srgbClr val="6f89f7"/>
              </a:buClr>
              <a:buSzPct val="8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800000"/>
                </a:solidFill>
                <a:latin typeface="Tahoma"/>
              </a:rPr>
              <a:t>add a second scoring to get instead </a:t>
            </a:r>
            <a:r>
              <a:rPr b="0" i="1" lang="en-GB" sz="2000" spc="-1" strike="noStrike" u="sng">
                <a:solidFill>
                  <a:srgbClr val="800000"/>
                </a:solidFill>
                <a:uFillTx/>
                <a:latin typeface="Tahoma"/>
              </a:rPr>
              <a:t>current</a:t>
            </a:r>
            <a:r>
              <a:rPr b="0" i="1" lang="en-GB" sz="2000" spc="-1" strike="noStrike">
                <a:solidFill>
                  <a:srgbClr val="800000"/>
                </a:solidFill>
                <a:latin typeface="Tahoma"/>
              </a:rPr>
              <a:t>              (unformatted output on unit 52)</a:t>
            </a:r>
            <a:r>
              <a:rPr b="0" i="1" lang="ar-SA" sz="2000" spc="-1" strike="noStrike">
                <a:solidFill>
                  <a:srgbClr val="800000"/>
                </a:solidFill>
                <a:latin typeface="Tahoma"/>
                <a:ea typeface="Arial"/>
              </a:rPr>
              <a:t>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run 5 times 1000 primaries, process the data files, and plot the result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Note the difference between </a:t>
            </a:r>
            <a:r>
              <a:rPr b="0" lang="en-GB" sz="2000" spc="-1" strike="noStrike" u="sng">
                <a:solidFill>
                  <a:srgbClr val="40458c"/>
                </a:solidFill>
                <a:uFillTx/>
                <a:latin typeface="Tahoma"/>
              </a:rPr>
              <a:t>fluence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en-GB" sz="2000" spc="-1" strike="noStrike" u="sng">
                <a:solidFill>
                  <a:srgbClr val="40458c"/>
                </a:solidFill>
                <a:uFillTx/>
                <a:latin typeface="Tahoma"/>
              </a:rPr>
              <a:t>curr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Ex #5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3552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hange the number of primaries/cycles and look at statistical error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dd energy deposition scor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Aft>
                <a:spcPts val="1250"/>
              </a:spcAft>
              <a:buClr>
                <a:srgbClr val="6f89f7"/>
              </a:buClr>
              <a:buSzPct val="8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ahoma"/>
              </a:rPr>
              <a:t>for the three target segments using USRBIN by region</a:t>
            </a:r>
            <a:r>
              <a:rPr b="0" i="1" lang="en-US" sz="20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800000"/>
                </a:solidFill>
                <a:latin typeface="Tahoma"/>
              </a:rPr>
              <a:t> (formatted output on unit 41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heck that results are consistent with standard outpu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et energy deposition 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only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by electron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Aft>
                <a:spcPts val="1250"/>
              </a:spcAft>
              <a:buClr>
                <a:srgbClr val="6f89f7"/>
              </a:buClr>
              <a:buSzPct val="8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ahoma"/>
              </a:rPr>
              <a:t>for the three target segments using USRBIN by region</a:t>
            </a:r>
            <a:r>
              <a:rPr b="0" i="1" lang="en-US" sz="20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800000"/>
                </a:solidFill>
                <a:latin typeface="Tahoma"/>
              </a:rPr>
              <a:t> (formatted output on unit 42) and AUXSCO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silis Vlachoudis</dc:creator>
  <dc:description/>
  <dc:language>en-US</dc:language>
  <cp:lastModifiedBy>Giuseppe Battistoni</cp:lastModifiedBy>
  <dcterms:modified xsi:type="dcterms:W3CDTF">2009-01-13T12:13:20Z</dcterms:modified>
  <cp:revision>8</cp:revision>
  <dc:subject/>
  <dc:title>PowerPoint Presentation</dc:title>
</cp:coreProperties>
</file>