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6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BB6979-056D-4D7B-83CC-98140308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ABEB39-4702-484C-9AF8-D6D1D470AE7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EDE7A7-6FC0-41A1-9540-D53952CAB0C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9EAFD7-3C5B-41CC-9652-D2E7988CB43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754BB1-3C56-4987-8C22-3182FB87BC9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8C1F6-11F6-4FE3-A25A-2DEF3A96A1E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7D0444-0EAD-4A03-A30F-4B158D44779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5E846B-EEF4-4331-AF66-30188BB0B1A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EFF21D-BE86-4540-A015-FEB4A819FCF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6602A1-3F22-475D-AF2C-E93E3F236F1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EEE727-493E-4B2A-88C2-3F35D61B78E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077752-787E-41D1-AB74-A1F98F86131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A2EF26-349D-40AB-8675-9B5C34ED865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CB6386-8E98-4D5C-B309-CD7DFA62B17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B7A6B8-9951-4463-B131-32A6EE2559A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1B191E-D189-4F20-86B6-90F2169491C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DFCF4-A138-418A-A390-5436302668A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B0C153-37B5-4F24-9CF0-A31EDD74026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A0C6C0-446F-4DF3-8C74-D9E82297DD3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80F57-98E6-4C2A-BBD1-FBE42842EB7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3BCA1C-D648-4D15-87F5-A34E5ABF41E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F58ABF-CFB1-4924-9AF7-BB3FBCD1AA8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DF7FF-AEC4-4295-9352-AD30DA7639D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FBB216-10CF-438E-ACAC-C49A4005E82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9E5BAA-BE0E-436C-A80F-BE65161443E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EED4FB-FAA3-492B-B856-588840E6721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312F7F-1E7D-42C7-899A-EF87CA24B44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D55-9BCE-41B5-841A-48EFB894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55A-F05E-46FC-BC0D-8EE05BDC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ACC-66C6-4570-A82C-8AB10086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8B1-8742-4DC0-AF3E-6F0C541B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6268-8AE7-4449-9481-6FBEFF39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54A-3517-490A-9187-88BF0A0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7DE6-CF91-4154-85C7-89FC446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FD3D-CF7F-411F-BAD3-C29B2D8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1EC-9DD4-4633-9B24-19D4439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F566-A285-42B2-BC37-ACFB0C4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D8B-D1D1-4399-A601-643B92C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EF4-0C79-48B5-B4FC-4D98617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46E-1CE9-45D0-A047-27D0299D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62CE-FCD7-4E5D-AAE2-E3327A8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746-EE8C-4446-B13D-67D6309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C52-DC2F-48AC-A7BD-F766B8B0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C3B-6739-4FB5-8B9D-C3D2A36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49A6-180B-4348-AA6F-68E40AD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3455-8DBE-4F00-8D40-BE12D7D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3D78-14F3-4551-BB16-1147B482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E5BF-7BD3-472D-B0F6-BCF5C3CC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52A7-C798-4E02-BCC3-8340E51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FB1-C19A-4016-8B61-F7FEE90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80FB-B57E-4722-8837-E2C0826F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B818-52A8-46F5-85F5-2A15C3D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326E-4399-4784-A2DC-F4DAAEF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7CF7-FD7C-4357-AAF4-4DADBF7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017A-1413-431B-8C0E-EB42B15F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4A49-C152-4FE8-9A7A-D8F2C04D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B8C8-8C60-46C7-A50E-2CFE6188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D18-125D-472C-BA02-636FD54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7D1-3DE0-4D6E-8CA8-B32E543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3DB-7BBA-4221-8A34-C78E252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D6B-2CDB-403C-B996-D7242A7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ABD-AE2B-4460-A4B4-E936450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445-0C51-419D-B8FE-4E92C59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4000" y="6508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16B-AE5D-4EAD-94CF-8E6AB08BE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26920" y="655272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508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E820-D0E4-4BF0-9711-A4DE541E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FLUKA_Dim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26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9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4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637-8B13-488E-9DB8-0B2A969D3A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th FLUKA Course, Paris Sept.29-Oct.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D71-0FB7-4C07-AE8B-617E8252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101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4000" y="6508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EE4-E01F-4C17-A65A-E4ED2230D011}" type="datetime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26920" y="655272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7th FLUKA Course, Paris Sept.29-Oct.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933960" y="6508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E84-BE1D-4248-B3BA-68F924FB666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3" descr="FLUKA_Dim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26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97280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FLUKA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Estimators and Scoring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642760" y="4142880"/>
            <a:ext cx="511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5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ame,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WHAT(2)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= NEUTRON     to get neutron fluence 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ults are normalized to particles/cm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 per prim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IN </a:t>
            </a:r>
            <a:r>
              <a:rPr b="1" lang="en-GB" sz="32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84872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B51-C518-445A-AB69-5A54F5E5D4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ame,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WHAT(2)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= HAD-CHAR to get charged hadron fluence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ults are normalized to particles/cm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 per prim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IN </a:t>
            </a:r>
            <a:r>
              <a:rPr b="1" lang="en-GB" sz="32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930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8F1-8E48-4ADD-8D11-17E56A92D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USRBDX scores double differential (energy and angle) particle distributions across a boundary surface. Th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angle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is with respect to the normal of the surface. The distribution can be fluence or current, one-way or two-ways, according to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AT(1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8854"/>
                </a:solidFill>
                <a:latin typeface="Tahoma"/>
              </a:rPr>
              <a:t>*out from lea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USRBDX     99.0  HAD-CHAR      -50.    TARGS3   INAIR   329.87 Sp3ChH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USRBDX     10.0     0.001       40.                            &amp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core charged hadrons at the outer surface of the lead segment ( from TARGS3 to INAIR).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AT(1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=99 means: fluence, one-way only, log. intervals in energy. From 1 MeV to 10 GeV in 40 intervals, and one angular interval (default).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AT(6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is a normalization factor: setting it equal to the surface area provides results normalized to cm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-2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r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-1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. Output to unformatted unit 5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USRBDX     99.0  HAD-CHAR      -54.    TARGS2  TARGS3  78.5398 Sp2ChH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USRBDX     10.0     0.001       40.                        3.0 &amp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Score at the surface between 2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and 3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arget section, same as before but in 3 angular bin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DX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24E-AD0B-417E-9801-82F16A390C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volution of charged hadron spectra at the various surfaces 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ults are normalized to /GeV/cm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/sr per prim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DX </a:t>
            </a:r>
            <a:r>
              <a:rPr b="1" lang="en-GB" sz="32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4356000" y="1268280"/>
            <a:ext cx="647640" cy="57636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5003280" y="692280"/>
            <a:ext cx="505080" cy="720720"/>
          </a:xfrm>
          <a:prstGeom prst="line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508720" y="333360"/>
            <a:ext cx="3564000" cy="5806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his is true only if the surface area is explicitly give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480360" cy="44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B32-8CA4-413A-BED8-4721DACC6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ouble differential charged hadron spectra for different angles; 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ults are normalized to /GeV/cm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/sr per prim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DX </a:t>
            </a:r>
            <a:r>
              <a:rPr b="1" lang="en-GB" sz="32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480360" cy="45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1FF-C19C-4635-A1C7-784B51F653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9280" y="1271160"/>
            <a:ext cx="849636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alculates fluence as a function of energy by scoring track-length in a given volume. Results are normalized to /GeV/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/primar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48854"/>
                </a:solidFill>
                <a:latin typeface="Tahoma"/>
              </a:rPr>
              <a:t>*                      log       neutrons     outp. unit           region      volume       # bi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48854"/>
                </a:solidFill>
                <a:latin typeface="Tahoma"/>
              </a:rPr>
              <a:t>*                   Emax            Emi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TRACK   -1.0   NEUTRON      -55.    TARGS3  628.31      40. TrCh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TRACK   10.0     0.001                                     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remember: USRBDX scores on a </a:t>
            </a:r>
            <a:r>
              <a:rPr b="0" i="1" lang="en-GB" sz="2000" spc="-1" strike="noStrike">
                <a:solidFill>
                  <a:srgbClr val="448854"/>
                </a:solidFill>
                <a:latin typeface="Tahoma"/>
              </a:rPr>
              <a:t>surface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, while USRBIN scores fluence in </a:t>
            </a:r>
            <a:r>
              <a:rPr b="0" i="1" lang="en-GB" sz="2000" spc="-1" strike="noStrike">
                <a:solidFill>
                  <a:srgbClr val="448854"/>
                </a:solidFill>
                <a:latin typeface="Tahoma"/>
              </a:rPr>
              <a:t>volumes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 and gives no differential inform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TRAC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AEA-8185-42F9-823D-E0D7B8FF79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91080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s a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double-differential particle yiel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around an extended or a point targe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Energy-like” quant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Angle-like” quantities (in degrees or radian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YIEL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394480" cy="88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684360" y="3537000"/>
            <a:ext cx="820872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2FA-D72B-4039-9342-DD54D7E2E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280" y="1414080"/>
            <a:ext cx="849636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ile option USRBDX calculates angular distributions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WITH RESPECT TO THE NORM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o the boundary at the point of crossing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USRYIEL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's distributions are calculated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WITH RESPECT TO THE BEAM DIRECTI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or a different direction specified with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DUM=BEAMDE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8854"/>
                </a:solidFill>
                <a:latin typeface="Tahoma"/>
              </a:rPr>
              <a:t>*    124 = 24 + 1 * 100 =&gt; polar angle (in degrees) and kinetic energ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8854"/>
                </a:solidFill>
                <a:latin typeface="Tahoma"/>
              </a:rPr>
              <a:t>*                                                   outp. unit         Reg1          Reg2        Nor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8854"/>
                </a:solidFill>
                <a:latin typeface="Tahoma"/>
              </a:rPr>
              <a:t>*                       Amax            Amin   # A bins        Emax          Emin    dbl.differentia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YIELD    124.0   PIONS+-    -57.  TARGS3    INAIR     1.0 YieAng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YIELD    180.0       0.0     18.    10.0      0.0     3.0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nly one interval is possible for the second variable, BUT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results are normalized as Double Differential: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(in this case, particles/GeV/s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YIEL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946-DC50-4744-929E-7CBD7F0C7B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ion angular distribu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YIELD -&gt;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481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4AE-D13F-4889-A27B-9500880A34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FILTERS : AUXSCOR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8496360" cy="56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re is the possibility to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filter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estimators, restricting the scoring to a selected subset of  partic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or instance: USRBIN energy deposition by muons 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11.0     </a:t>
            </a:r>
            <a:r>
              <a:rPr b="0" lang="en-US" sz="1600" spc="-1" strike="noStrike">
                <a:solidFill>
                  <a:srgbClr val="448854"/>
                </a:solidFill>
                <a:latin typeface="Lucida Console"/>
              </a:rPr>
              <a:t>ENERGY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-40.0      10.0           15.0 TargEn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 0.0                -5.0     100.0          200.0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UXSCORE USRBIN      MUONS              TargEne TargEn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ssign the “muons” filter to the USRBIN estimator named TargE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other example: score the yield of 56-Iron ions (very useful: there is no separate name for each ion specie, except light ones. HEAVYION score all isotopes heavier than alpha’s together!)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YIELD    124.0  ALL-PART   -87.    TARGS3     INAIR      1.0 Fe5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YIELD    180.0       0.0    18.      10.0       0.0       3.0  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UXSCORE USRYIELD -5602600.             Fe56       Fe5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requested ion is coded in what(2) according to its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and (optionally) isomeric state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hat(2) = - (100*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+ 100000*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+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*100000000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ith 0==all , i.e. 2600 == all Iron isotop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838-C123-4D7A-9891-E40A010146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9640" y="1055160"/>
            <a:ext cx="8353440" cy="53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t is often said that Monte Carlo (MC) is a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“mathematical experiment”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C equivalent of the result of a real experiment (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i.e.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of a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measuremen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 is called an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estimato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Just as a real measurement, an estimator is obtained by sampling from a statistical distribution and has a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statistical error (and in general also a systematic on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re are often several different techniques to measure the same physical quantity: in the same way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the same quantity can be calculated using different kinds of estimator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LUKA offer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numerous different estimator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i.e.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directly from the input file the users can request scoring the respective quantities they are interested i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s the latter is implemented in a very complete way, users are strongly encouraged to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preferably use the built-in estimators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ith respect to user-defined sco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or additional requirement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FLUKA user routine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are provid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FLUKA Scoring &amp; Results - Estimator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C15-6010-4AB4-BF1B-89B6394EA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96360" cy="56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d fluences are often folded with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er-provided response function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to obtain dose equivalent, material activation, 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can be done off-line or (at some cost in CPU but with higher accuracy) on line at the time of scor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mmand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ERWEIG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6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ith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AT(3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&gt; 0. makes all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fluences and yield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scored by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USRBI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 USRBDX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USRTRACK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USRYIEL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USRCOLL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o be multiplied by a user-written function </a:t>
            </a: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FLUSCW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at scoring tim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56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hen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is used to score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tracklengt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6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ith WHAT(6) &gt; 0. makes all energy and star densities scored by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SCORE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be multiplied by a user-written function </a:t>
            </a: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COMSCW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at scoring time,                                                                                            when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is used to score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dose or sta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or details concerning these conversions please refer to th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lecture covering the user routi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User Conversions/Weighin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DE4-7C1C-4EE8-B5B7-F79F86CDDD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Built-in  Conversions and AUXSCOR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280" y="9075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or some quantities, there is the possibility to get built-in conversions, without the need for user routines: done with generalized particl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DOSE         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(obvious..) in GeV/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SI1MEVN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Silicon 1 MeV-neutron equivalent flue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HADGT20M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Hadrons fluence with energy &gt; 20 MeV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DOSE-EQ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Dose Equivalent (pSv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et of conversion coefficients used to calculate  DOSE-EQ can be selected by the user among a list (see manual) with AUXSCO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11.0    DOSE-EQ    -40.0      10.0           15.0 TargDEQ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 0.0                -5.0     100.0          200.0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UXSCORE USRBIN                       TargDEQ TargDEQ        AMB7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s equivalent dose by folding the particle fluences with the “AMB74” conversion coeffici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WARNING : no coefficients available for heavy ion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0EA-2D14-4C2E-B5B4-F917A6223C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 analyze the results of the different scoring options, several programs are availab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ost powerful ones are kept in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$FLUPRO/flutil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y assume that the </a:t>
            </a:r>
            <a:r>
              <a:rPr b="1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estimator files are unformatte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and can calculate standard deviations and integral values over many cycl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tsuw.f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analyz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TRACK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COLL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out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xsuw.f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analyz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BDX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out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ysuw.f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analyz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YIELD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out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bsuw.f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analyz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out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usrsuw.f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analyze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RESNUCLEi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out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ach of these programs (except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bsuw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 produces three fil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 text file with extension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_</a:t>
            </a:r>
            <a:r>
              <a:rPr b="0" i="1" lang="en-GB" sz="1800" spc="-1" strike="noStrike">
                <a:solidFill>
                  <a:srgbClr val="800000"/>
                </a:solidFill>
                <a:latin typeface="Tahoma"/>
              </a:rPr>
              <a:t>sum.li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which contains averages, standard deviations,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cumulative (integral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quantiti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n unformatted file which can replace the </a:t>
            </a:r>
            <a:r>
              <a:rPr b="0" i="1" lang="en-GB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unformatted estimator files and can be used for further calcul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 text file with extension </a:t>
            </a:r>
            <a:r>
              <a:rPr b="0" i="1" lang="en-GB" sz="1800" spc="-1" strike="noStrike">
                <a:solidFill>
                  <a:srgbClr val="800000"/>
                </a:solidFill>
                <a:latin typeface="Tahoma"/>
              </a:rPr>
              <a:t>_tab.li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be easily readout by graphic c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impler programs are also provided in the manual, as guides for us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ho would like to write their own analysis program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Standard Postprocessing Progra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59D-DAF6-45E8-B993-D355D5E6A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280" y="91080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xample of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tab.lis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for usrbd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 Detector n: 1 Sp2ChH (integrated over solid angl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 N. of energy intervals 4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1.000E-03 1.259E-03 1.343E-03 4.688E+0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 double differential distributio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 number of solid angle intervals 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 0.000E+00 2.094E+00 2.094E+00 4.189E+00 4.189E+00 6.283E+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48854"/>
                </a:solidFill>
                <a:latin typeface="Lucida Console"/>
              </a:rPr>
              <a:t>#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1.000E-03 1.259E-03 4.337E-04 5.493E+01 2.077E-04 9.900E+01 0.000E+00 0.000E+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1.259E-03 1.585E-03 2.360E-04 6.883E+01 0.000E+00 0.000E+00 5.481E-04 9.900E+0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First comes the angle-integrated quantity then the limits of the angular bins, then the double differential distribu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In 1st ang. bin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In 2nd ang. bin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In 3rd ang. bin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min   Emax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result    error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result    error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 result    error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|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Standard Postprocessing Progra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5B3-EFC9-4D61-A6F8-C5D85135CF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5761080" cy="615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280" y="904680"/>
            <a:ext cx="820908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term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 Flux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s often used, sloppily, to indicate a vaguely defined quantity visualized as “a flow of particles through a surface”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ut Flux is defined by ICRU as dN/dt (particles per unit time). [Where? For which purpose? It looks like a very useless quantity, and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is not a “flow”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hat we really need is a quantity that is proportional to effects such as induced activity, dose, radiation damage. These effects are proportional to the </a:t>
            </a:r>
            <a:r>
              <a:rPr b="0" i="1" lang="en-GB" sz="1800" spc="-1" strike="noStrike">
                <a:solidFill>
                  <a:srgbClr val="cc0000"/>
                </a:solidFill>
                <a:latin typeface="Tahoma"/>
              </a:rPr>
              <a:t>number of interaction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in a given volume: a “flow of particles” is not what we need!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number of interactions in a volume is equal to the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number of mean free path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ravelled by the particles in that volume: therefore it is proportional to the total particle path lengt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ahoma"/>
              </a:rPr>
              <a:t>. The quantit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s called </a:t>
            </a: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Flu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although its “official” definition is                   with </a:t>
            </a:r>
            <a:r>
              <a:rPr b="0" i="1" lang="en-GB" sz="18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 being the number of particle crossing an element of surface </a:t>
            </a:r>
            <a:r>
              <a:rPr b="0" i="1" lang="en-GB" sz="1800" spc="-1" strike="noStrike">
                <a:solidFill>
                  <a:srgbClr val="990000"/>
                </a:solidFill>
                <a:latin typeface="Tahoma"/>
              </a:rPr>
              <a:t>d</a:t>
            </a:r>
            <a:r>
              <a:rPr b="0" i="1" lang="el-GR" sz="1800" spc="-1" strike="noStrike">
                <a:solidFill>
                  <a:srgbClr val="990000"/>
                </a:solidFill>
                <a:latin typeface="Tahoma"/>
                <a:ea typeface="Tahoma"/>
              </a:rPr>
              <a:t>α</a:t>
            </a:r>
            <a:r>
              <a:rPr b="0" i="1" lang="en-GB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PERPENDICULAR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o the particle direction. This definition is equivalent but hides its actual physical meaning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378320" y="5432400"/>
            <a:ext cx="1079640" cy="300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Flux/Fluence: A Common Confu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083-BCA3-4F1D-A754-15199A80BA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125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luence is a point quantity, a function of position (like temperatur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125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But we are generally interested 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s average over a volume (total track length density divided by the volume: USRTRACK, USRBIN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s average over a surface (USRBDX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How can a track length be calculated on a surface? Imagine the surface to have an infinitesimal thickness </a:t>
            </a:r>
            <a:r>
              <a:rPr b="0" i="1" lang="en-GB" sz="2000" spc="-1" strike="noStrike">
                <a:solidFill>
                  <a:srgbClr val="cc0000"/>
                </a:solidFill>
                <a:latin typeface="Tahoma"/>
              </a:rPr>
              <a:t>dt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 particle incident with an angle</a:t>
            </a:r>
            <a:r>
              <a:rPr b="0" i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cc0000"/>
                </a:solidFill>
                <a:latin typeface="Tahoma"/>
                <a:ea typeface="Tahoma"/>
              </a:rPr>
              <a:t>θ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with respect to the normal to the surface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  <a:ea typeface="Tahoma"/>
              </a:rPr>
              <a:t>will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travel a segment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  <a:ea typeface="Tahoma"/>
              </a:rPr>
              <a:t> </a:t>
            </a:r>
            <a:r>
              <a:rPr b="0" i="1" lang="en-GB" sz="2000" spc="-1" strike="noStrike">
                <a:solidFill>
                  <a:srgbClr val="cc0000"/>
                </a:solidFill>
                <a:latin typeface="Tahoma"/>
              </a:rPr>
              <a:t>dt/cos </a:t>
            </a:r>
            <a:r>
              <a:rPr b="0" i="1" lang="el-GR" sz="2000" spc="-1" strike="noStrike">
                <a:solidFill>
                  <a:srgbClr val="cc0000"/>
                </a:solidFill>
                <a:latin typeface="Tahoma"/>
                <a:ea typeface="Tahoma"/>
              </a:rPr>
              <a:t>θ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Therefore, we can calculate an average surface fluence by adding </a:t>
            </a:r>
            <a:r>
              <a:rPr b="0" i="1" lang="en-GB" sz="2000" spc="-1" strike="noStrike">
                <a:solidFill>
                  <a:srgbClr val="cc0000"/>
                </a:solidFill>
                <a:latin typeface="Tahoma"/>
              </a:rPr>
              <a:t>dt/cos </a:t>
            </a:r>
            <a:r>
              <a:rPr b="0" i="1" lang="el-GR" sz="2000" spc="-1" strike="noStrike">
                <a:solidFill>
                  <a:srgbClr val="cc0000"/>
                </a:solidFill>
                <a:latin typeface="Tahoma"/>
                <a:ea typeface="Tahoma"/>
              </a:rPr>
              <a:t>θ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for each particle crossing the surface, and dividing by the volume 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S dt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(</a:t>
            </a:r>
            <a:r>
              <a:rPr b="0" i="1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 being the area of the surf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luence i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DIFFERENT from CURRENT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cross a given surface: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I=dN/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s independent from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NO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interaction rate on a given surface i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proportional to </a:t>
            </a:r>
            <a:r>
              <a:rPr b="1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, not to 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TE: If the path-length is measured in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 units of mean free path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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this expression leads naturally to th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density of collisions </a:t>
            </a:r>
            <a:r>
              <a:rPr b="1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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Flux/Fluence: A Common Confu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F6E5-18A8-43BC-B574-57D2259611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1055160"/>
            <a:ext cx="835344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dA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s the surface of the ICRU sphere of cross-sectional area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da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then of course is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dA=4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t is known that for a convex body the mean chord length is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L=4V/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refore, according to the ICRU definition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    is the total chord length of the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particles crossing the sphere</a:t>
            </a:r>
            <a:br>
              <a:rPr sz="2000"/>
            </a:br>
            <a:r>
              <a:rPr b="0" i="1" lang="en-GB" sz="1600" spc="-1" strike="noStrike">
                <a:solidFill>
                  <a:srgbClr val="40458c"/>
                </a:solidFill>
                <a:latin typeface="Tahoma"/>
              </a:rPr>
              <a:t>(Proof from the book of I. Lux and L. Koblinger, p. 24. A different demonstration can be found in A.B. Chilton, Health Phys. 34, 716 (1978) and 36, 638 (1979) 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But although the two definitions are equivalent, that of ICRU hides the fact that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Fluence is a measure of the concentration of particle paths in an infinitesimal element of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</a:rPr>
              <a:t>volume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 around a space poi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more </a:t>
            </a:r>
            <a:r>
              <a:rPr b="0" i="1" lang="en-GB" sz="2000" spc="-1" strike="noStrike">
                <a:solidFill>
                  <a:srgbClr val="990000"/>
                </a:solidFill>
                <a:latin typeface="Tahoma"/>
              </a:rPr>
              <a:t>cm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ravelled in that volume, th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more are the interaction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! (Or the potential interactions, if in vacuum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4544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0066"/>
                </a:solidFill>
                <a:latin typeface="Tahoma"/>
              </a:rPr>
              <a:t>Formal Equivalence of Fluence Definitions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2374920" y="2557440"/>
            <a:ext cx="4392720" cy="717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955800" y="3319560"/>
            <a:ext cx="672840" cy="35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834-C58B-4398-847E-847D5D9C84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9640" y="1055160"/>
            <a:ext cx="835344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everal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pre-defined estimator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can be activated in FLUK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ne usually refers to these estimators as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“scoring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capabil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Users have also the possibility to build their own scoring through user routines, HOWEV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Built-in scor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covers most of the </a:t>
            </a:r>
            <a:r>
              <a:rPr b="1" lang="en-GB" sz="1800" spc="-1" strike="noStrike">
                <a:solidFill>
                  <a:srgbClr val="448854"/>
                </a:solidFill>
                <a:latin typeface="Tahoma"/>
              </a:rPr>
              <a:t>common nee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Built-in scor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has been </a:t>
            </a:r>
            <a:r>
              <a:rPr b="1" lang="en-GB" sz="1800" spc="-1" strike="noStrike">
                <a:solidFill>
                  <a:srgbClr val="448854"/>
                </a:solidFill>
                <a:latin typeface="Tahoma"/>
              </a:rPr>
              <a:t>extensively tes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Built-in scor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akes BIASING </a:t>
            </a:r>
            <a:r>
              <a:rPr b="1" lang="en-GB" sz="1800" spc="-1" strike="noStrike">
                <a:solidFill>
                  <a:srgbClr val="448854"/>
                </a:solidFill>
                <a:latin typeface="Tahoma"/>
              </a:rPr>
              <a:t>weights automatically into accou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Built-in scor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has </a:t>
            </a:r>
            <a:r>
              <a:rPr b="1" lang="en-GB" sz="1800" spc="-1" strike="noStrike">
                <a:solidFill>
                  <a:srgbClr val="448854"/>
                </a:solidFill>
                <a:latin typeface="Tahoma"/>
              </a:rPr>
              <a:t>refined algorithm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for track subdivis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Built-in scor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comes with </a:t>
            </a:r>
            <a:r>
              <a:rPr b="1" lang="en-GB" sz="1800" spc="-1" strike="noStrike">
                <a:solidFill>
                  <a:srgbClr val="448854"/>
                </a:solidFill>
                <a:latin typeface="Tahoma"/>
              </a:rPr>
              <a:t>utility programs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that allow to evaluate statistical erro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ing can be geometry dependent AND/OR geometry independent FLUKA can scor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article fluences, current, track length, energy spectra, Z spectra, energy deposition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ither integrated over th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“run”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with proper normalization, OR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event-by ev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tandard scoring can be weighted by means of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imple user routi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Built-In and User Sco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D91-EEBE-42C2-A357-21A90A315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85536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TRACK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COLL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 average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d</a:t>
            </a: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/dE (differential fluence)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f a given type or family of particles in a given reg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BDX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average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d</a:t>
            </a:r>
            <a:r>
              <a:rPr b="0" lang="en-GB" sz="2000" spc="-1" strike="noStrike" baseline="30000">
                <a:solidFill>
                  <a:srgbClr val="008000"/>
                </a:solidFill>
                <a:latin typeface="Tahoma"/>
              </a:rPr>
              <a:t>2</a:t>
            </a: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/dEd</a:t>
            </a: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 (double-differential fluence or current)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f a given type or family of particles on a given surf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the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spatial distributio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f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energy deposite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or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total fluence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or star density, or momentum transfer) in a regular mesh (cylindrical or Cartesian) described by the us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YIEL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a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double differential yiel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f particles escaping from a surface. The distribution can be with respect to energy and angle, but also other more “exotic” quant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SCORE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energy deposite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or star density) in all reg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output of SCORE will be printed in th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main (standard) outpu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written on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logical output unit LUNOU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pre-defined as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11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by defaul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ll other detectors write their results into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logical output units assigned by the user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the unit numbers must be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20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Related Scoring Command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7DA-B60A-410E-9639-4FA7A902C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NUCLEi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residual nuclei in a given reg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ore details are given in the respective lecture on activ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DETEC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cores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energy deposition in coincidence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r anti-coincidence with a trigger, separately for each “event" (primary histor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EVENT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s lik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but prints the binning output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after each even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nstead of an average over histo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OTPR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ets the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storage precisio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single or double) and assigns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rotations/translation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for a given user-defined binning (USRBIN or EVENTBI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ore details will be given in the lecture about the use of </a:t>
            </a:r>
            <a:r>
              <a:rPr b="0" lang="en-GB" sz="1800" spc="-1" strike="noStrike">
                <a:solidFill>
                  <a:srgbClr val="800000"/>
                </a:solidFill>
                <a:latin typeface="Tahoma"/>
              </a:rPr>
              <a:t>LATT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TCQUENCH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sets scoring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time cut-offs and/or Birks quenching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parameters for binnings (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R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EVENT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 indicated by the us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USERDUMP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defines the events to be written onto a “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collision tape” fi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AUXSCORE 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efines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 filter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conversion coeffici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More “Special” Sco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A8F-C8E6-4114-A7F1-F06742512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8353440" cy="549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respective Fluka output consists of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main (standard) outpu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written on logical output unit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LUNOU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predefined as 11 by default)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[.out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for details refer to the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lecture explaining the FLUKA outpu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 file with the last random number seeds, unit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LUNRA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2 by default)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[ran*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 file of error messages, unit </a:t>
            </a:r>
            <a:r>
              <a:rPr b="0" lang="en-GB" sz="2000" spc="-1" strike="noStrike">
                <a:solidFill>
                  <a:srgbClr val="448854"/>
                </a:solidFill>
                <a:latin typeface="Tahoma"/>
              </a:rPr>
              <a:t>LUNERR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15 by default)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[.er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y number (including zero) of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estimator output files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. Their logical unit number is defined by the user 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[*fort_xx*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available range of logical output numbers is: 21-9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Generally, the user can choose between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formatted and unformatte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binary) scoring (negative or positive sig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ossibl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additional output generated by the user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n any user routi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The FLUKA Output Fil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F2C-A7D5-4237-AA5B-E8676C093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20200" y="112824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ylinder along Z, filled by water-aluminum-lead and surrounded by A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R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command allows to </a:t>
            </a:r>
            <a:r>
              <a:rPr b="0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superimpose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to the geometry a </a:t>
            </a: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3-D grid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, either cartesian or R-Z-</a:t>
            </a:r>
            <a:r>
              <a:rPr b="0" lang="el-GR" sz="2000" spc="-1" strike="noStrike">
                <a:solidFill>
                  <a:srgbClr val="40458c"/>
                </a:solidFill>
                <a:latin typeface="Tahoma"/>
                <a:ea typeface="Tahoma"/>
              </a:rPr>
              <a:t>Φ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n this grid, one can score energy deposition, particle fluence (total or by particle type), as well as the density of interac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re is an equivalent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EVENTBIN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command, that outputs the same quantities event-by-ev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using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</a:rPr>
              <a:t>USERWEIG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the results can be weighted by the comscw.f or fluscw.f func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3168720" cy="190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Extending ex_4 with Scoring: ex_5.in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801680" y="2135160"/>
            <a:ext cx="40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Evolution of ex 4.inp: </a:t>
            </a:r>
            <a:br>
              <a:rPr sz="2000"/>
            </a:b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added new material and sco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D39-B016-4F87-9733-684B3A0D6F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** energy deposi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11.0     </a:t>
            </a:r>
            <a:r>
              <a:rPr b="0" lang="en-US" sz="1600" spc="-1" strike="noStrike">
                <a:solidFill>
                  <a:srgbClr val="448854"/>
                </a:solidFill>
                <a:latin typeface="Lucida Console"/>
              </a:rPr>
              <a:t>ENERGY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-40.0      10.0           15.0 TargEn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 0.0                -5.0     100.0          200.0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is an R-Z-</a:t>
            </a:r>
            <a:r>
              <a:rPr b="0" lang="el-GR" sz="2000" spc="-1" strike="noStrike">
                <a:solidFill>
                  <a:srgbClr val="40458c"/>
                </a:solidFill>
                <a:latin typeface="Tahoma"/>
                <a:ea typeface="Tahoma"/>
              </a:rPr>
              <a:t>Φ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binning (what(1)=11), scoring energy deposition (generalized particle ENERGY, or 208), writing the unformatted output on unit 40, spanning 0&lt;R&lt;10 in 100 bins, 0&lt;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&lt;2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n 1 bin (default), 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-5&lt;z&lt;15 in 200 bin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** neutron flue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*                   R-Z   EM energy  output unit        Rmax    axis Y     Zma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48854"/>
                </a:solidFill>
                <a:latin typeface="Tahoma"/>
              </a:rPr>
              <a:t>*                 Rmin         axis X           Zmin    # R-bins # Phi-bins # Z-bi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11.0   NEUTRON     -40.0      10.0           15.0 TargNe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USRBIN      0.0                -5.0     100.0          200.0 &amp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is a R-Z-</a:t>
            </a:r>
            <a:r>
              <a:rPr b="0" lang="el-GR" sz="2000" spc="-1" strike="noStrike">
                <a:solidFill>
                  <a:srgbClr val="40458c"/>
                </a:solidFill>
                <a:latin typeface="Tahoma"/>
                <a:ea typeface="Tahoma"/>
              </a:rPr>
              <a:t>Φ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binning (what(1)=11), scoring neutron fluence, writing the unformatted output on unit 40, spanning 0&lt;R&lt;10 in 100 bins, 0&lt;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&lt;2</a:t>
            </a:r>
            <a:r>
              <a:rPr b="0" lang="en-GB" sz="20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in 1 bin (default), -5&lt;z&lt;15 in 200 bin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I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FD9-02F2-40D8-BB82-F74D70AC11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0200" y="1055160"/>
            <a:ext cx="849636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HAT(2) </a:t>
            </a:r>
            <a:r>
              <a:rPr b="0" lang="en-GB" sz="2000" spc="-1" strike="noStrike">
                <a:solidFill>
                  <a:srgbClr val="40458c"/>
                </a:solidFill>
                <a:latin typeface="Comic Sans MS"/>
              </a:rPr>
              <a:t>= ENERGY :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nergy deposition from a 3.5 GeV proton beam hitting at [0.,0.,0.] directed along z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results are normalized to GeV/cm</a:t>
            </a:r>
            <a:r>
              <a:rPr b="0" lang="en-GB" sz="20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 per prim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47280" y="30456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USRBIN </a:t>
            </a:r>
            <a:r>
              <a:rPr b="1" lang="en-GB" sz="32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 The Resul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55640" y="2333520"/>
            <a:ext cx="7848720" cy="375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2FD-DC11-415B-BC23-6A89E9B5F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25T17:57:39Z</dcterms:modified>
  <cp:revision>879</cp:revision>
  <dc:subject/>
  <dc:title>PowerPoint Presentation</dc:title>
</cp:coreProperties>
</file>